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C31C-101F-4CFF-A799-7883A2866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8ECA-4C07-486E-B31F-5BD8CB405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A883-811A-4838-B527-DBB1021D5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DF15-6F87-42D7-929B-5EA110EAD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5A7A-B8B5-4B87-B9D9-CD367409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E6DA-303E-437A-B911-962306FFB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CE7E-ABFA-4CB8-927C-498F177AF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22FF-4E9D-43AD-B1EF-8A3CEAF0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5168-B9E0-4D0A-BABB-43918B46E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606F-D78D-4C7E-B3DC-25A3EAD3C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8123-AEF7-479A-8F5E-3CB71692E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3EDD-848A-400F-961C-574E3A45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1E27-CD05-4069-8D2D-6A088CB4B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DCEF-D50D-4E12-9992-9FE487423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87E4-6EB3-4621-B49B-85ED2CA46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9223-312A-41C3-9F2E-FD167E7D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D3B7-99EA-45F0-A914-07659DDEC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D5EF-FD0D-4D63-862F-AE0ECE322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3125-1841-49E7-A6D3-C7016B4E0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4D89-D1C1-4B08-BD79-01BFB056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F8E8-8410-4E90-9687-5E00731FE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25AE-EE97-44BA-8E60-CEA6E7F1E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88DE-5132-4144-A890-0642E673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1430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 REIGNING KING OR QUEEN OF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TRU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INITIATED THE MARSHALL PLAN TO REBUILD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3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RESS STARRED IN "CALAMITY JANE" AND "THE MAN WHO KNEW TOO MU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980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DIMAG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STAR BECAME KNOWN AS "MR. COFFEE" AFTER HE MADE SEVERAL ADS FOR THAT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SCONSIN SENATOR BECAME THE FACE OF FEARS OF WIDESPREAD COMMUNIST SUBVER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5096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TO RESIGN FROM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X SYMBOL STARRED IN "THE SEVEN YEAR I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09480" y="4876920"/>
            <a:ext cx="7925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US  AND  ETHEL  ROSEN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PLE WAS ARRESTED, TRIED, AND EXECUTED FOR SELLING ATOMIC SECRETS TO THE U.S.S.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INITIATED THE MARSHALL PLAN TO REBUILD EU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ON  BR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TANLEY KOWALSKI IN THE FILM "A STREETCAR NAMED DES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ELIZABETH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 REIGNING KING OR QUEEN OF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3434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MENTIONED  IN  THE  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VERSE  OF  "WE  DIDN'T  START  THE  FI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RESS STARRED IN "CALAMITY JANE" AND "THE MAN WHO KNEW TOO MU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STAR BECAME KNOWN AS "MR. COFFEE" AFTER HE MADE SEVERAL ADS FOR THAT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SCONSIN SENATOR BECAME THE FACE OF FEARS OF WIDESPREAD COMMUNIST SUBVER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TO RESIGN FROM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X SYMBOL STARRED IN "THE SEVEN YEAR I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PLE WAS ARRESTED, TRIED, AND EXECUTED FOR SELLING ATOMIC SECRETS TO THE U.S.S.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TANLEY KOWALSKI IN THE FILM "A STREETCAR NAMED DES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9T01:51:14Z</dcterms:created>
  <dc:creator>Jennifer Budzinski</dc:creator>
  <dc:description/>
  <dc:language>en-US</dc:language>
  <cp:lastModifiedBy>Erich Friedman</cp:lastModifiedBy>
  <dcterms:modified xsi:type="dcterms:W3CDTF">2020-08-24T23:14:29Z</dcterms:modified>
  <cp:revision>385</cp:revision>
  <dc:subject/>
  <dc:title>Slide 1</dc:title>
</cp:coreProperties>
</file>