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FF9C-7E22-4D5E-B29A-20F21CA82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EAD2-090E-4432-AABC-CE028F32A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A6B0-4B30-4D47-A03F-404D759E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859-AD2B-4CA3-840C-1888345F9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A41B-F007-4443-A8DC-E096B9E7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CFEC-C884-4D80-AC78-B3F28AF54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AC7-358C-4F87-8576-4DAA240D9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146B-11B6-46B8-9ECA-FC11870F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43B-1E4E-451C-B852-4753BF026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B2BF-E2B2-47D9-B99D-AB6EB210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40AA-BEB0-40E1-86ED-2D4D0F567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92CB-E04F-45F4-ACA0-F7C916FD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D68-76F8-4422-AB1C-A8B90929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FBD0-7D0C-49CF-B049-BFDB2F27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22BA-EF7C-4E6E-82FE-184D8CE2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9D35-9A43-489E-995C-70E48491E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669F-50F4-48D2-8C85-AD32093B1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517F-101B-4AF9-8B3E-C6E7E475E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33D8-6522-4EA1-8F9C-9919EC1F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8332-9582-425F-9AB9-EE91072A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89F3-E7EE-4970-A360-AD914B9B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3170-5B90-4008-97C6-F727AA8B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6E9D-30AC-402F-A704-1BA62A6C9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1430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TR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980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5096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9250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AND  ETHEL  ROS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INITIATED THE MARSHALL PLAN TO REBUILD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 REIGNING KING OR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3434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MENTIONED  IN  THE  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VERSE  OF  "WE  DIDN'T  START  THE  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RESS STARRED IN "CALAMITY JANE" AND "THE MAN WHO KNEW TOO MU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STAR BECAME KNOWN AS "MR. COFFEE" AFTER HE MADE SEVERAL ADS FOR T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 BECAME THE FACE OF FEARS OF WIDESPREAD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RESIGN FROM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X SYMBOL STARRED IN "THE SEVEN YEAR 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PLE WAS ARRESTED, TRIED, AND EXECUTED FOR SELLING ATOMIC SECRETS TO THE U.S.S.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TANLEY KOWALSKI IN THE FILM "A STREETCAR NAMED DES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9T01:51:14Z</dcterms:created>
  <dc:creator>Jennifer Budzinski</dc:creator>
  <dc:description/>
  <dc:language>en-US</dc:language>
  <cp:lastModifiedBy>Erich Friedman</cp:lastModifiedBy>
  <dcterms:modified xsi:type="dcterms:W3CDTF">2020-08-24T23:14:29Z</dcterms:modified>
  <cp:revision>385</cp:revision>
  <dc:subject/>
  <dc:title>Slide 1</dc:title>
</cp:coreProperties>
</file>