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2432-CC5B-476C-A1A1-E8FED894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163-F16E-4B7A-9F6A-B2049E60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0CA1-F796-425E-8CD0-6A0F16BE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5DA-7B26-4DF9-ADB7-7D46CED1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2B6-F432-4A37-ABFC-9D243D84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D28-E1A9-4BA0-B7A2-E45E7A7A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9C0D-D6C0-4CD5-91BB-48989D70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B39-BC2C-4626-9B27-C73A7F19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16E-53CD-43A1-B31E-1E8518C9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1195-0984-4A6E-955F-AB91AEB8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71A-65B6-49FE-9111-DE1FC3B3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24A-B9E6-44D0-A8AD-9E1CC7D4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0BB-6549-45E1-BB67-BB0236F5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14B-1E8A-4011-88EE-66A26F20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E13-71AC-4F42-B69B-D315A230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7D9-0A03-4E9D-B7E5-E41F2098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A925-E521-403B-A5B2-A06D15D5C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805D-DD30-4179-B97B-37370F6D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900-BAE7-4177-98AA-94AC856E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E55F-39E2-4FA8-89F8-4597A66B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35A-466C-479F-AB45-49C9ABD9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C37C-18B9-4993-844E-478712B6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9C7-7D0F-4199-9D97-D139AA15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1430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TR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5096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AND  ETHEL  ROS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3434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MENTIONED  IN  THE  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VERSE  OF  "WE  DIDN'T  START  THE  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01:51:14Z</dcterms:created>
  <dc:creator>Jennifer Budzinski</dc:creator>
  <dc:description/>
  <dc:language>en-US</dc:language>
  <cp:lastModifiedBy>Erich Friedman</cp:lastModifiedBy>
  <dcterms:modified xsi:type="dcterms:W3CDTF">2020-08-24T23:14:29Z</dcterms:modified>
  <cp:revision>385</cp:revision>
  <dc:subject/>
  <dc:title>Slide 1</dc:title>
</cp:coreProperties>
</file>