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422A-9DFC-45F1-820E-0742428F4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D85B-15B4-473E-B149-88EF9853F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8BD3-DE34-4C50-AEE6-DA9644447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D3BB-1A10-41CA-BB73-B4A15E72B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1173-5785-439F-9B2F-82D1A251F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D54E-FA64-4667-AB38-D52B60935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401E-B1C4-42C0-897A-7B3D2E421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FBA1-DF25-492D-9BC1-48E08DDBE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DF54-E392-4A20-AC3A-B5935153B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2752-03B8-4E24-8314-ECDEE85C8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E439-93CC-4412-BE38-FDA3D6D12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1359-3676-4E61-9EBA-B8365892F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961E-5D9E-49DE-9EFD-E8B235317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1E6C-9704-4192-A0A1-8FB543B98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BACB-98FB-4C09-9E31-42128E052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65E8-9490-4BC9-8650-990652ADD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C282-5F62-4AE2-A6A1-BC0CBBBE2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7B4E-BCE3-4BC0-AF03-FFE6C844D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1DB8-BBCC-45AB-9DB6-9AF4EC5A0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ACDE-4AA8-4292-83D5-FCF0F9AB9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378F-85B5-4047-8760-9134A8584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DFA5-5597-4F9E-A04D-B1FD6A5B8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6E2F-1D66-4E27-859B-8C6147EBA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8 ANIMATED FILM DOES A MOVIE STAR DOG THINK HE REALLY HAS SUPER PO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QUIN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28600" y="762120"/>
            <a:ext cx="5105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X ALBUM CONTAINED THE HITS "LORELEI" AND "SUITE MADAME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486400" y="1028880"/>
            <a:ext cx="330516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95240" y="762120"/>
            <a:ext cx="7553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IS JUST NORTH OF SANIBEL ISLAND IN SOUTHWEST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VALAN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69960" y="762120"/>
            <a:ext cx="780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OLORADO'S NH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655560" y="4876920"/>
            <a:ext cx="78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30200" y="762120"/>
            <a:ext cx="828360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THROPOMORPHIC HEDGEHOG HAS FRIENDS NAMED TAILS AND KNUCK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I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325520" y="762120"/>
            <a:ext cx="6491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RUM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489480" y="2554200"/>
            <a:ext cx="2165040" cy="224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33240" y="762120"/>
            <a:ext cx="78775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8, WHICH STATE ELECTED THE FIRST OPENLY GAY MAN GOVERN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B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14440" y="762120"/>
            <a:ext cx="811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IS DIRECTLY BETWEEN IRON AND NICKEL IN THE PERIODIC TAB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240" y="762120"/>
            <a:ext cx="5040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X ALBUM CONTAINED THE HITS "LORELEI" AND "SUITE MADAME 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486400" y="1028880"/>
            <a:ext cx="33051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JETSONS'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879640" y="4876920"/>
            <a:ext cx="338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933480" y="762120"/>
            <a:ext cx="72770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8 ANIMATED FILM DOES A MOVIE STAR DOG THINK HE REALLY HAS SUPER POWERS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836640" y="4876920"/>
            <a:ext cx="7470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HEVY 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70040" y="761760"/>
            <a:ext cx="7602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IS JUST NORTH OF SANIBEL ISLAND IN SOUTHWEST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95440" y="762120"/>
            <a:ext cx="795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OLORADO'S NH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0600" y="762120"/>
            <a:ext cx="8362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THROPOMORPHIC HEDGEHOG HAS FRIENDS NAMED TAILS AND KNUCK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19120" y="762120"/>
            <a:ext cx="6305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RUM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182760" y="2590920"/>
            <a:ext cx="2778480" cy="28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6360" y="762120"/>
            <a:ext cx="7991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8, WHICH STATE ELECTED THE FIRST OPENLY GAY MAN GOVERN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IS DIRECTLY BETWEEN IRON AND NICKEL IN THE PERIODIC TA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47760" y="762120"/>
            <a:ext cx="6648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JETSONS' DO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2-01-24T18:11:46Z</dcterms:modified>
  <cp:revision>388</cp:revision>
  <dc:subject/>
  <dc:title>Slide 1</dc:title>
</cp:coreProperties>
</file>