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621F-F5DF-4564-A6B9-488D247E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25EA-9947-45B2-ADAE-BBCD61C3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0897-56BE-4A5E-B5C1-44FD9C17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62C-755A-462E-BE79-BFB78390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BDF1-6644-4AD0-909F-2C3C6EF2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FF7D-8492-4A62-87D8-117AEB57B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6D1-457E-4E7E-8102-40A864D55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38B4-823A-4663-B875-BCC13C3F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03F-EBEE-450E-8840-01E4760F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D84D-ABD1-4223-ADED-14BB4E33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18C6-CF0D-467E-B5B9-1B3811770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08A6-2359-4B9C-9E6D-AD6511EB1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24A8-DC0B-4888-A391-714D51B6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D059-EC8B-4AB9-AED7-1B7744A6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D529-7F70-4772-A44C-63E8A7BA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E3F0-9A5F-4380-B8B7-AFB26E0A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5C1-C06B-4664-915F-346B6BC1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7BE5-709D-4A71-B77D-A89A5A681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49B-DE75-4500-AD43-76C43514E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3D42-F884-4C84-896F-9E0F9B83E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156-B62A-4794-ADB8-E970CA1F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675-311C-490F-B550-7D0BD16E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C7B2-BFC5-4B0F-877F-404EB335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8 ANIMATED FILM DOES A MOVIE STAR DOG THINK HE REALLY HAS SUPER 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I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762120"/>
            <a:ext cx="5105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ALBUM CONTAINED THE HITS "LORELEI" AND "SUITE MADAME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86400" y="1028880"/>
            <a:ext cx="33051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IS JUST NORTH OF SANIBEL ISLAND IN SOUTHWEST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LAN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69960" y="762120"/>
            <a:ext cx="780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OLORAD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THROPOMORPHIC HEDGEHOG HAS FRIENDS NAMED TAILS AND KNUCK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25520" y="762120"/>
            <a:ext cx="6491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RUM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489480" y="2554200"/>
            <a:ext cx="2165040" cy="22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3240" y="762120"/>
            <a:ext cx="7877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8, WHICH STATE ELECTED THE FIRST OPENLY GAY MAN GOVERN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DIRECTLY BETWEEN IRON AND NICKEL IN THE PERIODIC TAB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5040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ALBUM CONTAINED THE HITS "LORELEI" AND "SUITE MADAME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486400" y="1028880"/>
            <a:ext cx="3305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JETSONS'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879640" y="4876920"/>
            <a:ext cx="338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33480" y="762120"/>
            <a:ext cx="72770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8 ANIMATED FILM DOES A MOVIE STAR DOG THINK HE REALLY HAS SUPER POWER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HEVY 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70040" y="761760"/>
            <a:ext cx="7602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IS JUST NORTH OF SANIBEL ISLAND IN SOUTHWEST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5440" y="762120"/>
            <a:ext cx="795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OLORAD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THROPOMORPHIC HEDGEHOG HAS FRIENDS NAMED TAILS AND KNUCK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RUM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82760" y="2590920"/>
            <a:ext cx="2778480" cy="28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8, WHICH STATE ELECTED THE FIRST OPENLY GAY M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DIRECTLY BETWEEN IRON AND NICKEL IN THE PERIODIC T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47760" y="762120"/>
            <a:ext cx="664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JETSONS'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2-01-24T18:11:46Z</dcterms:modified>
  <cp:revision>388</cp:revision>
  <dc:subject/>
  <dc:title>Slide 1</dc:title>
</cp:coreProperties>
</file>