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1CF2-6EA0-4F8D-B193-346F4E0C9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673-6752-4461-AA48-3F9D9208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0BB9-34D9-4AE0-957F-9D179C9A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728B-25F7-4B7D-BD11-26EFAED34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EFF3-3DA7-4562-8E2D-02C8F6896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2D23-5335-46EC-86DE-59641128E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EEEF-1C0C-42C4-BE5F-9B5E605C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1DC1-8878-4CFE-9EC5-63CF9D61F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21F4-6763-4C9A-B530-5D4116E3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BE1-0314-4D25-BB6A-06763909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B0F6-686C-4329-B6DC-80E7BA7E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A958-A9C9-4441-AE39-1D74E5451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CED7-41BB-404D-BA6D-A117F3145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FBA2-FA04-4A77-827E-B8B70FEF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7457-EF39-4109-B423-A87F4BFF2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5D96-1CEB-4EA4-9508-D0A517F4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A309-C8AD-46A3-92BB-21E56F02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25A5-45FC-4110-B918-AC5FDA2B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33EC-EF3B-4AB5-95CE-CC21749E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12A2-2343-4499-A2CF-4506A6AB1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B81B-ABBF-4749-B19F-6A913AAC3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D3D0-4616-4235-89F2-AD9D9ABF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60CB-EF01-4434-8404-A32677486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J.C. PLAYED MIA FARROW'S HUSBAND IN THE FILM "ROSEMARY'S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SE PEOPLE APPEARED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MAR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BOTH GUNFIGHTER KID SHELLEEN AND CRIMINAL TIM STRAWN IN "CAT BALL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BORG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ON "MCHALE'S NAV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GGED ACTOR STARRED IN 15 FILMS WITH HIS WIFE J. LEE THOMP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1957-1965 CLEVELAND BROWNS IS CONSIDERED TO BE ONE OF THE BEST NFL PLAYER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4 "AIRPORT" FILMS AND ALL 3 "NAKED GU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NI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TOP 10 HITS INCLUDE "I'M COMIN' HOME CINDY", "IF I HAD A HAMMER", "GONNA GET ALONG WITHOUT YOU NOW", AND "LEMON T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MEE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R.M. PORTRAYED DETECTIVE MIKE HAMMER IN THE 1955 FILM "KISS ME DEAD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BOTH GUNFIGHTER KID SHELLEEN AND CRIMINAL TIM STRAWN IN "CAT BALL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LY  SAVA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SERIES "KOJA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SSAV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J.C. PLAYED MIA FARROW'S HUSBAND IN THE FILM "ROSEMARY'S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76520" y="487692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IRTY  D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14400" y="80028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SE PEOPLE APPEARED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 ON "MCHALE'S NAV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GGED ACTOR STARRED IN 15 FILMS WITH HIS WIFE J. LEE THOMP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1957-1965 CLEVELAND BROWNS IS CONSIDERED TO BE ONE OF THE BEST NFL PLAYER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4 "AIRPORT" FILMS AND ALL 3 "NAKED GU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TOP 10 HITS INCLUDE "I'M COMIN' HOME CINDY", "IF I HAD A HAMMER", "GONNA GET ALONG WITHOUT YOU NOW", AND "LEMON T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ITH INITIALS R.M. PORTRAYED DETECTIVE MIKE HAMMER IN THE 1955 FILM "KISS ME DEAD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SERIES "KOJ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1-24T18:15:35Z</dcterms:modified>
  <cp:revision>461</cp:revision>
  <dc:subject/>
  <dc:title>Slide 1</dc:title>
</cp:coreProperties>
</file>