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4A18-3A05-45DF-89FF-57E736B32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0E6E-0442-4297-BC1A-A15560E4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B028-7376-45F6-BC09-BA143AB00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86B4-D808-44BF-8FB0-290454453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D637-A68A-4DF9-840F-01C149AD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7C67-7A66-460D-BB4B-15824D29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735A-E406-4395-BDF4-2EFC4927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2967-E887-4838-B5D6-4566020DE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0952-BAD2-4D29-93C0-8A93E3BB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0AB6-5607-43EE-A599-B71779245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E6F8-C830-4F9A-BD24-DC98EB59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CE56-D42A-4485-AB51-B2D8DB08E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C7F8-9227-4897-88A6-BAE41E90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EBC0-F4E9-430A-93C7-60F3410ED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4FD4-DB27-45E3-BBB7-E906B58A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664A-563D-4DE7-AEE7-9E0FE6E6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94B2-F59E-49AA-86D2-743475EB4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0EE4-538F-422E-941B-2278D1138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8BF9-D5BD-41B2-8652-FF5674E92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C57C-2B90-494B-8663-3AC6FDAE9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9379-A704-49CD-8BAD-22C62196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41C1-0461-4DDD-ACA1-D8657DBB6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2223-64C3-4577-8741-CEEDF2533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ITH INITIALS J.C. PLAYED MIA FARROW'S HUSBAND IN THE FILM "ROSEMARY'S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SE PEOPLE APPEARED IN WHA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MAR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9960" y="762120"/>
            <a:ext cx="834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BOTH GUNFIGHTER KID SHELLEEN AND CRIMINAL TIM STRAWN IN "CAT BALL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NEST  BORG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RTY" AND PLAYED THE TITLE CHARACTER ON "MCHALE'S NAV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BRO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GGED ACTOR STARRED IN 15 FILMS WITH HIS WIFE J. LEE THOMP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NNING BACK FOR THE 1957-1965 CLEVELAND BROWNS IS CONSIDERED TO BE ONE OF THE BEST NFL PLAYER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OR TO APPEAR IN ALL 4 "AIRPORT" FILMS AND ALL 3 "NAKED GU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NI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TOP 10 HITS INCLUDE "I'M COMIN' HOME CINDY", "IF I HAD A HAMMER", "GONNA GET ALONG WITHOUT YOU NOW", AND "LEMON T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MEE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ITH INITIALS R.M. PORTRAYED DETECTIVE MIKE HAMMER IN THE 1955 FILM "KISS ME DEAD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BOTH GUNFIGHTER KID SHELLEEN AND CRIMINAL TIM STRAWN IN "CAT BALL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LY  SAVA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HE SERIES "KOJA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SSAV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ITH INITIALS J.C. PLAYED MIA FARROW'S HUSBAND IN THE FILM "ROSEMARY'S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76520" y="487692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IRTY  DO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14400" y="80028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SE PEOPLE APPEARED IN WHA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RTY" AND PLAYED THE TITLE CHARACTER  ON "MCHALE'S NAV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GGED ACTOR STARRED IN 15 FILMS WITH HIS WIFE J. LEE THOMP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NNING BACK FOR THE 1957-1965 CLEVELAND BROWNS IS CONSIDERED TO BE ONE OF THE BEST NFL PLAYER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OR TO APPEAR IN ALL 4 "AIRPORT" FILMS AND ALL 3 "NAKED GU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TOP 10 HITS INCLUDE "I'M COMIN' HOME CINDY", "IF I HAD A HAMMER", "GONNA GET ALONG WITHOUT YOU NOW", AND "LEMON T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ITH INITIALS R.M. PORTRAYED DETECTIVE MIKE HAMMER IN THE 1955 FILM "KISS ME DEAD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HE SERIES "KOJA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1-24T18:15:35Z</dcterms:modified>
  <cp:revision>461</cp:revision>
  <dc:subject/>
  <dc:title>Slide 1</dc:title>
</cp:coreProperties>
</file>