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B9F4-979A-4BEE-99E1-5DF34C862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9176-9449-4693-A704-B3169A329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237C-4AB3-44B0-8F6A-FAF110281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940A-FC10-40E3-8133-BE6305225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698D-A661-4EB9-A699-C0D7F540A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7DD3-991B-4B5E-885B-4099ABD84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4288-F5A6-4C84-8D2B-2019FD5FD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C5BF-185F-492B-8255-B89C21A01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6D7A-48FA-4D0A-8433-FA7632FA4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299C-A87B-4021-8B25-21C87F792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F8CB-23A8-4017-9E18-701D34285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2F7F-D9D3-49B0-8D7C-3F1EC45AE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D8B1-2471-45C2-A34D-58D1EF03E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902D-1E1E-4A2D-A721-249AE359F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05CE-8444-466D-A05A-188F267C8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7C4F-C823-48CA-8AA7-AB883D583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23DB-45D4-411F-B2C2-8A5474E6E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AF5E-D45E-419F-9D53-2AB7D6D36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2ADB-98E4-44BC-AAA1-8C8460322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C418-9837-4D34-A25B-14EC4C7F8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6787-B4D2-4828-9A51-D691A07D6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F25F-E255-449B-81E5-6343C98F3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AB36-0BAB-46F5-91A3-2436F7FED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2960" y="761760"/>
            <a:ext cx="7316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INANCE, WHAT DO THE "R" AND THE "M" STAND FOR IN "AR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4760" y="762120"/>
            <a:ext cx="893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PHYLUM AND 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36680" y="762120"/>
            <a:ext cx="8269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OTHING BRAND HAS AN EMBLEM CONTAINING THE NAME AND A QUESTION MARK IN AN INVERTED TRI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08200" y="762120"/>
            <a:ext cx="7526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TIFIC JOURNAL IS THE MOST CITED JOURNAL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12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EARTH,)  WIND  (&amp;  FIR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46320" y="762120"/>
            <a:ext cx="6649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R&amp;B GROUP "EW&amp;F", WHAT DOES THE "W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8200" y="762120"/>
            <a:ext cx="8067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5 SENSES IS THE ONE THAT MOST PEOPLE WOULD LEAST LIKE TO LO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ING  (TO  AMERIC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8240" y="762120"/>
            <a:ext cx="8867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OF THE TITLE OF A 1988 EDDIE MURPHY AND ARSENIO HALL FILM, AND ITS 2021 SEQU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74680" y="762120"/>
            <a:ext cx="859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URSERY RHYME IN WHICH A COW JUMPS OVER THE MOON, WHAT INSTRUMENT IS THE CAT PLAY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82160" y="762120"/>
            <a:ext cx="8777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PHYLUM AND 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44680" y="762120"/>
            <a:ext cx="8053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MPUTER LANGUAGE BASIC, A VARIABLE IS EITHER A NUMBER, A BOOLEAN, OR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19040" y="487692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TE  &amp;  MORTG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INANCE, WHAT DO THE "R" AND THE "M" STAND FOR IN "AR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52280" y="49528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SECON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2520" y="761760"/>
            <a:ext cx="8238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OTHING BRAND HAS AN EMBLEM CONTAINING THE NAME AND A QUESTION MARK IN AN INVERTED TRIA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040" y="762120"/>
            <a:ext cx="7386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TIFIC JOURNAL IS THE MOST CITED JOURNAL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14520" y="762120"/>
            <a:ext cx="611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R&amp;B GROUP "EW&amp;F", WHAT DOES THE "W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0440" y="761760"/>
            <a:ext cx="822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5 SENSES IS THE ONE THAT MOST PEOPLE WOULD LEAST LIKE TO LO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85760" y="761760"/>
            <a:ext cx="8771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OF THE TITLE OF A 1988 EDDIE MURPHY AND ARSENIO HALL FILM, AND ITS 2021 SEQU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2360" y="761760"/>
            <a:ext cx="8639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URSERY RHYME IN WHICH A COW JUMPS OVER THE MOON, WHAT INSTRUMENT IS THE CAT PLAY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6520" y="762120"/>
            <a:ext cx="8129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MPUTER LANGUAGE BASIC, A VARIABLE IS EITHER A NUMBER, A BOOLEAN, OR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24T18:18:45Z</dcterms:modified>
  <cp:revision>466</cp:revision>
  <dc:subject/>
  <dc:title>Slide 1</dc:title>
</cp:coreProperties>
</file>