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3CF6-8DF5-4C78-855A-33E31567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1072-5CB7-4875-A3B2-A0C60998A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21F2-53B9-42B1-924C-E22159FF1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1355-29F4-4563-9974-0F5B9DF7D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D4A3-7D8A-45BF-AEBF-1CECC5096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5683-1851-4EE4-A37A-E899F41A0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A070-0996-4C84-B27C-72D294385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C4FE-2E47-4A9E-9949-47508592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DFC0-7EFD-4B90-95A0-019AB5CB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C712-B16E-4B0E-BDEA-8E36927D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E810-8F53-426E-A71D-34432B7A6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1DA2-1C4C-49F3-AD22-0BC5DD275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CAA0-3601-4D31-98B2-F46F70EA9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86C7-ECB1-4DA8-B4DA-9DE5FF74F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DF43-DD97-4728-BC87-0FFA47B1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C515-A4AC-4C76-95AC-A0524A53E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B5BC-3219-4976-8BD3-2EBD8B59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99C6-11E6-4364-B18F-D17AA7520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A0C4-A6C2-4F60-B04D-66AB45897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A866-25AE-4F13-AB02-7142651F3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0E10-9216-4457-9C8F-754803331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CF7E-CE17-476D-8E5D-3B3AF9E7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C08B-0453-4710-A6D5-21A794D61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2960" y="761760"/>
            <a:ext cx="731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DO THE "R" AND THE "M" STAND FOR IN "A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4760" y="762120"/>
            <a:ext cx="893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36680" y="762120"/>
            <a:ext cx="826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BRAND HAS AN EMBLEM CONTAINING THE NAME AND A QUESTION MARK IN AN INVERTED TRI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8200" y="762120"/>
            <a:ext cx="7526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FIC JOURNAL IS THE MOST CITED JOURNA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12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ARTH,)  WIND  (&amp;  FI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46320" y="762120"/>
            <a:ext cx="6649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&amp;B GROUP "EW&amp;F", WHAT DOES THE "W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8200" y="762120"/>
            <a:ext cx="8067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5 SENSES IS THE ONE THAT MOST PEOPLE WOULD LEAST LIKE TO L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ING  (TO  AMERIC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8240" y="762120"/>
            <a:ext cx="8867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THE TITLE OF A 1988 EDDIE MURPHY AND ARSENIO HALL FILM, AND ITS 2021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74680" y="762120"/>
            <a:ext cx="859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URSERY RHYME IN WHICH A COW JUMPS OVER THE MOON, WHAT INSTRUMENT IS THE CAT PLAY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2160" y="762120"/>
            <a:ext cx="8777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44680" y="762120"/>
            <a:ext cx="805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PUTER LANGUAGE BASIC, A VARIABLE IS EITHER A NUMBER, A BOOLEAN, OR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19040" y="4876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TE  &amp;  MORTG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NANCE, WHAT DO THE "R" AND THE "M" STAND FOR IN "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280" y="49528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SECO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OTHING BRAND HAS AN EMBLEM CONTAINING THE NAME AND A QUESTION MARK IN AN INVERTED TRIA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040" y="762120"/>
            <a:ext cx="7386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FIC JOURNAL IS THE MOST CITED JOURNA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14520" y="762120"/>
            <a:ext cx="611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R&amp;B GROUP "EW&amp;F", WHAT DOES THE "W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0440" y="761760"/>
            <a:ext cx="822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5 SENSES IS THE ONE THAT MOST PEOPLE WOULD LEAST LIKE TO LO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1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THE TITLE OF A 1988 EDDIE MURPHY AND ARSENIO HALL FILM, AND ITS 2021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URSERY RHYME IN WHICH A COW JUMPS OVER THE MOON, WHAT INSTRUMENT IS THE CAT PLAY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29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OMPUTER LANGUAGE BASIC, A VARIABLE IS EITHER A NUMBER, A BOOLEAN, OR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8:18:45Z</dcterms:modified>
  <cp:revision>466</cp:revision>
  <dc:subject/>
  <dc:title>Slide 1</dc:title>
</cp:coreProperties>
</file>