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413-9EDA-4FE5-A76E-55A1E608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A97-8709-4C84-B339-643C8DEA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DFE7-060D-4D1A-BAC2-DE383460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0678-5FA0-4F0C-B122-7C1922D6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4C7-A30E-4831-A266-07590735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D4D-6F64-412F-A4EB-F451BA99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DAE-D1B3-4813-8A6E-D23A64371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EFA-16FB-4978-9AED-54905174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E01B-7851-475F-9375-350ABCF3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9FD-9D0C-48EC-BE84-000A8CBB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84D5-0F4A-4FE2-8230-80D2471F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3A3E-9F45-4356-BE30-D81950DA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861A-B82F-4F1C-B16F-2EE41909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542C-6995-44EF-9881-54B7DD3F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DB4-6C3E-4317-8B14-7F992090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051-10BD-4685-9CDA-FA21A053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D81-0911-41AF-A9BB-4F5733F7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DDAA-917B-4439-9BDD-EFC7F3B8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4014-C35A-4755-83A6-0C990C02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613-0996-4E91-88E2-7C28530E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EEC-9320-4728-84E8-95149FB4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C40-69F7-404E-894A-E0B3E02D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CA3-913E-414E-93AE-16ECDCC1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OPOGRAPHIC MAP IS ONE THAT SHOW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COLLEGE SPORTS TEAM GIVES SCHOLARSHIPS BUT A PLAYER ISN'T GETTING ONE, THEY ARE KNOWN AS WHAT TYPE OF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THEM AND LAURA BRANIGAN HAD DIFFERENT HIT SONGS WITH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DANTE ALIGHIERI DEFINE AS "LOVE OF SELF, PERVERTED TO HATRED AND CONTEMPT FOR ONE'S NEIGH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HITCHCOCK FILM STARRED JIMMY STEWART AS A POLICE DETECTIVE FORCED INTO EARLY RETIREMENT BECAUSE OF ACROPHO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RENCH COOKING, THE JUICE OF WHAT FRUIT IS USED TO MAKE ALLEMANDE SA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ORROR MOVIE LED JEFF GOLDBLUM TO WRITE TO VINCENT PRICE: "I HOPE YOU LIKE IT AS MUCH I LIKED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EA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LY CELEBRATED HOLIDA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COLLEGE SPORTS TEAM GIVES SCHOLARSHIPS BUT A PLAYER ISN'T GETTING ONE, THEY ARE KNOWN AS WHAT TYPE OF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OPOGRAPHIC MAP IS ONE THAT SHOW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U2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THEM AND LAURA BRANIGAN HAD DIFFERENT HIT SONGS WITH WHAT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DANTE ALIGHIERI DEFINE AS "LOVE OF SELF, PERVERTED TO HATRED AND CONTEMPT FOR ONE'S NEIGH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HITCHCOCK FILM STARRED JIMMY STEWART AS A POLICE DETECTIVE FORCED INTO EARLY RETIREMENT BECAUSE OF ACROPHO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RENCH COOKING, THE JUICE OF WHAT FRUIT IS USED TO MAKE ALLEMANDE SAU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ORROR MOVIE LED JEFF GOLDBLUM TO WRITE TO VINCENT PRICE: "I HOPE YOU LIKE IT AS MUCH I LIKED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LY CELEBRATED HOLIDA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2T17:12:23Z</dcterms:created>
  <dc:creator>Jennifer Budzinski</dc:creator>
  <dc:description/>
  <dc:language>en-US</dc:language>
  <cp:lastModifiedBy>Erich Friedman</cp:lastModifiedBy>
  <dcterms:modified xsi:type="dcterms:W3CDTF">2022-01-24T18:21:42Z</dcterms:modified>
  <cp:revision>429</cp:revision>
  <dc:subject/>
  <dc:title>Slide 1</dc:title>
</cp:coreProperties>
</file>