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FF12-7122-4005-9A1E-702CEF8FA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FBF-6591-4E91-9D7D-9F1116081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3630-F70B-489E-9110-DC02CC3B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E74E-FACA-48E9-8E35-21E44386E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2B8A-6EF3-4123-8A8B-EA98215F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8984-2B98-4681-A5ED-91440AB4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11A3-D4A2-4313-8E66-A4B20E52E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7E2C-04F7-47CD-B16F-67573C90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2300-A68B-41B6-9940-9536B503E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7ED5-BE50-4987-B6C2-220077571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13C9-F477-4EB8-A520-AF98EFBA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08DC-4F17-4EF7-9459-B0D67F4B0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BB75-DCCF-45B2-A275-702D97927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9A89-E9C9-4CCD-B354-B5F758A3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BAA5-8ABC-4CA6-81B2-8679F45B4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EE99-3BA0-4FC8-91F2-904C1D234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5C19-E888-4BF4-B609-4F046124D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702D-5C8C-40F4-AFFE-225344D22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1C51-E8C6-4878-BF38-1A645E7A1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720-E735-4E51-8248-3B74B0C06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8E0C-842E-4EFD-9C7E-7C3E618DA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4381-F126-4231-B7E3-75578119F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A865-2040-4C07-AB0D-CAB88F485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OPOGRAPHIC MAP IS ONE THAT SHOW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K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38080" y="68580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COLLEGE SPORTS TEAM GIVES SCHOLARSHIPS BUT A PLAYER ISN'T GETTING ONE, THEY ARE KNOWN AS WHAT TYPE OF PLAY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THEM AND LAURA BRANIGAN HAD DIFFERENT HIT SONGS WITH WHAT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DANTE ALIGHIERI DEFINE AS "LOVE OF SELF, PERVERTED TO HATRED AND CONTEMPT FOR ONE'S NEIGHB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HITCHCOCK FILM STARRED JIMMY STEWART AS A POLICE DETECTIVE FORCED INTO EARLY RETIREMENT BECAUSE OF ACROPHOB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RENCH COOKING, THE JUICE OF WHAT FRUIT IS USED TO MAKE ALLEMANDE SAU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ORROR MOVIE LED JEFF GOLDBLUM TO WRITE TO VINCENT PRICE: "I HOPE YOU LIKE IT AS MUCH I LIKED Y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EAR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LY CELEBRATED HOLIDA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 COLLEGE SPORTS TEAM GIVES SCHOLARSHIPS BUT A PLAYER ISN'T GETTING ONE, THEY ARE KNOWN AS WHAT TYPE OF PLAY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IN CH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TOPOGRAPHIC MAP IS ONE THAT SHOW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U2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USICAL GROUP THEM AND LAURA BRANIGAN HAD DIFFERENT HIT SONGS WITH WHAT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ID DANTE ALIGHIERI DEFINE AS "LOVE OF SELF, PERVERTED TO HATRED AND CONTEMPT FOR ONE'S NEIGHB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HITCHCOCK FILM STARRED JIMMY STEWART AS A POLICE DETECTIVE FORCED INTO EARLY RETIREMENT BECAUSE OF ACROPHOB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RENCH COOKING, THE JUICE OF WHAT FRUIT IS USED TO MAKE ALLEMANDE SAU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HORROR MOVIE LED JEFF GOLDBLUM TO WRITE TO VINCENT PRICE: "I HOPE YOU LIKE IT AS MUCH I LIKED Y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LY CELEBRATED HOLIDA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IME ZONES ARE THERE IN CH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2T17:12:23Z</dcterms:created>
  <dc:creator>Jennifer Budzinski</dc:creator>
  <dc:description/>
  <dc:language>en-US</dc:language>
  <cp:lastModifiedBy>Erich Friedman</cp:lastModifiedBy>
  <dcterms:modified xsi:type="dcterms:W3CDTF">2022-01-24T18:21:42Z</dcterms:modified>
  <cp:revision>429</cp:revision>
  <dc:subject/>
  <dc:title>Slide 1</dc:title>
</cp:coreProperties>
</file>