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9448-B38F-4F70-8E33-71BEBCB25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7BCA-59C4-42BA-942F-A394F5245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5AE8-9B5A-4096-BCE1-9B9B417E9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C849-F230-46CC-A3D2-F51C5BF6A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695E-18C4-44A8-ADAB-0FF05AB2C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4B4A-986A-4BAB-999D-9988FD4F9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2DBA-5DA0-49A6-A739-78EC81665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FAA6-41C3-4BD8-BCE8-CAF0FBF7B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4201-0817-404B-88B0-26E4D5D0C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42C8-3CF7-40B3-879D-320696562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65EC-7A85-4DE3-800B-4A0B8DF4B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487E-B649-4E05-9813-B4FD9CAB8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0F8C-71F7-494E-B866-E24EEB0BA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7F26-20C4-4181-BAB0-2A83E2709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641F-412B-4C9A-B6BC-D614416D6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F96B-03D8-4ECD-84DC-217F75941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CA86-7E98-4024-907D-9C6888A6F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25DF-3DCF-4960-AD5C-BDAB879A0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1188-AE4E-49F3-88F6-3849CDC4A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BACC-AD8D-4DBD-8485-BCBD37B31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93F4-CB53-4A6E-82C9-8CE9CCBA5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8F19-C38B-48CD-942E-FE4500F9E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4A95-5EA3-4C31-B3FF-07C8ABFA3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9814-98EA-4E94-851B-04862EA4C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REFERRING TO THE BRITISH POUND IN A CONTEXT WHERE IT MIGHT BE CONFUSED WITH ANOTHER CURRENCY, WHAT WORD IS APPEND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1360" y="761760"/>
            <a:ext cx="8801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RIDGE, WHAT NAME IS GIVEN TO THE SUIT WHICH OUTRANKS OTHERS FOR THAT H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SK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28600" y="1066680"/>
            <a:ext cx="4267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EETWOOD MAC DOUBLE ALBUM HAD THIS CO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4952880" y="1066680"/>
            <a:ext cx="3662640" cy="366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52280" y="762120"/>
            <a:ext cx="8915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PRESIDENT QUIPPED "IF ONE MORNING I WALKED ... ACROSS THE POTOMAC RIVER, THE HEADLINE THAT AFTERNOON WOULD READ: 'PRESIDENT CAN'T SWIM' 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N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38080" y="762120"/>
            <a:ext cx="7620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SQUARE, REEF, PRUSIK, AND CLOVE HIT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676520" y="762120"/>
            <a:ext cx="5790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IS ALSO A TYPE OF SHA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90720" y="609480"/>
            <a:ext cx="7086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ESS PIECE CAN MOVE ONE SQUARE IN ANY DIRECT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90720" y="781200"/>
            <a:ext cx="7162560" cy="40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TOO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Truper-Tru-Tough-Hoe-755625016836.jpg"/>
          <p:cNvPicPr/>
          <p:nvPr/>
        </p:nvPicPr>
        <p:blipFill>
          <a:blip r:embed="rId1"/>
          <a:stretch/>
        </p:blipFill>
        <p:spPr>
          <a:xfrm>
            <a:off x="2971800" y="1962000"/>
            <a:ext cx="3200400" cy="282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Y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457200" y="68580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4-YEAR COLLEGE IN WACO, T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R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REFERRING TO THE BRITISH POUND IN A CONTEXT WHERE IT MIGHT BE CONFUSED WITH ANOTHER CURRENCY, WHAT WORD IS APPEND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171360" y="762120"/>
            <a:ext cx="8801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RIDGE, WHAT NAME IS GIVEN TO THE SUIT WHICH OUTRANKS OTHERS FOR THAT H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800280" y="4343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ST  NAMES  OF  PEOPLE  NAMED  DON  OR  DONA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457200" y="609480"/>
            <a:ext cx="8077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2280" y="914040"/>
            <a:ext cx="4305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EETWOOD MAC DOUBLE ALBUM HAD THIS CO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4952880" y="1066680"/>
            <a:ext cx="3662640" cy="366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160" y="76176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PRESIDENT QUIPPED "IF ONE MORNING I WALKED ... ACROSS THE POTOMAC RIVER, THE HEADLINE THAT AFTERNOON WOULD READ: 'PRESIDENT CAN'T SWIM' 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SQUARE, REEF, PRUSIK, AND CLOVE HIT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676520" y="762120"/>
            <a:ext cx="5790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IS ALSO A TYPE OF SHA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ESS PIECE CAN MOVE ONE SQUARE IN ANY DIRECTI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TOOL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Truper-Tru-Tough-Hoe-755625016836.jpg"/>
          <p:cNvPicPr/>
          <p:nvPr/>
        </p:nvPicPr>
        <p:blipFill>
          <a:blip r:embed="rId1"/>
          <a:stretch/>
        </p:blipFill>
        <p:spPr>
          <a:xfrm>
            <a:off x="2630520" y="2057400"/>
            <a:ext cx="38829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4-YEAR COLLEGE IN WACO, TX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9:56:42Z</dcterms:created>
  <dc:creator>Jennifer Budzinski</dc:creator>
  <dc:description/>
  <dc:language>en-US</dc:language>
  <cp:lastModifiedBy>Erich Friedman</cp:lastModifiedBy>
  <dcterms:modified xsi:type="dcterms:W3CDTF">2022-01-25T23:24:13Z</dcterms:modified>
  <cp:revision>334</cp:revision>
  <dc:subject/>
  <dc:title>Slide 1</dc:title>
</cp:coreProperties>
</file>