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04C0-35CD-4353-B361-60FD11D1D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9A2A-FA5A-415C-BCA1-B038B163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020D-6AC2-4A4F-BEB2-52FC67A90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053-5A6F-4091-A5C5-18BDA09E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F761-68AB-4527-9063-E11500FDB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5024-9245-4AE3-84CF-3F0D6C23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49CE-6097-4C43-AA77-513000B7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2093-D3FE-4AB6-853E-9E7C15034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F6FC-21A3-42EE-8A3C-A7E281463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CC5-B70B-41CB-A1CB-7AB5326D3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EC98-771A-4461-9E56-E5517571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73E-B53B-4972-92AD-72E9499CE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0BD8-49F8-4A41-9820-17D9E0E8B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7D88-3961-4BA2-92D7-FE98C291A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27B0-76F7-4C19-B668-68A81F79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94EE-090E-4F13-9005-C17D6E984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88AF-DDE3-4DCC-97F5-AC3CA4524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E99E-9623-4F33-9A9F-423C8297F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22F4-3317-4B76-BB95-F5D76E264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A25-8F8B-4377-972E-D427292E4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888D-FD83-4081-A0E6-1198BCD7F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F4C8-F843-44C3-9D7E-91D0AFB6C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E3574-0E06-4F64-94A6-66923810E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7E8B-C277-4FA2-9593-6B8BB28F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REFERRING TO THE BRITISH POUND IN A CONTEXT WHERE IT MIGHT BE CONFUSED WITH ANOTHER CURRENCY, WHAT WORD IS APPEN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71360" y="761760"/>
            <a:ext cx="880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DGE, WHAT NAME IS GIVEN TO THE SUIT WHICH OUTRANKS OTHERS FOR THAT H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SK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28600" y="1066680"/>
            <a:ext cx="4267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DOUBLE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6626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522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ESIDENT QUIPPED "IF ONE MORNING I WALKED ... ACROSS THE POTOMAC RIVER, THE HEADLINE THAT AFTERNOON WOULD READ: 'PRESIDENT CAN'T SWIM' 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QUARE, REEF, PRUSIK, AND CLOVE HI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676520" y="762120"/>
            <a:ext cx="579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ALSO A TYPE OF SH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609480"/>
            <a:ext cx="7086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90720" y="781200"/>
            <a:ext cx="7162560" cy="40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Truper-Tru-Tough-Hoe-755625016836.jpg"/>
          <p:cNvPicPr/>
          <p:nvPr/>
        </p:nvPicPr>
        <p:blipFill>
          <a:blip r:embed="rId1"/>
          <a:stretch/>
        </p:blipFill>
        <p:spPr>
          <a:xfrm>
            <a:off x="2971800" y="1962000"/>
            <a:ext cx="3200400" cy="282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457200" y="68580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4-YEAR COLLEGE IN WACO, T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R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REFERRING TO THE BRITISH POUND IN A CONTEXT WHERE IT MIGHT BE CONFUSED WITH ANOTHER CURRENCY, WHAT WORD IS APPEND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171360" y="762120"/>
            <a:ext cx="8801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RIDGE, WHAT NAME IS GIVEN TO THE SUIT WHICH OUTRANKS OTHERS FOR THAT H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800280" y="4343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PEOPLE  NAMED  DON  OR  DON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457200" y="60948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2280" y="914040"/>
            <a:ext cx="4305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DOUBLE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4952880" y="1066680"/>
            <a:ext cx="366264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160" y="76176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RESIDENT QUIPPED "IF ONE MORNING I WALKED ... ACROSS THE POTOMAC RIVER, THE HEADLINE THAT AFTERNOON WOULD READ: 'PRESIDENT CAN'T SWIM' 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QUARE, REEF, PRUSIK, AND CLOVE HIT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76520" y="762120"/>
            <a:ext cx="579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UIT IS ALSO A TYPE OF SH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ESS PIECE CAN MOVE ONE SQUARE IN ANY DIRECTI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TOO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Truper-Tru-Tough-Hoe-755625016836.jpg"/>
          <p:cNvPicPr/>
          <p:nvPr/>
        </p:nvPicPr>
        <p:blipFill>
          <a:blip r:embed="rId1"/>
          <a:stretch/>
        </p:blipFill>
        <p:spPr>
          <a:xfrm>
            <a:off x="2630520" y="2057400"/>
            <a:ext cx="388296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4-YEAR COLLEGE IN WACO, T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9:56:42Z</dcterms:created>
  <dc:creator>Jennifer Budzinski</dc:creator>
  <dc:description/>
  <dc:language>en-US</dc:language>
  <cp:lastModifiedBy>Erich Friedman</cp:lastModifiedBy>
  <dcterms:modified xsi:type="dcterms:W3CDTF">2022-01-25T23:24:13Z</dcterms:modified>
  <cp:revision>334</cp:revision>
  <dc:subject/>
  <dc:title>Slide 1</dc:title>
</cp:coreProperties>
</file>