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060B-2FF5-412A-A675-9F458F07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C300-DACE-4915-8593-C08C239D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D75E-9021-4F52-AE25-AB8E4E85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A443-7BD6-4657-9D14-E6B707CF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81FF-9A4C-4629-9A0E-E7743A333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00D6-1A9B-48D2-873C-449E8D52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92A3-677A-48A1-924D-134674D0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B836-FBCF-4764-8B9C-4032EEB8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5C99-ED4E-4471-88A7-95C21E67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EB83-47C7-4894-B0C6-061CD4F3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60E8-9C32-4B4D-B7B6-3F5A0B9E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19D7-9886-47F4-8974-E4CA35FC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34C4-EA2C-4DE3-9276-DE3FB965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4A7E-3148-4AA4-A939-D6C56B40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7B8-662F-4439-B13C-EBC82B5D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A13F-BBB2-4333-844D-EE77BE3B6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0A05-AAF5-40B4-88CC-7E2C3869D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E73-8798-4A7A-9E5D-ECB5A97B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53A-3050-496E-94F6-2A70A5F1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0433-376A-452A-A357-817EE186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C76-CF90-4C95-8AF6-BDE2AABBE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C65-DCEE-4785-AE84-EBA8E17B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1FE-0DC5-40CB-934F-33BB614F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 SPORTSWE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65520" y="2590920"/>
            <a:ext cx="36129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CHISHO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077840" y="762120"/>
            <a:ext cx="698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WOMAN ELECTED TO CONG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731960" y="762120"/>
            <a:ext cx="567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946240" y="2666880"/>
            <a:ext cx="3251520" cy="22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MILL 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IS LOCATED IN DELEON SPRINGS STATE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EMALE PRO SOCCER TEAM BASED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WAS THE FIRST TO BE RETIRED, AFTER 39 MISS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FREEDOM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22320" y="762120"/>
            <a:ext cx="729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PATRIOTIC SONG WHOSE LYRICS START "MY COUNTRY 'TIS OF TH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  RENT–A–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3920" y="762120"/>
            <a:ext cx="86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29120" y="2057400"/>
            <a:ext cx="288576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58760" y="762120"/>
            <a:ext cx="702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WOMAN ELECTED TO CONG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PWATER  HORI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SHORE DRILLING RIG CAUGHT FIRE AND SANK IN 2010, CAUSING THE LARGEST OIL SPILL EVER IN U.S. WA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 SPORTSWE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765520" y="2590920"/>
            <a:ext cx="3612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14480" y="4419720"/>
            <a:ext cx="8915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VOLUSIA  COUNTY  ELEMENTARY 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62120" y="761760"/>
            <a:ext cx="58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946240" y="2666880"/>
            <a:ext cx="325152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IS LOCATED IN DELEON SPRINGS STATE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EMALE PRO SOCCER TEAM BASED IN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WAS THE FIRST TO BE RETIRED, AFTER 39 MISS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PATRIOTIC SONG WHOSE LYRICS START "MY COUNTRY 'TIS OF TH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9920" y="761760"/>
            <a:ext cx="880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29120" y="2057400"/>
            <a:ext cx="28857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480" y="762120"/>
            <a:ext cx="896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SHORE DRILLING RIG CAUGHT FIRE AND SANK IN 2010, CAUSING THE LARGEST OIL SPILL EVER IN U.S. WA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37:32Z</dcterms:modified>
  <cp:revision>459</cp:revision>
  <dc:subject/>
  <dc:title>Slide 1</dc:title>
</cp:coreProperties>
</file>