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6E13-1138-468E-9A0F-2B35A70B5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5F2D-C6A6-4AD2-9B55-510024D1B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8514-2FFC-40BA-861A-D14D915D2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DF96-0B16-4477-9C96-A1A2B6D3B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7C80-2DD8-4DEF-85D0-25F10E11E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98A2-5FCE-4ECD-A246-DB38F9D00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8219-0C5A-41B8-A1A2-8AE50AC23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76F8-7E91-46A8-B702-FE10C0837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44E0-50D5-47F2-8214-DA68AD6D1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A516-AA62-4C57-9214-4CAA7DD63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608A-9B18-4B13-B3BF-E6F9F5912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43D1-00F5-49D3-999B-DDA1376A1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AA543-448B-42CB-AC0D-3CFDD57BC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2F76-69E9-4FBE-84F6-AF6616B24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CD37-CF3B-4DAD-B254-4C5AAAC7E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3C3D-B108-4FF7-ADE8-969A17254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A38C8-624D-4869-AA63-3245D6FF2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5F57-6164-4C94-BC62-F13F3CFBD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AE21-257D-4CC4-B6E3-C08568BAD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B668-8BC9-40B7-9B87-98E03679D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562D-2E06-434B-A4F4-D1A2972AB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80BE-E9C9-44AB-9F3E-1718A6758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5062-DF7D-4A8B-A86A-FB2E839C1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2520" y="761760"/>
            <a:ext cx="82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THLETIC SPORTSWEAR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65520" y="2590920"/>
            <a:ext cx="36129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RLEY  CHISHO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077840" y="762120"/>
            <a:ext cx="6988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ACK WOMAN ELECTED TO CONG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COVERY 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731960" y="762120"/>
            <a:ext cx="567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CHANNEL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946240" y="2666880"/>
            <a:ext cx="3251520" cy="221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  MILL  RESTAU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36800" y="762120"/>
            <a:ext cx="7068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STAURANT IS LOCATED IN DELEON SPRINGS STATE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EMALE PRO SOCCER TEAM BASED IN WASHINGTON, D.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CO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6800" y="762120"/>
            <a:ext cx="7610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ACE SHUTTLE WAS THE FIRST TO BE RETIRED, AFTER 39 MISS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T  FREEDOM  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22320" y="762120"/>
            <a:ext cx="7299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THE PATRIOTIC SONG WHOSE LYRICS START "MY COUNTRY 'TIS OF TH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ERPRISE  RENT–A–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23920" y="762120"/>
            <a:ext cx="8696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129120" y="2057400"/>
            <a:ext cx="2885760" cy="28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58760" y="762120"/>
            <a:ext cx="702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ACK WOMAN ELECTED TO CONG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EPWATER  HORIZ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90440" y="7621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SHORE DRILLING RIG CAUGHT FIRE AND SANK IN 2010, CAUSING THE LARGEST OIL SPILL EVER IN U.S. WA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MP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438120" y="762120"/>
            <a:ext cx="826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THLETIC SPORTSWEAR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765520" y="2590920"/>
            <a:ext cx="36129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14480" y="4419720"/>
            <a:ext cx="8915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VOLUSIA  COUNTY  ELEMENTARY  SCH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62120" y="761760"/>
            <a:ext cx="58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CHANNEL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946240" y="2666880"/>
            <a:ext cx="3251520" cy="22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1880" y="762120"/>
            <a:ext cx="7140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STAURANT IS LOCATED IN DELEON SPRINGS STATE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EMALE PRO SOCCER TEAM BASED IN WASHINGTON, D.C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3560" y="761760"/>
            <a:ext cx="761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ACE SHUTTLE WAS THE FIRST TO BE RETIRED, AFTER 39 MISS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33240" y="761760"/>
            <a:ext cx="7877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ITLE OF THE PATRIOTIC SONG WHOSE LYRICS START "MY COUNTRY 'TIS OF TH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69920" y="761760"/>
            <a:ext cx="880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129120" y="2057400"/>
            <a:ext cx="288576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7480" y="762120"/>
            <a:ext cx="896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FFSHORE DRILLING RIG CAUGHT FIRE AND SANK IN 2010, CAUSING THE LARGEST OIL SPILL EVER IN U.S. WA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24T18:37:32Z</dcterms:modified>
  <cp:revision>459</cp:revision>
  <dc:subject/>
  <dc:title>Slide 1</dc:title>
</cp:coreProperties>
</file>