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A7E3-2932-4EBD-960B-4EFE24629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6B83-549F-4CDF-A80A-289CED23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3CAF-2861-4342-933D-D194D8CE7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EEF6-98B7-4F04-813C-D30775355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D1B3-0867-402F-8C01-B5AC01942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9418-0857-4B58-8234-900D89E8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7C27-B865-42D4-B5BC-F19D4A705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E7CB-395B-4B72-B19B-4F739F301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7F88-C4A1-4FEC-9F4F-C8A5CE08A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1D1F-44B8-4CEE-A6EC-020F3D8D0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6389-7091-4045-A587-294F42875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169B-D700-47CD-A3E8-DCDE2347A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09D4-B144-440E-BD19-E49C913FF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46A0-7979-48B8-82BC-A2A8B1531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7E5C-B9B8-4C9C-9079-95B219667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C9F2-B083-49FD-8FD0-0DF3E4036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912F9-3A0D-4B0F-9C0F-AA7424993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D8CF-7FDF-40E7-8646-EBFCCBF71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FA0C9-DCB2-442B-9F50-D4D8D5648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5FF8-9967-43EC-A956-BE90DF6AE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E71F-F7B4-48E5-A158-E83EBD13C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BE75-ABC1-4397-9B0A-4B968B06F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9D3B-7DA0-4CE9-BAA5-FF956238E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9903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64960" y="761760"/>
            <a:ext cx="861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TED CITY IN VOLUSIA COUNTY UNTIL 2000, WHEN DELTONA CLAIMED THAT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490760" y="762120"/>
            <a:ext cx="616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DELAW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12800" y="762120"/>
            <a:ext cx="771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HOSTED THE 2012 DEMOCRATIC CONVENTION AND THE 2020 REPUBLICAN CONVEN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APITAL OF THE CONFEDERACY DURING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LA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334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'S AIRPORT IS THE BUSIEST (IN TERMS OF PASSENGERS)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PO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ITY CONTAIN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MONUMENTS TO VETERANS AND WAR CASUALTIES, AFTER WASHINGTON,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90480" y="762120"/>
            <a:ext cx="7763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CAPITAL CONTAINING MORE THAN A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6680" y="762120"/>
            <a:ext cx="827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, 30 YEARS AFTER THE GREAT FIRE OF 1871,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TED CIT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42520" y="762120"/>
            <a:ext cx="625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DELAW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SAS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4000" y="762120"/>
            <a:ext cx="8496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U.S. CITY THAT IS CONTAINED IN TWO DIFFERENT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TONA  B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TED CITY IN VOLUSIA COUNTY UNTIL 2000, WHEN DELTONA CLAIMED THAT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160" y="4952880"/>
            <a:ext cx="90676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3000"/>
          </a:bodyPr>
          <a:p>
            <a:pPr marL="113040" indent="-11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CATIONS  OF  NASCAR  CUP  R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13040" indent="-113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IT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6040" y="761760"/>
            <a:ext cx="77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HOSTED THE 2012 DEMOCRATIC CONVENTION AND THE 2020 REPUBLICAN CONVEN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09520" y="762120"/>
            <a:ext cx="6923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APITAL OF THE CONFEDERACY DURING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15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'S AIRPORT IS THE BUSIEST (IN TERMS OF PASSENGERS)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ITY CONTAIN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MONUMENTS TO VETERANS AND WAR CASUALTIES, AFTER WASHINGTON, D.C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STATE CAPITAL CONTAINING MORE THAN A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8440" y="761760"/>
            <a:ext cx="8364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, 30 YEARS AFTER THE GREAT FIRE OF 1871,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POPULATED CIT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3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U.S. CITY THAT IS CONTAINED IN TWO DIFFERENT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4T18:40:36Z</dcterms:modified>
  <cp:revision>463</cp:revision>
  <dc:subject/>
  <dc:title>Slide 1</dc:title>
</cp:coreProperties>
</file>