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AB30-B737-42DF-96EB-4E96D4F9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AB17-B819-47D6-B64E-94AFA640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672-644D-41DE-9971-F55FA9DC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C065-7297-4473-B420-3FC70DD6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FA1-FB8C-43EC-A6DB-D06B6585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C73-4A5B-4DA5-A1AF-05D7ABD0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C44-8506-48AD-8C5F-C75E8CED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01F5-0C55-4B3C-9FC5-8164E941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8FE-34FC-4AF0-BCD5-100DCF7C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510-0330-498A-A095-C33AAE1D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DB55-F9A3-4C12-B800-23A6E31B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E7C-92D4-4DD2-80B3-2313CF29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A42D-E1F9-46FF-8DD6-A20D9ED4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E45E-9491-4BED-A310-CF019888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0D0F-6898-4E0A-9BB3-57FBF724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952-9618-4876-9098-2981A286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C1A0-466D-4839-AA64-0D20D2FD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2C82-8F18-4689-84A8-A4F413C2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244-3942-4A33-947D-59070534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ADD-7254-4891-BDF0-61FD26DB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BCB-1A57-497A-9F0C-B14FDE4A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39FA-A426-4FA1-A8B8-4E69D048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93C5-394D-4F32-A386-FCA223FA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TED CITY IN VOLUSIA COUNTY UNTIL 2000, WHEN DELTONA CLAIMED THAT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90760" y="762120"/>
            <a:ext cx="616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2 DEMOCRATIC CONVENTION AND THE 2020 REPUBLICAN CO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34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IS THE BUSIEST (IN TERMS OF PASSENGERS)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CONTAIN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MONUMENTS TO VETERANS AND WAR CASUALTIES, AFTER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CONTAINING MORE THAN A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30 YEARS AFTER THE GREAT FIRE OF 1871,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TED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2520" y="762120"/>
            <a:ext cx="625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U.S. CITY THAT IS CONTAINED IN TWO DIFFEREN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TONA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TED CITY IN VOLUSIA COUNTY UNTIL 2000, WHEN DELTONA CLAIMED T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160" y="4952880"/>
            <a:ext cx="90676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IONS  OF  NASCAR  CUP  R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2 DEMOCRATIC CONVENTION AND THE 2020 REPUBLICAN CO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9520" y="762120"/>
            <a:ext cx="6923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IS THE BUSIEST (IN TERMS OF PASSENGERS)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CONTAIN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MONUMENTS TO VETERANS AND WAR CASUALTIES, AFTER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CONTAINING MORE THAN A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30 YEARS AFTER THE GREAT FIRE OF 1871,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TED C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U.S. CITY THAT IS CONTAINED IN TWO DIFFERENT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40:36Z</dcterms:modified>
  <cp:revision>463</cp:revision>
  <dc:subject/>
  <dc:title>Slide 1</dc:title>
</cp:coreProperties>
</file>