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7675-EF7A-404F-B063-8CE84DF5C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E7D0-337B-4CE1-951C-BF9E36888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C16B-383F-455A-8A6A-796C4115D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A801-B75A-4F9C-9669-AD23B3BC9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0F6D-2159-41DD-BCF9-BEF212887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44C6-6FD2-487A-8BB7-DB0E9165B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1088-06AC-4F3E-A5F4-691D5EA2D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DB7C-8567-4F0D-8C6D-D3DABB663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593A-25E1-4961-9AFB-6BFAB9D92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FB4A-DAF1-4BC4-8FCF-C4B3AF87F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1A96-12D0-4C44-AFF1-83093C7A5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707C-569F-4201-B7C2-D82542827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D9C2-C0D7-4040-8716-F65619DC0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E929-304A-4CD8-9273-39019183B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EED6-52D9-4654-935A-DBBDA9C0A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EABA-65DF-4BB3-B8D5-D5023A5DE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3997-AE57-4DE3-9254-3995210EA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D936-71A7-458E-A2C1-B4E6483AF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F43D-1730-4276-B4E4-0332064A5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D994-4949-48A8-BAF7-C9BD0E6EA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2BB2-7770-4302-8B0D-F241F2567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35E5-EC3D-4056-B7CC-54DE9F8D6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D6F6-439A-4C58-B1F5-24EF3C7FF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60360" y="761760"/>
            <a:ext cx="8421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ROMANTIC COMEDY IS KNOWN FOR ITS 12-SECOND KISS BETWEEN KEVIN KLINE AND TOM SELLI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)  BOOK  (OF  MORM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WORD OF THE TITLE OF THE SACRED TEXT OF THE LATTER-DAY SAI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600" y="49528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74800" y="762120"/>
            <a:ext cx="7394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YPOGRAPHY, WHAT IS 1/72 OF AN INCH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62080" y="762120"/>
            <a:ext cx="8653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NTENTIONAL / EXPECTED LEANING OR TILTING OF A SHIP IS CALLED HEEL.  WHAT IS UNINTENTIONAL / UNEXPECTED TILTING OF A SHIP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RSON  SCOTT)  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14360" y="762120"/>
            <a:ext cx="8315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LAST NAME OF THE AUTHOR OF "ENDER'S GAME" AND ITS SEQUEL "SPEAKER FOR THE DEAD", BOTH OF WHICH WON HUGO AND NEBULA AWAR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57120" y="762120"/>
            <a:ext cx="842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ANIMATED FILM THAT BEGINS WITH A 12-MINUTE MONTAGE OF A COUPLE AGING WAS NOMINATED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CK  IN  THE)  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98640" y="762120"/>
            <a:ext cx="7146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NAME OF THE COMPANY WHOSE STOCK SYMBOL IS "J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(ZUCKERBER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54200" y="762120"/>
            <a:ext cx="763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EO OF FACE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14480" y="762120"/>
            <a:ext cx="711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WORD OF THE TITLE OF THE SACRED TEXT OF THE LATTER-DAY SAI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96960" y="762120"/>
            <a:ext cx="7748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"FRIEND" IN BRITAIN AND "ROMANTIC PARTNER" IN AME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&amp; 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69720" y="762120"/>
            <a:ext cx="840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ROMANTIC COMEDY IS KNOWN FOR ITS 12-SECOND KISS BETWEEN KEVIN KLINE AND TOM SELLE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60400" y="4943520"/>
            <a:ext cx="5621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CHEC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YPOGRAPHY, WHAT IS 1/72 OF AN INCH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37960" y="762120"/>
            <a:ext cx="8668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NTENTIONAL / EXPECTED LEANING OR TILTING OF A SHIP IS CALLED HEEL.  WHAT IS UNINTENTIONAL / UNEXPECTED TILTING OF A SHIP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LAST NAME OF THE AUTHOR OF "ENDER'S GAME" AND ITS SEQUEL "SPEAKER FOR THE DEAD", BOTH OF WHICH WON HUGO AND NEBULA AWARD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8680" y="761760"/>
            <a:ext cx="848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ANIMATED FILM THAT BEGINS WITH A 12-MINUTE MONTAGE OF A COUPLE AGING WAS NOMINATED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82800" y="761760"/>
            <a:ext cx="71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NAME OF THE COMPANY WHOSE STOCK SYMBOL IS "J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EO OF FACEB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84280" y="762120"/>
            <a:ext cx="7975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"FRIEND" IN BRITAIN AND "ROMANTIC PARTNER" IN AME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24T18:43:10Z</dcterms:modified>
  <cp:revision>456</cp:revision>
  <dc:subject/>
  <dc:title>Slide 1</dc:title>
</cp:coreProperties>
</file>