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F4ED-271E-4FDD-B56D-91185589A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525B-10D7-4719-B122-DFA81616E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4CEE-01A1-4A44-97F9-0BEF2857C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83C5-81FF-4780-A85A-D045D808F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F974-E231-4A64-94A3-0902E30B4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A212-F4E3-47AD-A5AD-5CCE061C7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5D55-C863-4108-B9F2-C1C135C3A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3C7E-8A00-48A9-9240-2B0F5E7F9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2B40-0E78-438D-BAEB-7B758BED4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29D3-58CF-4228-A0D3-029206E69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F8A0-C79C-462B-BB81-D1DF340D2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969A-5362-4092-97EF-464CA6497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70B5-6340-4033-B756-3BB7DA7B1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F019-8AE2-418B-A3EE-EC9D0F4BE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F4D4-EF20-4604-A9CB-B4E016D60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A69C-7144-4A42-BAA6-A6C0011A4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AEA1-666E-4BAC-A2F7-9AE18CC57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2FA2-F8E6-492F-95AB-D8BB0E064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EAF5-0CA1-4422-81E4-E31E99BF7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2CEE-ECDE-4DFA-9D0B-87D66C34E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37CE-B568-47DE-BF69-39B4BEFDB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5C12-34D1-40FB-8DD1-3188E4620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597B-BCE9-4B22-B057-C2B15602E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60360" y="761760"/>
            <a:ext cx="8421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ROMANTIC COMEDY IS KNOWN FOR ITS 12-SECOND KISS BETWEEN KEVIN KLINE AND TOM SELLI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)  BOOK  (OF  MORM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WORD OF THE TITLE OF THE SACRED TEXT OF THE LATTER-DAY SAI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9528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74800" y="762120"/>
            <a:ext cx="7394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YPOGRAPHY, WHAT IS 1/72 OF AN INCH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62080" y="762120"/>
            <a:ext cx="8653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NTENTIONAL / EXPECTED LEANING OR TILTING OF A SHIP IS CALLED HEEL.  WHAT IS UNINTENTIONAL / UNEXPECTED TILTING OF A SHIP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RSON  SCOTT)  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14360" y="762120"/>
            <a:ext cx="8315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LAST NAME OF THE AUTHOR OF "ENDER'S GAME" AND ITS SEQUEL "SPEAKER FOR THE DEAD", BOTH OF WHICH WON HUGO AND NEBULA AWAR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57120" y="762120"/>
            <a:ext cx="842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ANIMATED FILM THAT BEGINS WITH A 12-MINUTE MONTAGE OF A COUPLE AGING WAS NOMINATED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CK  IN  THE)  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98640" y="762120"/>
            <a:ext cx="7146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NAME OF THE COMPANY WHOSE STOCK SYMBOL IS "J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(ZUCKERBER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54200" y="762120"/>
            <a:ext cx="763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EO OF FACE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14480" y="762120"/>
            <a:ext cx="711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WORD OF THE TITLE OF THE SACRED TEXT OF THE LATTER-DAY SAI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96960" y="762120"/>
            <a:ext cx="7748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"FRIEND" IN BRITAIN AND "ROMANTIC PARTNER" IN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&amp; 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69720" y="762120"/>
            <a:ext cx="840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ROMANTIC COMEDY IS KNOWN FOR ITS 12-SECOND KISS BETWEEN KEVIN KLINE AND TOM SELLE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60400" y="4943520"/>
            <a:ext cx="562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CHEC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YPOGRAPHY, WHAT IS 1/72 OF AN INCH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37960" y="762120"/>
            <a:ext cx="8668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NTENTIONAL / EXPECTED LEANING OR TILTING OF A SHIP IS CALLED HEEL.  WHAT IS UNINTENTIONAL / UNEXPECTED TILTING OF A SHIP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LAST NAME OF THE AUTHOR OF "ENDER'S GAME" AND ITS SEQUEL "SPEAKER FOR THE DEAD", BOTH OF WHICH WON HUGO AND NEBULA AWARD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8680" y="761760"/>
            <a:ext cx="848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ANIMATED FILM THAT BEGINS WITH A 12-MINUTE MONTAGE OF A COUPLE AGING WAS NOMINATED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82800" y="761760"/>
            <a:ext cx="71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NAME OF THE COMPANY WHOSE STOCK SYMBOL IS "J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EO OF FACE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84280" y="762120"/>
            <a:ext cx="7975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"FRIEND" IN BRITAIN AND "ROMANTIC PARTNER" IN AME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24T18:43:10Z</dcterms:modified>
  <cp:revision>456</cp:revision>
  <dc:subject/>
  <dc:title>Slide 1</dc:title>
</cp:coreProperties>
</file>