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9FC9-9920-4FD5-9BE9-147F23870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9C0F-E554-4F25-8BA0-23B46EF65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0C0B-5470-40D0-ACCB-E932B31B4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6B90-A40C-4385-8215-5119CB872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C0DD-6AE5-4186-BF04-B08D8AE6C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8F92-6883-43BB-811D-452EA6970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D2D4-EEDD-4680-A592-6077AAED1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8816-B946-42E5-B20F-A290CBAEA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905A-D22E-47B4-B9D7-C20662AD1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B0BF-2AA4-4842-91BF-864399D79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36DC-6788-493A-B039-8C0F2E8DF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5AA1-DE03-45A2-9A00-ED53DCD1D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D9EC-42D7-419B-B193-016CBE332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1B07-183D-42C2-8C01-2A5E6A1C9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1572-98D8-499D-827C-90B92DB52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D4B4-36CB-469F-B930-2C925185B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1119-5A77-4F12-9150-D834A5B3B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B0E8-4365-432B-9DEC-DB3AC901F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0F97-B912-4C39-B70A-6D7FEE98C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CC96-6876-4D43-AC3A-EAB7BF9AE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0F26-F8FA-4034-A1B5-602A55651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8729-EDFD-404E-AC0C-3CBD81C71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DAB3-46B4-4869-A55A-E2CCB1F89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9A50-9BE4-4257-919B-9F589C602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9903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 COMMON      THREADS TONIGH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31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72464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V SHOW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D  SQU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271600" y="1295280"/>
            <a:ext cx="460080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831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MB3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314440" y="1279440"/>
            <a:ext cx="4515120" cy="36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.W.A.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122480" y="1295280"/>
            <a:ext cx="68990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086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'S  ANG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209680" y="1316160"/>
            <a:ext cx="472464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–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312920" y="1295280"/>
            <a:ext cx="6518160" cy="366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CKFORD 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268280" y="1295280"/>
            <a:ext cx="6607440" cy="36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: WHAT CRIME-FIGHTING TV SHOWS HAD THESE CASTS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MINGTON 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LO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317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72464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V SHOW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52520" y="5029200"/>
            <a:ext cx="6438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  IN  LOS  A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271600" y="1295280"/>
            <a:ext cx="460080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266920" y="1295280"/>
            <a:ext cx="461016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122480" y="1295280"/>
            <a:ext cx="6899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209680" y="1316160"/>
            <a:ext cx="472464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12920" y="1295280"/>
            <a:ext cx="651816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268280" y="1295280"/>
            <a:ext cx="660744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64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1-28T01:05:18Z</dcterms:modified>
  <cp:revision>288</cp:revision>
  <dc:subject/>
  <dc:title>Slide 1</dc:title>
</cp:coreProperties>
</file>