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2F9B-E06D-49FF-862A-875F6975C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383C-C0B1-4172-8EDA-04457955F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ACA3-8D94-4F20-B54E-C5307DB69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B8C3-DB15-43CF-900B-06F090B3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5EB8-E34B-48CC-A8E9-269042986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7325-E9EC-44B2-A100-AA4D0D181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F735-D1CF-4BB6-ABDC-6E2092A56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B16E-CA74-4328-8190-8568E3FC0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7385-38D6-4149-B049-09E3929E9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9040-78E4-4C28-8BE7-6FCFEE702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36A1-8544-4382-A1D5-A75E6BF2B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3354-F305-49F5-9D38-5E43DCEA0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08E7-3669-4C32-855D-B510A0D1C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1F9B-B58B-464D-997D-E09FADC96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084E-205F-4729-9075-F98F7AFBB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00B5-FCFB-4E53-A150-7ED706074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599A-4EFD-4E1D-880C-81462A942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23F1-F227-4651-B19E-3E7B776BF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F05A-4AC3-4705-B4C3-E32290CE9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952B-D43F-4FA1-8A72-F5DBAD9B4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C2D4-679A-4EB1-AA8B-D75982B55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F4D2-3F2B-4032-BFA4-F378D6C6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8E5E-E2F4-468E-BB05-9EFFDE4CB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3116-0C59-4BB6-8244-9B010E017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9903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 COMMON      THREADS TONIGH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31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2464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V SHOW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D  SQU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271600" y="1295280"/>
            <a:ext cx="460080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831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MB3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14440" y="1279440"/>
            <a:ext cx="451512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.W.A.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122480" y="1295280"/>
            <a:ext cx="68990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08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'S  ANG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209680" y="1316160"/>
            <a:ext cx="472464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–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312920" y="1295280"/>
            <a:ext cx="6518160" cy="36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FORD 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268280" y="1295280"/>
            <a:ext cx="6607440" cy="36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WHAT CRIME-FIGHTING TV SHOWS HAD THESE CASTS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MINGTON 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LO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317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2464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V SHOW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352520" y="5029200"/>
            <a:ext cx="6438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  IN  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271600" y="1295280"/>
            <a:ext cx="460080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266920" y="1295280"/>
            <a:ext cx="461016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122480" y="1295280"/>
            <a:ext cx="6899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209680" y="1316160"/>
            <a:ext cx="472464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12920" y="1295280"/>
            <a:ext cx="651816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268280" y="1295280"/>
            <a:ext cx="660744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64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1-28T01:05:18Z</dcterms:modified>
  <cp:revision>288</cp:revision>
  <dc:subject/>
  <dc:title>Slide 1</dc:title>
</cp:coreProperties>
</file>