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58A7-41B7-4129-98DB-C413B4493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7A6A-0B39-47EC-AE35-4D38E9325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C0CB-63D8-4DDD-968C-E2F818F4E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1411-9A28-4DC3-A924-16C225EA1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F787-2476-4F64-8240-B8361CE3C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F8B7-C028-4174-BDB2-B96665320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11E7-DDCD-44D1-96FE-1B3A8A323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E5DB-2F64-4CBD-A7C8-14C3E8437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95AC-BA81-4A72-B7CF-8F21612D0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EEA1-2AF0-4C70-A17B-9A4B296B6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BF92-776E-4C2F-A7AC-E83925C3D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1E97-0897-4EA1-804E-0975E19E1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6F80-04A7-4EB1-AC81-D6159A234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AFE0-D698-42D8-A492-F56EFEC7C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DB23-FFF2-42D2-9DBD-C1C127E10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C384-BDBB-461C-AF85-113BD2E90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E2FF-9D61-40C4-BC2E-41E87F145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AC05-0F89-431B-968D-01A0FC0FC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C235-56FE-4AB3-B5AD-270A74004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9A8C-34FE-4D26-AE94-90A4328A1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3906-EE50-4CF9-AFC7-F8C7447E4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B466-A90D-4ECA-8AB3-FB669D77C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73D4-98DF-4BAD-8AFA-B50799DBA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90520" y="761760"/>
            <a:ext cx="8562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MALL BOTTLES, GLASSES, OR KEGS OF BEER ARE PRECEDED WITH WHAT ANIMAL NAME TO INDICATE THEIR SMALL SI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OF THE TOP-10 BRAND NAMES IN BOTH CHOCOLATE AND SO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93720" y="762120"/>
            <a:ext cx="775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BABE", WHAT SORT OF ANIMAL IS BA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89120" y="762120"/>
            <a:ext cx="756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CROP IN THE SOUTHERN U.S. IN THE 180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39960" y="762120"/>
            <a:ext cx="726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INNER OF THE TOUR DE FRANCE GETS WHAT COLOR JERS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46200" y="762120"/>
            <a:ext cx="7850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DOMESTICATED ANIMAL NOT MENTIONED IN THE B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71360" y="762120"/>
            <a:ext cx="8801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2 ANIMALS OF THE CHINESE ZODIAC ARE DOG, DRAGON, GOAT, HORSE, MONKEY, PIG, RABBIT, RAT, ROOSTER,    SNAKE, TIGE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(HOP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85800" y="762120"/>
            <a:ext cx="7808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PERSON WHO HOSTED THE ACADEMY AWARD 19 TIMES, MORE THAN ANY OTHER PE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4760" y="762120"/>
            <a:ext cx="8751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OF THE TOP-10 BRAND NAMES IN BOTH CHOCOLATE AND SOA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A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16040" y="762120"/>
            <a:ext cx="7711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YSPHASIA IS A DIFFICULTY OR INABILITY TO DO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58840" y="762120"/>
            <a:ext cx="862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MALL BOTTLES, GLASSES, OR KEGS OF BEER ARE PRECEDED WITH WHAT ANIMAL NAME TO INDICATE THEIR SMALL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47800" y="4952880"/>
            <a:ext cx="7448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TAI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03440" y="761760"/>
            <a:ext cx="773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BABE", WHAT SORT OF ANIMAL IS BA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95160" y="762120"/>
            <a:ext cx="7753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CROP IN THE SOUTHERN U.S. IN THE 180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4040" y="762120"/>
            <a:ext cx="749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INNER OF THE TOUR DE FRANCE GETS WHAT COLOR JERS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9440" y="761760"/>
            <a:ext cx="784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DOMESTICATED ANIMAL NOT MENTIONED IN THE BI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9680" y="761760"/>
            <a:ext cx="8682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2 ANIMALS OF THE CHINESE ZODIAC ARE DOG, DRAGON, GOAT, HORSE, MONKEY, PIG, RABBIT, RAT, ROOSTER,    SNAKE, TIGER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PERSON WHO HOSTED THE ACADEMY AWARD 19 TIMES, MORE THAN ANY OTHER PE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96960" y="762120"/>
            <a:ext cx="7748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YSPHASIA IS A DIFFICULTY OR INABILITY TO DO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8T01:09:37Z</dcterms:modified>
  <cp:revision>496</cp:revision>
  <dc:subject/>
  <dc:title>Slide 1</dc:title>
</cp:coreProperties>
</file>