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A6C4-2432-4020-B913-796A6417D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ACD1-1E99-4562-B21C-F14A3D2D2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BB4E-1ACE-4EB6-8A53-BF34EBC39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548A-956E-4655-89FE-0E2DE2BEE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4385-2991-4B50-9A4D-9FB399540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6A4-25B8-4621-AA7C-75625B99E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A2D9-D424-44D7-826C-642139A6A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C7AF-A6BA-4EB0-A877-60BBCE898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387B-35BA-4F8A-B0D4-1DE7C3D3C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6471-5BF7-40C0-92A3-768BD3907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3822-115B-47F6-B3BA-93B148D87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35AD-76A4-408E-8B2C-B1F4B72BF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3D75-738D-4E3B-A2C4-F88794017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D883-F005-4625-9EBD-BBAB31C79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9B12-3CC2-4DCC-B167-4208D11BE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F14-D30D-4A6A-8ED7-4E1D5BB83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EFC7-1F71-405D-8800-7CF80215A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5895-1518-482D-B757-05A5607B9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EDC4-75FB-4CA8-97ED-EA1D1DACB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9F0E-6A96-422B-AB4F-09EEA806D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751A-F7C0-4D22-B082-32F1492F3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D02F-0342-4082-8C5E-B07C90D83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C3BD-E40C-44C2-9D44-0D5B3A4E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90520" y="761760"/>
            <a:ext cx="856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MALL BOTTLES, GLASSES, OR KEGS OF BEER ARE PRECEDED WITH WHAT ANIMAL NAME TO INDICATE THEIR SMALL S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OF THE TOP-10 BRAND NAMES IN BOTH CHOCOLATE AND SO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3720" y="762120"/>
            <a:ext cx="775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BABE", WHAT SORT OF ANIMAL IS BA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89120" y="762120"/>
            <a:ext cx="756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CROP IN THE SOUTHERN U.S. IN THE 180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39960" y="762120"/>
            <a:ext cx="726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INNER OF THE TOUR DE FRANCE GETS WHAT COLOR JERS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6200" y="762120"/>
            <a:ext cx="7850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DOMESTICATED ANIMAL NOT MENTIONED IN THE B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1360" y="762120"/>
            <a:ext cx="8801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2 ANIMALS OF THE CHINESE ZODIAC ARE DOG, DRAGON, GOAT, HORSE, MONKEY, PIG, RABBIT, RAT, ROOSTER,    SNAKE, TIGE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(HOP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85800" y="762120"/>
            <a:ext cx="7808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ERSON WHO HOSTED THE ACADEMY AWARD 19 TIMES, MORE THAN ANY OTHER PE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4760" y="762120"/>
            <a:ext cx="8751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OF THE TOP-10 BRAND NAMES IN BOTH CHOCOLATE AND SOA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16040" y="762120"/>
            <a:ext cx="7711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YSPHASIA IS A DIFFICULTY OR INABILITY TO DO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58840" y="762120"/>
            <a:ext cx="862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MALL BOTTLES, GLASSES, OR KEGS OF BEER ARE PRECEDED WITH WHAT ANIMAL NAME TO INDICATE THEIR SMALL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47800" y="4952880"/>
            <a:ext cx="7448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TAI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03440" y="761760"/>
            <a:ext cx="773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BABE", WHAT SORT OF ANIMAL IS BA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95160" y="762120"/>
            <a:ext cx="7753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CROP IN THE SOUTHERN U.S. IN THE 180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INNER OF THE TOUR DE FRANCE GETS WHAT COLOR JERS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DOMESTICATED ANIMAL NOT MENTIONED IN THE BI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9680" y="761760"/>
            <a:ext cx="8682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2 ANIMALS OF THE CHINESE ZODIAC ARE DOG, DRAGON, GOAT, HORSE, MONKEY, PIG, RABBIT, RAT, ROOSTER,    SNAKE, TIGE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ERSON WHO HOSTED THE ACADEMY AWARD 19 TIMES, MORE THAN ANY OTHER PE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96960" y="762120"/>
            <a:ext cx="7748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YSPHASIA IS A DIFFICULTY OR INABILITY TO DO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8T01:09:37Z</dcterms:modified>
  <cp:revision>496</cp:revision>
  <dc:subject/>
  <dc:title>Slide 1</dc:title>
</cp:coreProperties>
</file>