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5513-F8B7-4BC5-A159-6C031EFA2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C841-82C9-4B1B-A2D3-91C420E06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7296-34F6-4804-80E4-7F0EB6932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7A2C-ED8F-463B-B5D7-0E4D0F8F1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BA63-1417-4B1D-932E-44A53ADB7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9417-A4E6-46B2-8CB0-4C2BCDC9F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F410-8698-4CEB-9480-F7AF67C47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D617-A58B-44E9-B047-0BB4F0DE7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6758-B9FB-4740-BCE4-BB4772CF4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9160-3195-4720-8C3F-5E8202E34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19C1-CCC4-4918-84CE-8C7C7212A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C4CD-A301-4098-83AF-33D2EABB0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4D90-AABC-4BE3-A144-2389BB4CD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C001-6FE3-4802-AA84-B1B5F45EF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F5D0-2358-4726-82F5-76B46547E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5194-874A-41B3-AD8E-8F53FF515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43B6-F208-49EB-857F-515EF6F63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4EF1-781D-4FC7-8858-66B088FF3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6D58-F6F1-42C1-BA6B-16B6AEF0B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B9A7-3E3A-4EDF-868F-2284FB7B2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5BC9-E6B6-45D9-B49F-D196D03F7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23D4-A72B-489D-B714-B2C3DFD72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50B7-5509-4ECD-BAA8-A8E9943D6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.K. BEFORE BORIS JOHN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LION  MAN  M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RGELY ATTENDED EVENT TOOK PLACE ON THE NATIONAL MALL IN WASHINGTON, D.C. ON OCTOBER 16, 1995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NE 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WIFE OF JOHNNY CA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006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UNT  FOR  RED  OCTO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ESPIONAGE FILM STARRED SEAN CONNERY AS A SOVIET NAVAL CAP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LONG  DEC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NTING CROWS HAS HAD TWO #1 HIT SONGS.  THE FIRST WAS "MR. JONES".  WHAT WAS THE SECO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006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GUST  AND  EVERYTHING  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AKING OF COUNTING CROWS, WHAT WAS THE NAME OF THEIR FIRST ALBUM, THAT CONTAINED THE SONG "MR. JON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N  ON  THE  FOURTH  OF  J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IVER STONE MADE 3 FILMS ABOUT THE VIETNAM WAR.  WHICH ONE CAME AFTER "PLATOON" AND BEFORE "HEAVEN ON EAR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UARY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ETTY DRAPER ON "MAD MEN" AND MELISSA CHARTRES ON "LAST MAN ON EAR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RGELY ATTENDED EVENT TOOK PLACE ON THE NATIONAL MALL IN WASHINGTON, D.C. ON OCTOBER 16, 1995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19320" y="44197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KE  ME  UP  WHEN  SEPTEMBER  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HIT SONG BY GREEN DAY WAS WRITTEN ABOUT A FATHER'S DEATH, BUT IS REGARDED AS A DEDICATION TO VICTIMS OF 9/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RESA 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09800" y="762120"/>
            <a:ext cx="7124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.K. BEFORE BORIS JOHN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95360" y="480060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MON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WIFE OF JOHNNY CA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ESPIONAGE FILM STARRED SEAN CONNERY AS A SOVIET NAVAL CAP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NTING CROWS HAS HAD TWO #1 HIT SONGS.  THE FIRST WAS "MR. JONES".  WHAT WAS THE SECO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AKING OF COUNTING CROWS, WHAT WAS THE NAME OF THEIR FIRST ALBUM, THAT CONTAINED THE SONG "MR. JON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IVER STONE MADE 3 FILMS ABOUT THE VIETNAM WAR.  WHICH ONE CAME AFTER "PLATOON" AND BEFORE "HEAVEN ON EAR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ETTY DRAPER ON "MAD MEN" AND MELISSA CHARTRES ON "LAST MAN ON EAR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HIT SONG BY GREEN DAY WAS WRITTEN ABOUT A FATHER'S DEATH, BUT IS REGARDED AS A DEDICATION TO VICTIMS OF 9/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6T22:26:30Z</dcterms:created>
  <dc:creator>Jennifer Budzinski</dc:creator>
  <dc:description/>
  <dc:language>en-US</dc:language>
  <cp:lastModifiedBy>Erich Friedman</cp:lastModifiedBy>
  <dcterms:modified xsi:type="dcterms:W3CDTF">2020-08-24T23:33:06Z</dcterms:modified>
  <cp:revision>400</cp:revision>
  <dc:subject/>
  <dc:title>Slide 1</dc:title>
</cp:coreProperties>
</file>