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6694-B33F-492F-9426-6317DBAFF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604B-1BB0-4BDF-A00B-02B2E45F7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767B-9DD2-4900-9B4E-38C6C2DD0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27E5-4EE8-433A-A067-F8FFDAA3F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065F-1187-4C92-9EAE-1E2111FD7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1823-97F1-4DA2-AC31-29E9B0A99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D737-F1DA-425F-A69A-271816C06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B471-C977-43C4-A7C8-FA809A8DA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C030-44DE-4D66-BD3A-0C9726744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0EF2-589B-4919-9531-796FFEB24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E0CE-D284-47A4-97D2-404B2EC5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5C4F-AAC8-4029-8177-63CB5DD0A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8F1C-CB3E-40BD-845D-1EA14901B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3301-A048-4CB2-A2A2-04578FDA3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F17A-7C57-4DF8-870B-DD14A0AD9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DEFB-26CF-4020-A07B-68419F8B1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FB38-0EAB-423A-9FE8-7CB6C23D2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3AB3-7A9D-468B-8CBD-368477C71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0600-AF4A-4176-8823-54055964A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286A-A8C6-4002-BCD1-CB64D1B92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9917-39CD-463F-8077-09DC61C13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DC9C-E0D6-4EAA-BF82-F92EA498E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2967-181F-4323-9F2C-C252BE9E3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BEFORE BORIS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ION  MAN  M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LY ATTENDED EVENT TOOK PLACE ON THE NATIONAL MALL IN WASHINGTON, D.C. ON OCTOBER 16, 1995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E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WIFE OF JOHNNY C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NT  FOR  RED  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ESPIONAGE FILM STARRED SEAN CONNERY AS A SOVIET NAVAL CAP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LONG  DEC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NTING CROWS HAS HAD TWO #1 HIT SONGS.  THE FIRST WAS "MR. JONES".  WHAT WAS THE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00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GUST  AND  EVERYTHING 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ING OF COUNTING CROWS, WHAT WAS THE NAME OF THEIR FIRST ALBUM, THAT CONTAINED THE SONG "MR. JON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ON  THE  FOURTH  OF  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IVER STONE MADE 3 FILMS ABOUT THE VIETNAM WAR.  WHICH ONE CAME AFTER "PLATOON" AND BEFORE "HEAVE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UARY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ETTY DRAPER ON "MAD MEN" AND MELISSA CHARTRES ON "LAST MA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LY ATTENDED EVENT TOOK PLACE ON THE NATIONAL MALL IN WASHINGTON, D.C. ON OCTOBER 16, 1995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19320" y="44197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KE  ME  UP  WHEN  SEPTEMBER  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HIT SONG BY GREEN DAY WAS WRITTEN ABOUT A FATHER'S DEATH, BUT IS REGARDED AS A DEDICATION TO VICTIMS OF 9/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SA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09800" y="762120"/>
            <a:ext cx="712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BEFORE BORIS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8006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WIFE OF JOHNNY CA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ESPIONAGE FILM STARRED SEAN CONNERY AS A SOVIET NAVAL CAP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NTING CROWS HAS HAD TWO #1 HIT SONGS.  THE FIRST WAS "MR. JONES".  WHAT WAS THE SEC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ING OF COUNTING CROWS, WHAT WAS THE NAME OF THEIR FIRST ALBUM, THAT CONTAINED THE SONG "MR. JON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IVER STONE MADE 3 FILMS ABOUT THE VIETNAM WAR.  WHICH ONE CAME AFTER "PLATOON" AND BEFORE "HEAVE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ETTY DRAPER ON "MAD MEN" AND MELISSA CHARTRES ON "LAST MA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HIT SONG BY GREEN DAY WAS WRITTEN ABOUT A FATHER'S DEATH, BUT IS REGARDED AS A DEDICATION TO VICTIMS OF 9/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6T22:26:30Z</dcterms:created>
  <dc:creator>Jennifer Budzinski</dc:creator>
  <dc:description/>
  <dc:language>en-US</dc:language>
  <cp:lastModifiedBy>Erich Friedman</cp:lastModifiedBy>
  <dcterms:modified xsi:type="dcterms:W3CDTF">2020-08-24T23:33:06Z</dcterms:modified>
  <cp:revision>400</cp:revision>
  <dc:subject/>
  <dc:title>Slide 1</dc:title>
</cp:coreProperties>
</file>