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1DBE-6197-44B6-BED3-E793A1C48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050B-9B5C-4A64-8B09-8DA6C3A78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1C6D-A3C2-4973-887A-EEE6E5EF8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EBBC-E204-4902-BDB1-AEA82EBCB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EB08-F432-4BB9-B9AE-B7DDADD06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B53D-E17C-415D-970B-F17465FD5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3609-3824-4D28-BF63-8AA30C028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E317-03CE-4BDA-86E3-5B86DAFCD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91D3-CA59-4F96-BD9D-1AD1E727C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9804-1E22-427C-81CD-D64B38349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23DF-17DF-4D1D-92D6-1DF600B2C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FF1F-06F8-4DDE-83B9-B804992D7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1CD7-2351-4A8C-B59B-311597782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7259-F7A7-4558-A09A-1643AD3F3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38FA-0BE7-4F8A-BCDE-E774911E8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AE7A-5B4C-425D-9DBD-A817B0C4B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ADD8-48B6-49A1-AE90-B7C133E0A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C5C7-BA0E-4BBB-830A-635B5C20D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E66E-414A-4BC6-A2CF-DC37918A6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BB32-84FD-4852-9CCA-7720787E8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0BAD-11AC-42DF-A692-EA0BF1D71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B5A9-182A-49E4-AF8C-590F92E33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6888-C044-4EB9-A2DE-7877183BE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.K. BEFORE BORIS JOHN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LION  MAN  M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RGELY ATTENDED EVENT TOOK PLACE ON THE NATIONAL MALL IN WASHINGTON, D.C. ON OCTOBER 16, 1995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E 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WIFE OF JOHNNY CA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006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UNT  FOR  RED  OCTO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ESPIONAGE FILM STARRED SEAN CONNERY AS A SOVIET NAVAL CAP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LONG  DEC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NTING CROWS HAS HAD TWO #1 HIT SONGS.  THE FIRST WAS "MR. JONES".  WHAT WAS THE SECO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006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GUST  AND  EVERYTHING  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AKING OF COUNTING CROWS, WHAT WAS THE NAME OF THEIR FIRST ALBUM, THAT CONTAINED THE SONG "MR. JON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N  ON  THE  FOURTH  OF  J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IVER STONE MADE 3 FILMS ABOUT THE VIETNAM WAR.  WHICH ONE CAME AFTER "PLATOON" AND BEFORE "HEAVEN ON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UARY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ETTY DRAPER ON "MAD MEN" AND MELISSA CHARTRES ON "LAST MAN ON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RGELY ATTENDED EVENT TOOK PLACE ON THE NATIONAL MALL IN WASHINGTON, D.C. ON OCTOBER 16, 1995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19320" y="44197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KE  ME  UP  WHEN  SEPTEMBER  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HIT SONG BY GREEN DAY WAS WRITTEN ABOUT A FATHER'S DEATH, BUT IS REGARDED AS A DEDICATION TO VICTIMS OF 9/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RESA 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09800" y="762120"/>
            <a:ext cx="7124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.K. BEFORE BORIS JOHN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95360" y="480060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MON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WIFE OF JOHNNY CA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ESPIONAGE FILM STARRED SEAN CONNERY AS A SOVIET NAVAL CAP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NTING CROWS HAS HAD TWO #1 HIT SONGS.  THE FIRST WAS "MR. JONES".  WHAT WAS THE SECO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AKING OF COUNTING CROWS, WHAT WAS THE NAME OF THEIR FIRST ALBUM, THAT CONTAINED THE SONG "MR. JON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LIVER STONE MADE 3 FILMS ABOUT THE VIETNAM WAR.  WHICH ONE CAME AFTER "PLATOON" AND BEFORE "HEAVEN ON EAR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ETTY DRAPER ON "MAD MEN" AND MELISSA CHARTRES ON "LAST MAN ON EAR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HIT SONG BY GREEN DAY WAS WRITTEN ABOUT A FATHER'S DEATH, BUT IS REGARDED AS A DEDICATION TO VICTIMS OF 9/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6T22:26:30Z</dcterms:created>
  <dc:creator>Jennifer Budzinski</dc:creator>
  <dc:description/>
  <dc:language>en-US</dc:language>
  <cp:lastModifiedBy>Erich Friedman</cp:lastModifiedBy>
  <dcterms:modified xsi:type="dcterms:W3CDTF">2020-08-24T23:33:06Z</dcterms:modified>
  <cp:revision>400</cp:revision>
  <dc:subject/>
  <dc:title>Slide 1</dc:title>
</cp:coreProperties>
</file>