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FA8F-7E03-4CDC-8415-6B89926BE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BF34-FAB4-4090-A474-A4BA91E00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A6CF-79FB-471D-A1C2-14B8A5531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A169-1A4E-4780-B56F-5EAB4837C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9ABC-0038-42EB-81D8-D86E0E278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0EFD-FA66-4A61-9F7A-74F5017A4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17A5-7C11-4667-B679-89EC3CA1B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74EB-FB8D-43E7-8300-CF0058D5C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770E-6EE3-4344-81F1-C10C9FC63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B790-1763-4A38-A242-6D62F1FC9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0D59-ECD9-4987-8AD8-5413E7312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E05F-0FD3-4E01-911C-14D1B1FA7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EC26-4D3B-48D0-8C76-966DFD67E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23EA-48D1-4468-9D41-D967581E1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9AE0-DB2A-4B7E-86DF-6F221D542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1D3F-5641-4BF8-866D-C7171B3C8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4B88-2EAB-4396-90E0-0EC47EFCA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E652-F94F-4E5B-81BD-5D264FB93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4585-87B3-4CBB-9218-D3D1D7792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5E25-C567-444B-B7B0-4226E1B35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0B02-E41B-4842-AB12-E43F9A083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4863-7D8F-4EFA-BC9A-53D3303CC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EC33-0EE2-482C-A03A-3B8C78A3B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17520" y="761760"/>
            <a:ext cx="670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7 DEADLY SINS BEGINS WITH THE LETTER "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MBOLS APPEARED AT THE TOP OF THE COATS OF ARMS OF ALL THE SOVIET REPUBL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666880" y="4952880"/>
            <a:ext cx="3810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99880" y="762120"/>
            <a:ext cx="8542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CRUCIFIXION OF JESUS, HE SUPPOSEDLY WORE A CROWN MADE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08000" y="762120"/>
            <a:ext cx="712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ERIES ON THE CW FOLLOWED THE EARLY EXPLOITS OF MARY, QUEEN OF SCO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Y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69840" y="762120"/>
            <a:ext cx="720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2012 DEBUT HIT SONG BY NEW ZEALAND SINGER LOR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07880" y="762120"/>
            <a:ext cx="8355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COUNT AIRLINE USED TO BE NAMED THE CLIPPERT TRUCKING COMPANY, GROUND AIR TRANSFER, AND CHARTER 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84320" y="762120"/>
            <a:ext cx="877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EEDY SON IN "THE INCREDIBLES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69720" y="4952880"/>
            <a:ext cx="8396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  RED  BADGE  OF)  COU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72960" y="762120"/>
            <a:ext cx="8396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MOST FAMOUS NOVEL BY STEPHEN CRANE, ABOUT TH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MBOLS APPEARED AT THE TOP OF THE COATS OF ARMS OF ALL THE SOVIET REPUBL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Y 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63720" y="762120"/>
            <a:ext cx="7216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-THIRDS OF THE FLAG OF ARGENTINA IS WHAT SPECIFIC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09600" y="762120"/>
            <a:ext cx="6724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7 DEADLY SINS BEGINS WITH THE LETTER "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81200" y="4419720"/>
            <a:ext cx="7581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EVERY  WOMEN'S  PRO  SOCCER 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CRUCIFIXION OF JESUS, HE SUPPOSEDLY WORE A CROWN MADE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6320" y="762120"/>
            <a:ext cx="7191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ERIES ON THE CW FOLLOWED THE EARLY EXPLOITS OF MARY, QUEEN OF SCO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2012 DEBUT HIT SONG BY NEW ZEALAND SINGER LOR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16080" y="761760"/>
            <a:ext cx="8511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COUNT AIRLINE USED TO BE NAMED THE CLIPPERT TRUCKING COMPANY, GROUND AIR TRANSFER, AND CHARTER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761760"/>
            <a:ext cx="8896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EEDY SON IN "THE INCREDIBLES"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5360" y="761760"/>
            <a:ext cx="869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MOST FAMOUS NOVEL BY STEPHEN CRANE, ABOUT THE CIVIL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92320" y="762120"/>
            <a:ext cx="6757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-THIRDS OF THE FLAG OF ARGENTINA IS WHAT SPECIFIC CO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28T01:13:27Z</dcterms:modified>
  <cp:revision>450</cp:revision>
  <dc:subject/>
  <dc:title>Slide 1</dc:title>
</cp:coreProperties>
</file>