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30D3-AFEB-4253-8670-1673A0DD5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0F44-04F1-460F-91D9-54D5B567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D0B2-AADD-4C11-A2F0-07F61706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D9A3-6803-49E7-83C3-6B04C57DF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74E-31ED-4FB1-8831-F29E6FBF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2F1C-B444-4C69-BB10-01B719DEC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9892-4997-4D22-9F19-012B4598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66E3-D26E-4E49-84CC-36215C88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153A-AE1D-42F2-B193-23CB3FF19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E057-99D3-4D01-84F5-4C8E8CF3B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9FEF-A85E-4CD0-B7A2-89B01B49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24F-8B88-46F6-A682-3FFA8237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A7EE-8BF5-4164-95D4-57BC4EC5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88B-3616-40DF-8E05-A5BC059C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2CA3-54D6-429F-A5E4-8F76ADE9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6F7E-405B-4608-908F-429A7832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CA4B-B850-4DCE-899F-96DA5C394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4C92-EDB5-4B99-9027-B1B97E1D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3FCC-AEF1-4908-B2FA-297837AE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35F7-4FF6-41E9-B188-C02845C8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1C30-2DFA-4199-B753-333B4D7C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193-58FA-485B-B82E-18390A143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294B-F9DF-4381-9FDF-D8ED629A3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17520" y="761760"/>
            <a:ext cx="67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EADLY SINS BEGINS WITH THE LETTER "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S APPEARED AT THE TOP OF THE COATS OF ARMS OF ALL THE SOVIET REPUBL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CRUCIFIXION OF JESUS, HE SUPPOSEDLY WORE A CROWN MAD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08000" y="762120"/>
            <a:ext cx="712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OLLOWED THE EARLY EXPLOITS OF MARY, QUEEN OF SC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9840" y="762120"/>
            <a:ext cx="720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12 DEBUT HIT SONG BY NEW ZEALAND SINGER LOR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55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UNT AIRLINE USED TO BE NAMED THE CLIPPERT TRUCKING COMPANY, GROUND AIR TRANSFER, AND CHARTER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EDY SON IN "THE INCREDIBLES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69720" y="4952880"/>
            <a:ext cx="8396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RED  BADGE  OF)  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2960" y="762120"/>
            <a:ext cx="8396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MOST FAMOUS NOVEL BY STEPHEN CRANE, ABOUT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S APPEARED AT THE TOP OF THE COATS OF ARMS OF ALL THE SOVIET REPUBL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3720" y="762120"/>
            <a:ext cx="7216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-THIRDS OF THE FLAG OF ARGENTINA IS WHAT SPECIFIC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9600" y="762120"/>
            <a:ext cx="6724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EADLY SINS BEGINS WITH THE LETTER "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81200" y="4419720"/>
            <a:ext cx="7581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VERY  WOMEN'S  PRO  SOCCER 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CRUCIFIXION OF JESUS, HE SUPPOSEDLY WORE A CROWN MAD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6320" y="762120"/>
            <a:ext cx="7191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OLLOWED THE EARLY EXPLOITS OF MARY, QUEEN OF SC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12 DEBUT HIT SONG BY NEW ZEALAND SINGER LOR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UNT AIRLINE USED TO BE NAMED THE CLIPPERT TRUCKING COMPANY, GROUND AIR TRANSFER, AND CHARTER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EDY SON IN "THE INCREDIBL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5360" y="761760"/>
            <a:ext cx="869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MOST FAMOUS NOVEL BY STEPHEN CRANE, ABOUT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92320" y="762120"/>
            <a:ext cx="675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-THIRDS OF THE FLAG OF ARGENTINA IS WHAT SPECIFIC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13:27Z</dcterms:modified>
  <cp:revision>450</cp:revision>
  <dc:subject/>
  <dc:title>Slide 1</dc:title>
</cp:coreProperties>
</file>