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00AC-5A05-4552-83A5-1940E80C6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7B3-811B-4FEA-8423-8F77A443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AC49-93F9-4A53-8588-3449AEA8E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5C69-2275-4219-980B-201796BFF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BC67-46EE-4ECD-B6F5-FE5AF73D3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127A-D004-4223-8BD0-6D63F2903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9A5B-DC33-4F33-82E8-BE4C6939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2260-5EC3-4D33-AACF-2D2723D94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C2A-7DCC-4C6A-9B61-4BBB1EB3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A9B2-BBFC-48D3-A941-AE9D91221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6C05-8E4D-4472-B9F6-056DC4C8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ED5-9D08-4FE6-991F-08CAC52D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A842-E98F-4541-BBC9-41278E9D6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4AE-C9AA-4DD9-9693-02398EAC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7493-5335-46E9-B246-ECED9B9DE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8B2D-0833-4418-B4CD-C3ABE6C24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E47-E398-4EC0-A6B9-D17C3978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19C-AEF3-471B-BFDA-314A6917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180-C982-4BFC-937B-C1A7A44C6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CD72-4572-45C6-8064-21100D30F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B9CC-9427-48B3-9698-F774CDD1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3F1-AEC3-477B-9AA1-63DB3B31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181-C2CE-4FD0-93E9-4B109947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600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MMON THRE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INDIANAPOLIS 500 FOUR TIMES, AND IS THE ONLY WINNER WHOSE BROTHER AND SON HAVE ALSO WON THE 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46000" y="762120"/>
            <a:ext cx="7450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KANSAS LOST TO BILL CLINTON IN THE 1996 PRESIDENTIAL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D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96760" y="762120"/>
            <a:ext cx="7348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IDERS COACH HAD THE SECOND-HIGHEST WINNING PERCENTAGE EVER IN THE NFL, AFTER GUY CHAMBER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3440" y="762120"/>
            <a:ext cx="773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0" y="488952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23840" y="774720"/>
            <a:ext cx="709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38120" y="4876920"/>
            <a:ext cx="646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ARYIUS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7400" y="762120"/>
            <a:ext cx="7909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DENVER BRONCOS RECORDS FOR RECEIVING YARDS IN A GAME, A PLAYOFF GAME,  AND IN AN ENTIR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NE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9760" y="762120"/>
            <a:ext cx="81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 THE MONKEES WITH DAVY JONES, MICKY DOLENZ, AND PETER T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5120" y="762120"/>
            <a:ext cx="76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SE NYLUND ON "THE GOLDEN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7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KANSAS LOST TO BILL CLINTON IN THE 1996 PRESIDENTIAL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R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NATE MAJORITY LEADER 2007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UN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6520" y="762120"/>
            <a:ext cx="8130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INDIANAPOLIS 500 FOUR TIMES, AND IS THE ONLY WINNER WHOSE BROTHER AND SON HAVE ALSO WON THE 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DECEMBER, 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              (BE SPECIFIC!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4280" y="761760"/>
            <a:ext cx="7792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IDERS COACH HAD THE SECOND-HIGHEST WINNING PERCENTAGE EVER IN THE NFL, AFTER GUY CHAMBER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RCHBISHOP OF CAPE TOWN,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DENVER BRONCOS RECORDS FOR RECEIVING YARDS IN A GAME, A PLAYOFF GAME,  AND IN AN ENTIRE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600" y="761760"/>
            <a:ext cx="8180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 THE MONKEES WITH DAVY JONES, MICKY DOLENZ, AND PETER T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SE NYLUND ON "THE GOLDEN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8600" y="762120"/>
            <a:ext cx="8504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NATE MAJORITY LEADER 2007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8T01:14:50Z</dcterms:modified>
  <cp:revision>522</cp:revision>
  <dc:subject/>
  <dc:title>Slide 1</dc:title>
</cp:coreProperties>
</file>