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8E1A-9D3A-4806-A087-38F3BA7D2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141A-A86D-465C-89E3-EB6C717E8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F356-EF9D-4625-980B-B5AAB5F3F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41D6-55E7-4D54-AF19-E3B61E428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10E1-F1D1-42AE-A874-E2CF2FCA5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2369-3593-469E-A33D-53534E55C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A8D6-43F7-4B50-BC9B-C82D260E6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E403-5BED-47C9-87EE-BA2B3B178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B0DF-3473-4A91-B710-D788DE693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C85F-E16E-4B87-9D71-3DE477409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412A-0CF2-46B7-8803-1D24983DD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7F9A-3E48-4012-A8BB-FB209E064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B32F-73D5-4878-9576-C84F5F2B1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6FEA-7F1B-4371-813D-9932C24E6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361C-794C-45E1-A84F-12D0A285C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3B83-BC4F-436E-BA21-2CFA794C8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0857-37E5-4C21-86B1-4D9FEA2EB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D8E1-76CF-406C-8610-7F9CB4AD6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CCEE-529A-42C7-B6FF-0D79674BD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5D8E-63F4-4763-99FB-7CE79CEAD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62FC-791C-4CFA-AB4C-6928A2F45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5B13-80E0-4513-9CBC-8B47BFCE1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4B44-2275-4BEB-8AAA-04CF9523C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71320" y="16002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OPL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OMMON THREA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04440" y="761760"/>
            <a:ext cx="7932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INDIANAPOLIS 500 FOUR TIMES, AND IS THE ONLY WINNER WHOSE BROTHER AND SON HAVE ALSO WON THE RA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              (BE SPECIFIC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800280" y="4876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D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46000" y="762120"/>
            <a:ext cx="7450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NATOR FROM KANSAS LOST TO BILL CLINTON IN THE 1996 PRESIDENTIAL ELE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MAD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96760" y="762120"/>
            <a:ext cx="7348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IDERS COACH HAD THE SECOND-HIGHEST WINNING PERCENTAGE EVER IN THE NFL, AFTER GUY CHAMBERL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SMOND  TU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03440" y="762120"/>
            <a:ext cx="773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BLACK ARCHBISHOP OF CAPE TOWN, SOUTH AF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0" y="4889520"/>
            <a:ext cx="9144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E  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023840" y="774720"/>
            <a:ext cx="7096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VAMPIRE CHRONICL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338120" y="4876920"/>
            <a:ext cx="646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MARYIUS  THO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17400" y="762120"/>
            <a:ext cx="7909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LDS THE DENVER BRONCOS RECORDS FOR RECEIVING YARDS IN A GAME, A PLAYOFF GAME,  AND IN AN ENTIRE SEA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4480" y="48769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NESM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09760" y="762120"/>
            <a:ext cx="8124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IN THE MONKEES WITH DAVY JONES, MICKY DOLENZ, AND PETER T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210960" y="4876920"/>
            <a:ext cx="872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TY  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35120" y="762120"/>
            <a:ext cx="7672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ROSE NYLUND ON "THE GOLDEN GIRL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36640" y="762120"/>
            <a:ext cx="7470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NATOR FROM KANSAS LOST TO BILL CLINTON IN THE 1996 PRESIDENTIAL ELE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Y  RE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57120" y="762120"/>
            <a:ext cx="8427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ENATE MAJORITY LEADER 2007-20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  UN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06520" y="762120"/>
            <a:ext cx="8130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INDIANAPOLIS 500 FOUR TIMES, AND IS THE ONLY WINNER WHOSE BROTHER AND SON HAVE ALSO WON THE R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19040" y="48769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DIED  IN  DECEMBER,  20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              (BE SPECIFIC!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74280" y="761760"/>
            <a:ext cx="779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IDERS COACH HAD THE SECOND-HIGHEST WINNING PERCENTAGE EVER IN THE NFL, AFTER GUY CHAMBERL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BLACK ARCHBISHOP OF CAPE TOWN, SOUTH AF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76320" y="762120"/>
            <a:ext cx="7189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VAMPIRE CHRONICL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19120" y="762120"/>
            <a:ext cx="8104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LDS THE DENVER BRONCOS RECORDS FOR RECEIVING YARDS IN A GAME, A PLAYOFF GAME,  AND IN AN ENTIRE SEA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80600" y="761760"/>
            <a:ext cx="8180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IN THE MONKEES WITH DAVY JONES, MICKY DOLENZ, AND PETER TO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33040" y="761760"/>
            <a:ext cx="7475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ROSE NYLUND ON "THE GOLDEN GIRL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18600" y="762120"/>
            <a:ext cx="8504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ENATE MAJORITY LEADER 2007-201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1-28T01:14:50Z</dcterms:modified>
  <cp:revision>522</cp:revision>
  <dc:subject/>
  <dc:title>Slide 1</dc:title>
</cp:coreProperties>
</file>