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EBB0-FF34-4858-915E-009A3B41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FE94-05BA-4C2B-B152-B359016E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52C6-211B-42EA-9512-C1B8B8EC5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6E41-B9C1-4136-A176-628E333A2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CB2D-0D75-4B4D-8D5A-6F8859203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8AAA-2BB9-4F17-8D9E-F4A0FADE3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190E-75DF-4E67-93CE-C2910D68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26C4-E191-4AEC-9136-16253C8E4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6AD6-0DDD-4C51-9650-C129860AD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B02F-8404-43EE-BE34-215B7605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4D7C-E1FF-4447-9EE0-6AD7AA2AA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39F4-C824-4162-BCA4-2F6D9699A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9837-479F-4639-AF82-FCA296EF3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CAAC-A622-4A53-AB3F-ED231E2A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F335-7478-4F40-8F32-3D1201715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D80C-5F3D-4918-A523-6DBA5A55F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2044-EC13-4EF7-91BC-CCEB4928E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6870-D760-4A37-9C78-3A2FBC66A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BE42-03E6-43E5-92F4-49B3F76CD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90FD-74D2-4A56-88AB-F7E947AD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52EC-A30B-4730-A1AE-2048C428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4110-7826-41EB-A442-C98764FC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A9A-E2D4-4559-9C1C-2E758636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WORD IN THE TITLE OF THE REALITY SHOW IN WHICH CORPORATE EXECS SECRETLY TAKE LOW LEVEL POSITIONS IN THEIR COMPANI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ACTION FILM DOES KRIS KRISTOFFERSON DISCOVER A DEAD BODY AND $8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57520" y="48769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LL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99880" y="762120"/>
            <a:ext cx="8542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WORK OF ART DEPICTING INANIMATE OBJECT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TY 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14360" y="762120"/>
            <a:ext cx="8315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EELY DAN SONG BEGINS "TIMES ARE HARD, YOU'RE AFRAID TO PAY THE FEE, SO YOU FIND YOURSELF SOMEBODY, WHO   CAN DO THE JOB FOR FRE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x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05040" y="762120"/>
            <a:ext cx="733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MULTIPLICATION IS COMMUTATIVE, 5X12    IS EQUAL T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P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HRISTINA AGUILERA'S 2002 ALBUM, WHOSE COVER PICTURES HER TOPL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84320" y="762120"/>
            <a:ext cx="877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7 FILM DOES ARNOLD SCHWARZENEGGER KILL AN AIR TRAFFIC CONTROLLER HE BLAMES FOR HIS WIFE'S DEAT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AND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42800" y="762120"/>
            <a:ext cx="825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2015, A STRIPED DRESS BECAME AN INTERNET SENSATION, SINCE SOME THOUGHT IT WAS WHITE AND GOLD, AND OTHERS THOUGHT IT WAS WHAT COL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ACTION FILM DOES KRIS KRISTOFFERSON DISCOVER A DEAD BODY AND $8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  OF  OUR  H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9520" y="762120"/>
            <a:ext cx="8184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TITLE OF THE SHERYL CROW SONG (AND MISSING WORDS BELOW) THAT HAS CHORUS "IF WE COULD ONLY GET _______ AND INTO OUR HEART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COVER  (BO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WORD IN THE TITLE OF THE REALITY SHOW IN WHICH CORPORATE EXECS SECRETLY TAKE LOW LEVEL POSITIONS IN THEIR COMPAN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ING  STONES  ALB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WORK OF ART DEPICTING INANIMATE OBJECT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EELY DAN SONG BEGINS "TIMES ARE HARD, YOU'RE AFRAID TO PAY THE FEE, SO YOU FIND YOURSELF SOMEBODY, WHO   CAN DO THE JOB FOR FRE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0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MULTIPLICATION IS COMMUTATIVE, 5x12    IS EQUAL T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5960" y="761760"/>
            <a:ext cx="772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HRISTINA AGUILERA'S 2002 ALBUM, WHOSE COVER PICTURES HER TOPL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761760"/>
            <a:ext cx="889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7 FILM DOES ARNOLD SCHWARZENEGGER KILL AN AIR TRAFFIC CONTROLLER HE BLAMES FOR HIS WIFE'S DEA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4760" y="761760"/>
            <a:ext cx="8394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2015, A STRIPED DRESS BECAME AN INTERNET SENSATION, SINCE SOME THOUGHT IT WAS WHITE AND GOLD, AND OTHERS THOUGHT IT WAS WHAT COLO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8680" y="762120"/>
            <a:ext cx="848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TITLE OF THE SHERYL CROW SONG (AND MISSING WORDS BELOW) THAT HAS CHORUS "IF WE COULD ONLY GET _______ AND INTO OUR HEARTS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8T01:18:26Z</dcterms:modified>
  <cp:revision>446</cp:revision>
  <dc:subject/>
  <dc:title>Slide 1</dc:title>
</cp:coreProperties>
</file>