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6E40-1999-4D3A-9426-996E84CDB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E0BF-6526-407A-A25F-03482BDC8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EC1E4-7BEE-4495-BA29-EE6CA083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0EA0-E45F-40D3-B213-7D9A28F5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DFD-E6CD-4A17-91F5-4E4881E4F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EFE5-1309-4A40-A409-4B758D6DB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DAAD-DAC3-4A9C-B575-DA2331128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A125-C077-4274-8782-99D14A018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F580-13A0-44C3-AC5F-2343008C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5F29-38AB-414B-B390-124FD95EF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E7F7-98E9-44CB-A450-9E2DCF718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E25F-F65E-4F6C-96C4-A4E7F8DE4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C5CE-FBEE-41F8-9F4C-63D6FED47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87EF-A9C0-497B-99E6-81C15628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6E6C-8A8E-4A53-BBBB-BE366578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790D-29C1-47A0-B60F-5CD89F0F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3943-FF35-406B-9D32-69D5BBC5D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BF8F-CFB2-408D-AD58-2107251E1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0EAF-401C-4D3E-8AA9-778D698A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4DCB-2730-4DA0-B357-18CC4338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D816-8368-4F30-9CC9-59499EB2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49F7-8E4B-41AB-BE25-D587FA67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2D22-F767-475C-89F4-283AA0CAF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WORD IN THE TITLE OF THE REALITY SHOW IN WHICH CORPORATE EXECS SECRETLY TAKE LOW LEVEL POSITIONS IN THEIR COMPANI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ACTION FILM DOES KRIS KRISTOFFERSON DISCOVER A DEAD BODY AND $8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657520" y="4876920"/>
            <a:ext cx="3809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LL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WORK OF ART DEPICTING INANIMATE OBJEC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14360" y="762120"/>
            <a:ext cx="831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ELY DAN SONG BEGINS "TIMES ARE HARD, YOU'RE AFRAID TO PAY THE FEE, SO YOU FIND YOURSELF SOMEBODY, WHO   CAN DO THE JOB FOR FRE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x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05040" y="762120"/>
            <a:ext cx="7333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MULTIPLICATION IS COMMUTATIVE, 5X12    IS EQUAL TO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PP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RISTINA AGUILERA'S 2002 ALBUM, WHOSE COVER PICTURES HER TOPL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7 FILM DOES ARNOLD SCHWARZENEGGER KILL AN AIR TRAFFIC CONTROLLER HE BLAMES FOR HIS WIFE'S DEAT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2015, A STRIPED DRESS BECAME AN INTERNET SENSATION, SINCE SOME THOUGHT IT WAS WHITE AND GOLD, AND OTHERS THOUGHT IT WAS WHAT COL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4 ACTION FILM DOES KRIS KRISTOFFERSON DISCOVER A DEAD BODY AND $8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  OF  OUR  HE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9520" y="762120"/>
            <a:ext cx="8184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ITLE OF THE SHERYL CROW SONG (AND MISSING WORDS BELOW) THAT HAS CHORUS "IF WE COULD ONLY GET _______ AND INTO OUR HEART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COVER  (BO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IRST WORD IN THE TITLE OF THE REALITY SHOW IN WHICH CORPORATE EXECS SECRETLY TAKE LOW LEVEL POSITIONS IN THEIR COMPAN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 STONES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WORK OF ART DEPICTING INANIMATE OBJEC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EELY DAN SONG BEGINS "TIMES ARE HARD, YOU'RE AFRAID TO PAY THE FEE, SO YOU FIND YOURSELF SOMEBODY, WHO   CAN DO THE JOB FOR FRE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0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MULTIPLICATION IS COMMUTATIVE, 5x12    IS EQUAL TO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5960" y="761760"/>
            <a:ext cx="7729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CHRISTINA AGUILERA'S 2002 ALBUM, WHOSE COVER PICTURES HER TOPL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7 FILM DOES ARNOLD SCHWARZENEGGER KILL AN AIR TRAFFIC CONTROLLER HE BLAMES FOR HIS WIFE'S DE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2015, A STRIPED DRESS BECAME AN INTERNET SENSATION, SINCE SOME THOUGHT IT WAS WHITE AND GOLD, AND OTHERS THOUGHT IT WAS WHAT COLO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ITLE OF THE SHERYL CROW SONG (AND MISSING WORDS BELOW) THAT HAS CHORUS "IF WE COULD ONLY GET _______ AND INTO OUR HEARTS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8T01:18:26Z</dcterms:modified>
  <cp:revision>446</cp:revision>
  <dc:subject/>
  <dc:title>Slide 1</dc:title>
</cp:coreProperties>
</file>