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93FE-5E27-4FE7-BDFC-B5E95667D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EA61-C238-43BC-AA51-E8D9628E2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87BB-A64B-454D-9D9B-1BCFB459C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FA8F-9899-4D70-906D-C830CF684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FBF0-0F43-45AC-A403-C523B2950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78A2-E3E3-464E-B730-ABF7CD417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2B4E-0CA2-449C-ADF3-B45EFBAE2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018D-B066-4BBE-BE7F-125F50435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A35E-A8C2-4955-B217-5FE4F6053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B081-AE87-4BFF-8238-3BCC02F50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E9E0-EAE4-4E95-9D98-392BEF610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5B61-CC96-402A-9A6A-12A22852A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EF53-4064-4700-A5F7-81FCB869E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63B0-50BE-4DC8-A261-648C79316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9994-8E69-406A-A76A-1FF3BCB6C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349E-AEA2-4F0A-BEDE-619715F7C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807C-BD67-49BF-B9C7-3DB1ECDFC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1E5E-15BF-49EA-8A37-77F02475D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DB44-FB7B-4EA7-AFE4-1BE6B8785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E1BC-3A81-4303-99B0-0856DEBB1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45E8-7DAA-4EBD-832D-614598548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404E-81DA-4F5C-9F85-760A14888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D4AE-9DFF-4C35-B069-BD462F6B6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IAN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2520" y="761760"/>
            <a:ext cx="8238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GRAMMY AWARD FOR BEST FOLK ALBUM IN 2018 FOR HER ALBUM "MENTAL ILLNE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ORIA  ESTEF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19200" y="762120"/>
            <a:ext cx="7905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TINA ARTIST SANG "CONGA" AND "RHYTHM IS GONNA GET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281320" y="4952880"/>
            <a:ext cx="4581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RA  BAREIL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50760" y="762120"/>
            <a:ext cx="7242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RAVE" AND "KING OF ANYTH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DY  MO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65280" y="762120"/>
            <a:ext cx="7813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 SINGER IS NOW ONE OF THE STARS OF THE TV SHOW "THIS IS 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ELLE  BRA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19280" y="762120"/>
            <a:ext cx="7705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GRAMMY FOR BEST POP COLLABORATION WITH SANTANA FOR "GAME OF LO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ZANNE  VE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07880" y="762120"/>
            <a:ext cx="8328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LK SINGER SANG "LUKA" AND "TOM'S DIN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ISSA  ETH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12800" y="762120"/>
            <a:ext cx="7718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ORIGINAL SONG FOR  "I NEED TO WAKE UP" FROM "AN INCONVENIENT TRUTH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NNIE  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06480" y="762120"/>
            <a:ext cx="73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GUITAR FOR THE ROLLING STONES BESIDES MICK JAGGER AND KEITH RICH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08200" y="762120"/>
            <a:ext cx="7526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TINA ARTIST SANG "CONGA" AND "RHYTHM IS GONNA GET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39760" y="762120"/>
            <a:ext cx="8664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&amp;B ARTIST SANG THE #1 HITS "I WANNA BE DOWN", "BABY", AND "THE BOY IS M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MEE  MA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38120" y="762120"/>
            <a:ext cx="8267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GRAMMY AWARD FOR BEST FOLK ALBUM IN 2018 FOR HER ALBUM "MENTAL ILL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104840" y="4419720"/>
            <a:ext cx="6934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FIRST  NAMES  ARE  FAMOUS  SONG  TI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43040" y="761760"/>
            <a:ext cx="7657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RAVE" AND "KING OF ANYTH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09640" y="762120"/>
            <a:ext cx="7524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 SINGER IS NOW ONE OF THE STARS OF THE TV SHOW "THIS IS 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GRAMMY FOR BEST POP COLLABORATION WITH SANTANA FOR "GAME OF LO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05960" y="761760"/>
            <a:ext cx="7729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LK SINGER SANG "LUKA" AND "TOM'S DIN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71400" y="761760"/>
            <a:ext cx="7801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ORIGINAL SONG FOR  "I NEED TO WAKE UP" FROM "AN INCONVENIENT TRU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97040" y="761760"/>
            <a:ext cx="7549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GUITAR FOR THE ROLLING STONES BESIDES MICK JAGGER AND KEITH RICH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39760" y="762120"/>
            <a:ext cx="8663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&amp;B ARTIST SANG THE #1 HITS "I WANNA BE DOWN", "BABY", AND "THE BOY IS M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1-28T01:20:32Z</dcterms:modified>
  <cp:revision>451</cp:revision>
  <dc:subject/>
  <dc:title>Slide 1</dc:title>
</cp:coreProperties>
</file>