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8FF7-8CB1-4F5B-A90B-3CE6A628F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DBC4-4A06-4323-AD3B-B7CDC2F62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A1D7-2FEC-4FD1-A275-C5108EB4C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2740-868C-41C2-83A6-0EE98A1A8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0823-7565-431C-A8A8-0412DF163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632A-FEA0-4C68-941F-ACB1A2976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C278-E40C-4B60-91B4-BC04F0831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6EF5-C8F6-4B18-BB79-8801AA57F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35D8-CA20-4976-98B2-56B78D0CF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24CE-1659-4ABF-8F3E-279327C36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DE8A-72D2-4510-8DE9-987B00B3A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D90E-0367-4E28-A773-001CCF608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D9B4-726B-486A-B51C-5C1C00597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20C6-6909-4228-963D-608579923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EDF1-79FB-438B-96F4-6D586DD51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C6C9-F685-48B5-92E1-07FAC9B50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7E56-F651-4C02-9837-6C144277F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7CEB-28CB-46EE-9E02-A852B9E6A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E80E-6FAC-41E9-951D-47206C4AC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A787-2484-4D9D-971B-AF43D6179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DBD0-249E-4369-9C27-B63724482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BDD82-066B-4FDC-902E-611B77B8A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D3E3-5DC0-4DC8-AF28-4284ECDD6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IAN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2520" y="761760"/>
            <a:ext cx="82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GRAMMY AWARD FOR BEST FOLK ALBUM IN 2018 FOR HER ALBUM "MENTAL ILL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RIA  ESTEF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TINA ARTIST SANG "CONGA" AND "RHYTHM IS GONNA GE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1320" y="4952880"/>
            <a:ext cx="45813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  BAREI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50760" y="762120"/>
            <a:ext cx="7242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RAVE" AND "KING OF ANY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DY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65280" y="762120"/>
            <a:ext cx="7813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SINGER IS NOW ONE OF THE STARS OF THE TV SHOW "THIS IS 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LE  BRA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19280" y="762120"/>
            <a:ext cx="7705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RAMMY FOR BEST POP COLLABORATION WITH SANTANA FOR "GAME OF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ZANNE  VE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07880" y="762120"/>
            <a:ext cx="8328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SANG "LUKA" AND "TOM'S DIN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ETH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12800" y="762120"/>
            <a:ext cx="771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ORIGINAL SONG FOR  "I NEED TO WAKE UP" FROM "AN INCONVENIENT TRUTH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NIE  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06480" y="762120"/>
            <a:ext cx="73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GUITAR FOR THE ROLLING STONES BESIDES MICK JAGGER AND KEITH RICH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08200" y="762120"/>
            <a:ext cx="7526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TINA ARTIST SANG "CONGA" AND "RHYTHM IS GONNA GET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39760" y="762120"/>
            <a:ext cx="8664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&amp;B ARTIST SANG THE #1 HITS "I WANNA BE DOWN", "BABY", AND "THE BOY IS M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MEE  MA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GRAMMY AWARD FOR BEST FOLK ALBUM IN 2018 FOR HER ALBUM "MENTAL ILL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04840" y="4419720"/>
            <a:ext cx="6934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FIRST  NAMES  ARE  FAMOUS  SONG 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RAVE" AND "KING OF ANY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09640" y="762120"/>
            <a:ext cx="7524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SINGER IS NOW ONE OF THE STARS OF THE TV SHOW "THIS IS 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RAMMY FOR BEST POP COLLABORATION WITH SANTANA FOR "GAME OF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5960" y="761760"/>
            <a:ext cx="772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SANG "LUKA" AND "TOM'S DIN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71400" y="761760"/>
            <a:ext cx="7801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ORIGINAL SONG FOR  "I NEED TO WAKE UP" FROM "AN INCONVENIENT TRU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97040" y="761760"/>
            <a:ext cx="7549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GUITAR FOR THE ROLLING STONES BESIDES MICK JAGGER AND KEITH RICH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39760" y="762120"/>
            <a:ext cx="8663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&amp;B ARTIST SANG THE #1 HITS "I WANNA BE DOWN", "BABY", AND "THE BOY IS M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28T01:20:32Z</dcterms:modified>
  <cp:revision>451</cp:revision>
  <dc:subject/>
  <dc:title>Slide 1</dc:title>
</cp:coreProperties>
</file>