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B4F8-F862-4468-BDD0-2B53B26EF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CEBD4-4BFF-40CC-96BF-F4C8B391A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3619-A6CD-40C5-9735-40F65F597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54DF-A38F-4479-80D0-39BA09D72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A0FD-C64F-42D7-9296-4078924C7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DD93-7D2A-4F84-B69F-9AC90A8FE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725E-6514-4DE2-B41B-43AAFCAC1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429D-CE96-4C99-B6A7-CFD279D4E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F0FF-E3AF-4BFD-901A-54AE902F1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48D5-CB14-491C-BB3C-2DE3E671F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412C-8A55-4A83-9D3A-58F4C0B4F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DA2F-0617-469F-B90A-EBF184BE4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FBD1-FCC0-4F3C-9F5E-065E0BBF9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7D78-69FB-4857-8CC9-F2327BCC4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DFD7-5751-4881-87ED-FA99C4126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2363-E836-44A2-B2F0-BE5BFD434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0086-D4CE-4240-9F0B-8000F1BF2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5037-F7E8-4681-A7E1-D8C98A5D1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D459-E0BF-4E40-8DB9-E5808A00C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DD43-CB14-4875-BDED-813667E1E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A24A-2C09-46DE-8711-C34AC8C02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61AD-0EF4-4B76-B096-23C61BBD4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C7E1-54F0-45AB-9B06-4BB52E774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3716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FANTASY FILM WON ALL 11 OSCARS IT WAS NOMINATE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609480" y="3962520"/>
            <a:ext cx="8001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ERYTHING  YOU  ALWAYS  WANTED  TO  KNOW  ABOUT SEX  BUT  WERE  AFRAID  TO 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09480" y="762120"/>
            <a:ext cx="80010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2 FILM STARS WOODY ALLEN AS A COURT JESTER, A SEX RESEARCHER, AND A SPER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219320" y="3962520"/>
            <a:ext cx="67053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SSASSINATION  OF  JESSE  JAMES  BY  THE  COWARD  ROBERT  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VISIONIST WESTERN STARRED BRAD PITT AS AN OUTLAW AND CASEY AFFLECK AS HIS KIL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3962520"/>
            <a:ext cx="8382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.  STRANGELOVE  OR:  HOW  I  LEARNED  TO  STOP  WORRYING  AND  LOVE  THE  BOM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04920" y="800280"/>
            <a:ext cx="85341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4 POLITICAL SATIRE FILM BY STANLEY KUBRICK STARRED PETER SELLERS AND GEORGE C. SCOT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18116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NGLISHMAN  WHO  WENT  UP  A  HILL  BUT  CAME  DOWN  A  MOUNTA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57200" y="730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FILM STARRED IAN MCNEISE AND HUGH GRANT AS WELSH CARTOGRAPH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952560" y="3962520"/>
            <a:ext cx="72388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DVENTURES  OF  BUCKAROO  BANZAI  ACROSS  THE  8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DIME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57200" y="76212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CI-FI CULT FILM DOES A NEUROSURGEON, TEST PILOT, PHYSICIST, AND ROCK MUSICIAN SAVE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800280" y="4495680"/>
            <a:ext cx="7543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  WONG  FOO,  THANKS  FOR  EVERYTHING!  JULIE  NEWM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762120"/>
            <a:ext cx="79250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FILM STARRED WESLEY SNIPES, JOHN LEGUIZAMO, AND PATRICK SWAYZE AS DRAG QUE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0" y="396252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AT!  CULTURAL  LEARNINGS  OF  AMERICA  FOR  MAKE  BENEFIT  GLORIOUS  NATION  OF  KAZAKHS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81200" y="762120"/>
            <a:ext cx="7581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6 MOCKUMENTARY STARRED SACHA BARON COHEN AS A KAZAKH JOURNAL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2 FILM STARS WOODY ALLEN AS A COURT JESTER, A SEX RESEARCHER, AND A SPER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19320" y="3962520"/>
            <a:ext cx="67816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RATES  OF  THE  CARIBBEAN:  THE  CURSE  OF  THE  BLACK  PEA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ILM IN WHICH JOHNNY DEPP PLAYS CAPTAIN JACK SPARR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49568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ORD  OF  THE  RINGS:  THE  RETURN  OF  THE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3 FANTASY FILM WON ALL 11 OSCARS IT WAS NOMINATE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295280" y="4495680"/>
            <a:ext cx="6553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VE  8  OR  MORE  WORDS  IN  THEIR  TI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VISIONIST WESTERN STARRED BRAD PITT AS AN OUTLAW AND CASEY AFFLECK AS HIS KILL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33520" y="76212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4 POLITICAL SATIRE FILM BY STANLEY KUBRICK STARRED PETER SELLERS AND GEORGE C. SCOT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FILM STARRED IAN MCNEISE AND HUGH GRANT AS WELSH CARTOGRAPH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CI-FI CULT FILM DOES A NEUROSURGEON, TEST PILOT, PHYSICIST, AND ROCK MUSICIAN SAVE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FILM STARRED WESLEY SNIPES, JOHN LEGUIZAMO, AND PATRICK SWAYZE AS DRAG QUEE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6 MOCKUMENTARY STARRED SACHA BARON COHEN AS A KAZAKH JOURNAL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ILM IN WHICH JOHNNY DEPP PLAYS CAPTAIN JACK SPARR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0T14:13:06Z</dcterms:created>
  <dc:creator>Jennifer Budzinski</dc:creator>
  <dc:description/>
  <dc:language>en-US</dc:language>
  <cp:lastModifiedBy>Erich Friedman</cp:lastModifiedBy>
  <dcterms:modified xsi:type="dcterms:W3CDTF">2022-01-28T01:25:39Z</dcterms:modified>
  <cp:revision>453</cp:revision>
  <dc:subject/>
  <dc:title>Slide 1</dc:title>
</cp:coreProperties>
</file>