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57A-5A47-4B78-9652-E62EA8F6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6BF-FE73-4911-B419-BCFDF38C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7F7A-A717-4FB3-B0D6-7F361F76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E43-BF73-4957-8937-F8DB1D03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93D0-807D-4CAC-8EE4-949F49C4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CB0D-EF06-4C87-BFF9-450A9D0F2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A849-15A9-43A0-B034-C343EDBA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C0C0-CC39-4FED-9921-9324EB7C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1F8-D973-447D-B011-36B680B6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89EC-635A-48FB-B331-9D03F715C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D944-C3C8-415F-82BE-955D1B2DA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E0E-2277-4F1B-ACCC-0AFCC1453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AD91-21D3-490F-A112-2ACDE0C0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B68-82AE-49C9-888F-4A0EF26B4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00C0-6B1D-4501-84F1-80A00117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F6F-7F2E-47F0-995F-5578A6C3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FC1-8AAC-4D5B-BC33-0EE53074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9E68-6DC6-4CD0-9979-16348F1F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4EA8-22AD-43D3-A3EC-56471087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247-3D0A-40BD-B0FE-343134FB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6E5A-0ABF-4856-8055-F157FD45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021A-F72A-44EB-AC61-98DD0C84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17F1-7B4F-4535-84C8-61DA46BB3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ANTASY FILM WON ALL 11 OSCARS IT WAS NOMINATE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09480" y="396252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THING  YOU  ALWAYS  WANTED  TO  KNOW  ABOUT SEX  BUT  WERE  AFRAID  TO 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STARS WOODY ALLEN AS A COURT JESTER, A SEX RESEARCHER, AND A SP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219320" y="3962520"/>
            <a:ext cx="6705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SSASSINATION  OF  JESSE  JAMES  BY  THE  COWARD  ROBERT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ISIONIST WESTERN STARRED BRAD PITT AS AN OUTLAW AND CASEY AFFLECK AS HIS KI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3962520"/>
            <a:ext cx="8382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TRANGELOVE  OR:  HOW  I  LEARNED  TO  STOP  WORRYING  AND  LOVE  THE  BO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80028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POLITICAL SATIRE FILM BY STANLEY KUBRICK STARRED PETER SELLERS AND GEORGE C. SC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8116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GLISHMAN  WHO  WENT  UP  A  HILL  BUT  CAME  DOWN  A  MOUNT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30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IAN MCNEISE AND HUGH GRANT AS WELSH CARTOGRAP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52560" y="3962520"/>
            <a:ext cx="7238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BUCKAROO  BANZAI  ACROSS  THE  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CI-FI CULT FILM DOES A NEUROSURGEON, TEST PILOT, PHYSICIST, AND ROCK MUSICIAN SAVE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800280" y="4495680"/>
            <a:ext cx="7543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WONG  FOO,  THANKS  FOR  EVERYTHING!  JULIE  NEW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WESLEY SNIPES, JOHN LEGUIZAMO, AND PATRICK SWAYZE AS DRAG QUE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3962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AT!  CULTURAL  LEARNINGS  OF  AMERICA  FOR  MAKE  BENEFIT  GLORIOUS  NATION  OF  KAZAKH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81200" y="762120"/>
            <a:ext cx="758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MOCKUMENTARY STARRED SACHA BARON COHEN AS A KAZAKH JOURNA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STARS WOODY ALLEN AS A COURT JESTER, A SEX RESEARCHER, AND A SP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1932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TES  OF  THE  CARIBBEAN:  THE  CURSE  OF  THE  BLACK  PEA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IN WHICH JOHNNY DEPP PLAYS CAPTAIN JACK SPAR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4956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RD  OF  THE  RINGS:  THE  RETURN  OF  TH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ANTASY FILM WON ALL 11 OSCARS IT WAS NOMINAT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95280" y="4495680"/>
            <a:ext cx="65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8  OR  MORE  WORDS  IN  THEI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ISIONIST WESTERN STARRED BRAD PITT AS AN OUTLAW AND CASEY AFFLECK AS HIS KIL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POLITICAL SATIRE FILM BY STANLEY KUBRICK STARRED PETER SELLERS AND GEORGE C. SC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IAN MCNEISE AND HUGH GRANT AS WELSH CARTOGRAP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CI-FI CULT FILM DOES A NEUROSURGEON, TEST PILOT, PHYSICIST, AND ROCK MUSICIAN SAVE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WESLEY SNIPES, JOHN LEGUIZAMO, AND PATRICK SWAYZE AS DRAG QUE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MOCKUMENTARY STARRED SACHA BARON COHEN AS A KAZAKH JOURNAL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IN WHICH JOHNNY DEPP PLAYS CAPTAIN JACK SPAR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14:13:06Z</dcterms:created>
  <dc:creator>Jennifer Budzinski</dc:creator>
  <dc:description/>
  <dc:language>en-US</dc:language>
  <cp:lastModifiedBy>Erich Friedman</cp:lastModifiedBy>
  <dcterms:modified xsi:type="dcterms:W3CDTF">2022-01-28T01:25:39Z</dcterms:modified>
  <cp:revision>453</cp:revision>
  <dc:subject/>
  <dc:title>Slide 1</dc:title>
</cp:coreProperties>
</file>