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DED0-5AE3-49CC-AC06-B94527059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DC45-8787-4C7A-BB0C-DD7702A8A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9DEF-D345-4EEB-87E5-33363AEA4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5A25-5144-4752-98EB-3C4A66346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7D60-EFFE-4358-8CD7-572E130D8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024A-4157-4248-A746-CF57CF3AD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8716-1222-4094-8633-235D14F12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2120-9D5D-4C17-BDCC-53BD44C8B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3818-C9D4-49B4-A7D7-76A2B64E7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14F4-E66E-4230-8FE2-98D19BA0C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46BF-706B-43DD-9905-01E54F150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5390-FB9D-47D4-A287-262F6840E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44D8-517E-4F6E-AF59-22A55647D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632F-4E63-4374-A61E-34151E0CB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C6B0-1310-491E-A221-9898CC51A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EB7E-A72A-450E-935F-CDEA211F3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75AB-068F-4AF3-8237-43B99E3F4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E9E8-8B0C-4036-8A0B-6ABC70F4B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FFDA-3F4F-4A28-890B-E529C1C55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C3E3-ED65-4AD7-AD32-82F680E6E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CAFB-3A77-4A6C-A092-9EAA82AB6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954A-C68A-4B45-BC38-5031A727D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61C9-38CD-4B12-A768-FBA89FBE4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HOBBIT", BILBO BAGGINS LIVES IN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77840" y="762120"/>
            <a:ext cx="6988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ERCILESS" GUY IS THE MAIN ANTAGONIST OF FLASH GOR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666880" y="4952880"/>
            <a:ext cx="381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27080" y="762120"/>
            <a:ext cx="708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9 HORROR FILM ARE A GROUP OF TEENAGERS TERRORIZED BY OCTAVIA SPEN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4960" y="4952880"/>
            <a:ext cx="8610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6800" y="762120"/>
            <a:ext cx="7068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DEFINED TO BE 240 POUNDS HEAVIER IN ENGLAND THAN IT IS IN THE U.S. OR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EMARCUS)  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19280" y="762120"/>
            <a:ext cx="7705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DALLAS COWBOYS' ALL-TIME LEADING SACKER WHO RETIRED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98640" y="762120"/>
            <a:ext cx="7146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OTE OF THE SOLFÈGE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25320" y="762120"/>
            <a:ext cx="789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-X ON A PC, OR COMMAND-X ON A MAC,  A SHORTCUT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IS  LAND  IS  YOUR) 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93760" y="762120"/>
            <a:ext cx="8556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TWICE IN THE TITLE OF THE WOODY GUTHRIE SONG HE ORIGINALLY CALLED "GOD BLESSED AMERICA FOR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58760" y="762120"/>
            <a:ext cx="702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ERCILESS" GUY IS THE MAIN ANTAGONIST OF FLASH GOR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06560" y="762120"/>
            <a:ext cx="7130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REEK LETTER BETWEEN OMICRON AND R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HOBBIT", BILBO BAGGINS LIVES IN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SYLLABLES  OF  U.S.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9 HORROR FILM ARE A GROUP OF TEENAGERS TERRORIZED BY OCTAVIA SPEN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01880" y="762120"/>
            <a:ext cx="714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DEFINED TO BE 240 POUNDS HEAVIER IN ENGLAND THAN IT IS IN THE U.S. OR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DALLAS COWBOYS' ALL-TIME LEADING SACKER WHO RETIRED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5400" y="761760"/>
            <a:ext cx="715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OTE OF THE SOLFÈGE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-X ON A PC, OR COMMAND-X ON A MAC,  A SHORTCUT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5800" y="761760"/>
            <a:ext cx="831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TWICE IN THE TITLE OF THE WOODY GUTHRIE SONG HE ORIGINALLY CALLED "GOD BLESSED AMERICA FOR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7800" y="762120"/>
            <a:ext cx="7265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REEK LETTER BETWEEN OMICRON AND R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8T01:28:05Z</dcterms:modified>
  <cp:revision>454</cp:revision>
  <dc:subject/>
  <dc:title>Slide 1</dc:title>
</cp:coreProperties>
</file>