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E246-3536-4BD8-B69D-2E6E1321F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107-445C-4EC7-B402-40C1AE065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D76C-8387-46DC-B027-57C320F4B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392D-672F-474A-BF98-B26F0B47E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F524-1A5A-4FF7-8986-D2322AB8D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947C-6A20-494B-967C-B420441C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E1FD-85FB-464F-B705-4B31E8078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2533-C1A4-4284-9CBB-277ABB8FA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CBF4-30BA-4379-80E6-EBF29C320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60B5-B551-47FE-97BD-669781C67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F29E-7D3C-4D6B-8CFE-F3A4A4210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61D0-3870-4230-8C17-F93BE57AF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4196-33D3-4ACA-AB26-EC072B607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9573-D812-457D-BBA0-CE0F8A4BE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A4E0-9652-4F8C-A740-7E2A41CB8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A3DD-E5BA-467E-88A4-0D24A601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D31E-9F31-4B02-A3F8-D2D9DBB6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3080-88AA-4181-8C2B-45999DD30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148B-ACF6-4AD5-8054-DAEAB9B44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B938-9986-4E08-AA03-A19668234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1706-93CF-437B-93F0-B763BEE09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7432-24E0-42D0-9B78-B7183D152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0B07-B6F8-45C2-BECF-446192372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OBBIT", BILBO BAGGINS LIVES IN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77840" y="762120"/>
            <a:ext cx="6988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ERCILESS" GUY IS THE MAIN ANTAGONIST OF FLASH GOR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27080" y="762120"/>
            <a:ext cx="708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9 HORROR FILM ARE A GROUP OF TEENAGERS TERRORIZED BY OCTAVIA SPE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4960" y="4952880"/>
            <a:ext cx="8610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EFINED TO BE 240 POUNDS HEAVIER IN ENGLAND THAN IT IS IN THE U.S. OR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EMARCUS)  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9280" y="762120"/>
            <a:ext cx="770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DALLAS COWBOYS' ALL-TIME LEADING SACKER WHO RETIRED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8640" y="762120"/>
            <a:ext cx="7146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OTE OF THE SOLFÈGE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25320" y="762120"/>
            <a:ext cx="789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-X ON A PC, OR COMMAND-X ON A MAC,  A SHORTCUT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IS  LAND  IS  YOUR) 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93760" y="762120"/>
            <a:ext cx="8556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TWICE IN THE TITLE OF THE WOODY GUTHRIE SONG HE ORIGINALLY CALLED "GOD BLESSED AMERICA FOR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58760" y="762120"/>
            <a:ext cx="702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ERCILESS" GUY IS THE MAIN ANTAGONIST OF FLASH GOR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06560" y="762120"/>
            <a:ext cx="7130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REEK LETTER BETWEEN OMICRON AND R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OBBIT", BILBO BAGGINS LIVES IN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SYLLABLES  OF  U.S.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9 HORROR FILM ARE A GROUP OF TEENAGERS TERRORIZED BY OCTAVIA SPEN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01880" y="762120"/>
            <a:ext cx="714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EFINED TO BE 240 POUNDS HEAVIER IN ENGLAND THAN IT IS IN THE U.S. OR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DALLAS COWBOYS' ALL-TIME LEADING SACKER WHO RETIRED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OTE OF THE SOLFÈGE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-X ON A PC, OR COMMAND-X ON A MAC,  A SHORTCUT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5800" y="761760"/>
            <a:ext cx="831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TWICE IN THE TITLE OF THE WOODY GUTHRIE SONG HE ORIGINALLY CALLED "GOD BLESSED AMERICA FOR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7800" y="762120"/>
            <a:ext cx="7265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REEK LETTER BETWEEN OMICRON AND R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8T01:28:05Z</dcterms:modified>
  <cp:revision>454</cp:revision>
  <dc:subject/>
  <dc:title>Slide 1</dc:title>
</cp:coreProperties>
</file>