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D075-288A-4D34-A6EE-7A4D870F1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51EC-12AF-4E01-8FD2-D83E16D56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1E02-78D9-4EDB-9746-4AA9F2829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F24E-D683-43E5-B9EE-13F1DC586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D58F-2EAC-4A7B-BE6C-3BF2B47B5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18BD-4C72-4345-88B5-FFBF757B8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EFD2-9F37-4071-BBB4-0BA40EABE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493B-D7C0-48C4-8899-513C7D63F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F5F8-B5E4-45B3-9137-EC753EBC8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F62B-9C82-4D80-AE7A-CAEF30AA2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A289-C039-434B-915F-978853394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ADC1-7E4A-467E-813E-F4A412EB4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4180-A971-45C2-A8A6-8B30C0596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009A-3404-44BD-BFC4-6B67000A9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3CAA-D96E-48C5-A0D0-58DF31AB0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57A3-A8AE-422C-8479-1DF17266B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199F-740F-4BAA-B339-7293DB94C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BCB6-4844-44BE-8BC8-E6CB9A462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E44A-B7ED-4CD1-AC6B-8D91429D5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0754-AAD9-4A7D-84A0-4C837CD0D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066A-788C-4B58-9C30-9B1F49CAC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31D9-6622-46CC-8555-46C50927B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F330-0919-4B5F-BDF6-B5F85B287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41520" y="761760"/>
            <a:ext cx="605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 7 DWARFS HAD THE SHORTE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S  (JOHN  STEINBE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28880" y="762120"/>
            <a:ext cx="7086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INITIALS  OF THE AUTHOR WHO WROTE "CANNERY ROW" AND "THE RED PO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74800" y="762120"/>
            <a:ext cx="7394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AB WORD MEANING "SON" CAN BE FOUND IN MANY ARAB N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7468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62080" y="762120"/>
            <a:ext cx="8653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ABBREVIATION FOR AN AFTERTHOUGHT IN A LE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41440" y="762120"/>
            <a:ext cx="8059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50, WHAT WAS THE POSTAL ABBREVIATION FOR THE LARGEST U.S.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LA  BREA)  TAR  (PI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81120" y="762120"/>
            <a:ext cx="7781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FAMOUSLY SEEPS UP FROM THE GROUND IN HANCOCK   PARK IN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8200" y="762120"/>
            <a:ext cx="8067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UTTON ON A SCIENTIFIC CALCULATOR DOES ALMOST THE SAME THING AS THE "LN" BUT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PG  (J.  PAUL  GET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08080" y="762120"/>
            <a:ext cx="872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INITIALS OF THE RICHEST AMERICAN IN 1957, AN OILMAN WHO SAID "THE MEEK SHALL INHERIT THE EARTH, BUT NOT ITS MINERAL RIGH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14480" y="762120"/>
            <a:ext cx="711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INITIALS  OF THE AUTHOR WHO WROTE "CANNERY ROW" AND "THE RED PO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11080" y="762120"/>
            <a:ext cx="7520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ODE WAS INTRODUCED IN 1963, AND WAS EXTENDED BY 4 DIGITS IN 198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589040" y="762120"/>
            <a:ext cx="5954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 7 DWARFS HAD THE SHORTE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33520" y="487692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PUTER  FILE 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AB WORD MEANING "SON" CAN BE FOUND IN MANY ARAB N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37960" y="762120"/>
            <a:ext cx="8668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ABBREVIATION FOR AN AFTERTHOUGHT IN A LE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50, WHAT WAS THE POSTAL ABBREVIATION FOR THE LARGEST U.S.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47720" y="761760"/>
            <a:ext cx="7647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FAMOUSLY SEEPS UP FROM THE GROUND IN HANCOCK   PARK IN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28120" y="761760"/>
            <a:ext cx="8085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UTTON ON A SCIENTIFIC CALCULATOR DOES ALMOST THE SAME THING AS THE "LN" BUT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1360" y="761760"/>
            <a:ext cx="8801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INITIALS OF THE RICHEST AMERICAN IN 1957, AN OILMAN WHO SAID "THE MEEK SHALL INHERIT THE EARTH, BUT NOT ITS MINERAL RIGH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99640" y="762120"/>
            <a:ext cx="7342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ODE WAS INTRODUCED IN 1963, AND WAS EXTENDED BY 4 DIGITS IN 198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30T19:36:15Z</dcterms:modified>
  <cp:revision>463</cp:revision>
  <dc:subject/>
  <dc:title>Slide 1</dc:title>
</cp:coreProperties>
</file>