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69A2-8B6F-43F0-8E35-9EDF9AF9F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4219-7847-44AB-A30B-6F266BAE4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C092-C0D7-4615-A9C1-076A1E8C9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0805-74C0-4A87-9281-5153F320F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70D8-9C3E-47A9-98C5-F65B72E0D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B6C1-59B5-44E2-BB50-DB10CFC9A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0466-407C-41A5-ABA8-B5F111934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C765-8442-4D5C-B8D8-78BE339A3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CC67-6494-46C4-A044-04397AED4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D6C2-9520-4E46-A011-5C00DDDE5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44E1-94FB-4A41-ACBA-C64586976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4112-2C02-4381-8E4F-7456077C9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B031-3077-4DA2-9B9E-480B44372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019B-060A-4C48-A512-532FC9950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4550-4606-402A-B6FD-9E9307C19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E18F-3426-4D88-B430-96987AB8E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4683-CF2C-4F0D-AAC9-7215FCB74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D608-120C-493E-8746-EC3C91DA9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F09A-9BB1-4103-A01B-B27CCF9AE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AAC0-7E80-4FD8-B660-8E310A3AC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ECA9-C56E-4A8B-86B7-5C3B04046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E68A-28D5-4B38-AE15-BC0E4D933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3F8A-8855-406C-A87D-FB59C9650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541520" y="761760"/>
            <a:ext cx="60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7 DWARFS HAD THE SHORTE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S  (JOHN  STEINBE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28880" y="762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 OF THE AUTHOR WHO WROTE "CANNERY ROW" AND "THE RED PO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74800" y="762120"/>
            <a:ext cx="739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AB WORD MEANING "SON" CAN BE FOUND IN MANY ARAB N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74680" y="487692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ABBREVIATION FOR AN AFTERTHOUGHT IN A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41440" y="762120"/>
            <a:ext cx="8059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50, WHAT WAS THE POSTAL ABBREVIATION FOR THE LARGEST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A  BREA)  TAR  (PI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1120" y="762120"/>
            <a:ext cx="778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FAMOUSLY SEEPS UP FROM THE GROUND IN HANCOCK   PARK IN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8200" y="762120"/>
            <a:ext cx="806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TTON ON A SCIENTIFIC CALCULATOR DOES ALMOST THE SAME THING AS THE "LN" BUT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PG  (J.  PAUL  GET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08080" y="762120"/>
            <a:ext cx="872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INITIALS OF THE RICHEST AMERICAN IN 1957, AN OILMAN WHO SAID "THE MEEK SHALL INHERIT THE EARTH, BUT NOT ITS MINERAL R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14480" y="762120"/>
            <a:ext cx="711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 OF THE AUTHOR WHO WROTE "CANNERY ROW" AND "THE RED PO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11080" y="762120"/>
            <a:ext cx="7520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ODE WAS INTRODUCED IN 1963, AND WAS EXTENDED BY 4 DIGITS IN 198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589040" y="762120"/>
            <a:ext cx="5954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7 DWARFS HAD THE SHORTE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33520" y="4876920"/>
            <a:ext cx="8076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UTER  FILE 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AB WORD MEANING "SON" CAN BE FOUND IN MANY ARAB N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ABBREVIATION FOR AN AFTERTHOUGHT IN A LET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50, WHAT WAS THE POSTAL ABBREVIATION FOR THE LARGEST U.S.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7720" y="761760"/>
            <a:ext cx="764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FAMOUSLY SEEPS UP FROM THE GROUND IN HANCOCK   PARK IN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8120" y="761760"/>
            <a:ext cx="8085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UTTON ON A SCIENTIFIC CALCULATOR DOES ALMOST THE SAME THING AS THE "LN" BUT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1360" y="761760"/>
            <a:ext cx="8801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INITIALS OF THE RICHEST AMERICAN IN 1957, AN OILMAN WHO SAID "THE MEEK SHALL INHERIT THE EARTH, BUT NOT ITS MINERAL R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99640" y="762120"/>
            <a:ext cx="7342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ODE WAS INTRODUCED IN 1963, AND WAS EXTENDED BY 4 DIGITS IN 198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30T19:36:15Z</dcterms:modified>
  <cp:revision>463</cp:revision>
  <dc:subject/>
  <dc:title>Slide 1</dc:title>
</cp:coreProperties>
</file>