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2662-6318-446E-AA4B-53050FE70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07BA-D327-4128-8C28-F3E6AB03C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54F3-993B-4434-B8C6-ECDEEEFBB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9559-CB68-4AEA-93D1-B986F2589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CFC2-189B-4501-88E9-20E04C562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EFE9-E2DF-48DB-BDBE-B42A12FE3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5253-4B7D-4295-8C49-F2556E6BB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B7BA-4A65-41DA-94F7-16992C515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BA28-9898-4253-AFA7-255950E7C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DED7-9F8E-47D3-B7CA-43934A1BE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E04D-308A-4260-B698-157A9BB71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1859-C228-4D0D-A21D-F0BE5D7CA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560B-B0D5-41F8-87E0-4C503FBE6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AEA2-FA3B-4A62-91FB-4A236065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0684-6A74-432C-ABD2-49873FFDD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5C6A-EEAC-4383-A829-983FE275B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1EEA-1660-487B-AB73-0F4A73368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074C-7C78-4727-A051-F02CF1EE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3BF6-48C4-4975-BD92-DCA8431E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97DA-764D-45B6-BA4D-911AD8977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9274-63CE-4B48-AEE6-B8BF036DF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0436-7EF7-4E2E-AA8F-3AE214652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416C-3E76-4750-A564-8FE7C999B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41520" y="76176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THA FRANKLIN WAS KNOWN AS "THE QUEEN OF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00080" y="48769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28880" y="762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11 SUPERHERO FILM LARGELY TAKING PLACE DURING THE 1962 CUBAN MISSILE CRISIS WAS "X-MEN: ____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YONCÉ'S SONG THAT SPENT THE MOST TIME AT THE TOP OF THE CHARTS IN 2006 WAS "____ ON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CI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TENTH OF A LITER IS CALLED A ____LI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69920" y="762120"/>
            <a:ext cx="880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NCE VAUGHN, JENNIFER CARPENTER, AND DON JOHNSON STARRED IN THE 2017 FILM "BRAWL IN ____ BLOCK 99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03240" y="762120"/>
            <a:ext cx="7337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72 WOODY ALLEN FILM WHOSE TITLE MISQUOTES HUMPHREY BOGART IN "CASABLANCA" IS "____ IT AGAIN, S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8200" y="762120"/>
            <a:ext cx="806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HIGHEST SELLING VIDEO GAME SERIES OF ALL TIME IS "GRAND THEFT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28480" y="762120"/>
            <a:ext cx="8085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.M. FORSTER'S NOVEL "A ___ WITH A VIEW" WAS MADE INTO FILMS IN 1985 AND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14480" y="762120"/>
            <a:ext cx="71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11 SUPERHERO FILM LARGELY TAKING PLACE DURING THE 1962 CUBAN MISSILE CRISIS WAS "X-MEN: ____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1080" y="762120"/>
            <a:ext cx="7520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 FIXX WAS THE AUTHOR OF THE 1977 BEST-SELLING NON-FICTION BOOK "THE COMPLETE BOOK OF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589040" y="762120"/>
            <a:ext cx="5954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THA FRANKLIN WAS KNOWN AS "THE QUEEN OF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8769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MAT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448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YONCÉ'S SONG THAT SPENT THE MOST TIME AT THE TOP OF THE CHARTS IN 2006 WAS "____ ON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TENTH OF A LITER IS CALLED A ____LI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1360" y="762120"/>
            <a:ext cx="8801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NCE VAUGHN, JENNIFER CARPENTER, AND DON JOHNSON STARRED IN THE 2017 FILM "BRAWL IN ____ BLOCK 99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0720" y="761760"/>
            <a:ext cx="7520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72 WOODY ALLEN FILM WHOSE TITLE MISQUOTES HUMPHREY BOGART IN "CASABLANCA" IS "____ IT AGAIN, S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8120" y="761760"/>
            <a:ext cx="8085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HIGHEST SELLING VIDEO GAME SERIES OF ALL TIME IS "GRAND THEFT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280" y="761760"/>
            <a:ext cx="8115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.M. FORSTER'S NOVEL "A ___ WITH A VIEW" WAS MADE INTO FILMS IN 1985 AND 200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 FIXX WAS THE AUTHOR OF THE 1977 BEST-SELLING NON-FICTION BOOK "THE COMPLETE BOOK OF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30T19:40:31Z</dcterms:modified>
  <cp:revision>460</cp:revision>
  <dc:subject/>
  <dc:title>Slide 1</dc:title>
</cp:coreProperties>
</file>