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B72A-5028-4DF1-88BD-02F94880B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974B-C48E-4D16-9EC9-E775B1AC4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7A4A-FF69-4309-B8CD-E70878606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8B89-4E60-42A9-90CD-12BDC1FBB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58AB-6A53-496C-ACBE-3D0535B83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D779-4BF8-433E-B9CE-F4296E7C3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52E3-DC00-48B3-BFDB-3774134C0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48AA-F7B7-43BD-A1D5-C438B662A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45A3-73C8-4399-AAE9-9D07CC0E2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948E-1F3D-4D58-BC6C-45579A726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5356-AD6F-423B-818F-9B72A6AEE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F91A-FACB-4476-83F1-128469015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D7DF-8F21-4986-80FA-7EFCB20F9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318E-8051-4E89-B85F-6761ED2D0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441E-7264-46B3-9D2C-7DB216531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7608-F594-4B71-A310-62F93A19A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ED71-2144-4AA9-871B-0FF61D279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D161-3BF2-4384-A576-ABAE4BB4E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BFC2-C32F-4060-BEF4-9478E113D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8875-C24A-4279-A9F1-BC24E6CF9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DD97-B7B1-42B3-A357-43731A36D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AB8A-DE1A-4DB7-A373-797A9F464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535B-9BEC-4149-8D12-4C5C17690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41520" y="76176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THA FRANKLIN WAS KNOWN AS "THE QUEEN OF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00080" y="487692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28880" y="76212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011 SUPERHERO FILM LARGELY TAKING PLACE DURING THE 1962 CUBAN MISSILE CRISIS WAS "X-MEN: ____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74800" y="762120"/>
            <a:ext cx="739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YONCÉ'S SONG THAT SPENT THE MOST TIME AT THE TOP OF THE CHARTS IN 2006 WAS "____ ON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CI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62080" y="762120"/>
            <a:ext cx="8653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TENTH OF A LITER IS CALLED A ____LI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69920" y="762120"/>
            <a:ext cx="880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NCE VAUGHN, JENNIFER CARPENTER, AND DON JOHNSON STARRED IN THE 2017 FILM "BRAWL IN ____ BLOCK 99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03240" y="762120"/>
            <a:ext cx="7337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72 WOODY ALLEN FILM WHOSE TITLE MISQUOTES HUMPHREY BOGART IN "CASABLANCA" IS "____ IT AGAIN, S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8200" y="762120"/>
            <a:ext cx="806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HIGHEST SELLING VIDEO GAME SERIES OF ALL TIME IS "GRAND THEFT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28480" y="762120"/>
            <a:ext cx="8085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.M. FORSTER'S NOVEL "A ___ WITH A VIEW" WAS MADE INTO FILMS IN 1985 AND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14480" y="762120"/>
            <a:ext cx="711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011 SUPERHERO FILM LARGELY TAKING PLACE DURING THE 1962 CUBAN MISSILE CRISIS WAS "X-MEN: ____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11080" y="762120"/>
            <a:ext cx="7520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 FIXX WAS THE AUTHOR OF THE 1977 BEST-SELLING NON-FICTION BOOK "THE COMPLETE BOOK OF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589040" y="762120"/>
            <a:ext cx="5954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THA FRANKLIN WAS KNOWN AS "THE QUEEN OF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87692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MAT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7720" y="761760"/>
            <a:ext cx="7448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YONCÉ'S SONG THAT SPENT THE MOST TIME AT THE TOP OF THE CHARTS IN 2006 WAS "____ ON 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37960" y="762120"/>
            <a:ext cx="866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TENTH OF A LITER IS CALLED A ____LI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1360" y="762120"/>
            <a:ext cx="8801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NCE VAUGHN, JENNIFER CARPENTER, AND DON JOHNSON STARRED IN THE 2017 FILM "BRAWL IN ____ BLOCK 99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10720" y="761760"/>
            <a:ext cx="7520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72 WOODY ALLEN FILM WHOSE TITLE MISQUOTES HUMPHREY BOGART IN "CASABLANCA" IS "____ IT AGAIN, S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28120" y="761760"/>
            <a:ext cx="8085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HIGHEST SELLING VIDEO GAME SERIES OF ALL TIME IS "GRAND THEFT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280" y="761760"/>
            <a:ext cx="8115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.M. FORSTER'S NOVEL "A ___ WITH A VIEW" WAS MADE INTO FILMS IN 1985 AND 200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 FIXX WAS THE AUTHOR OF THE 1977 BEST-SELLING NON-FICTION BOOK "THE COMPLETE BOOK OF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30T19:40:31Z</dcterms:modified>
  <cp:revision>460</cp:revision>
  <dc:subject/>
  <dc:title>Slide 1</dc:title>
</cp:coreProperties>
</file>