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0D04-AB48-4A39-8B80-71BE2A352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51AD-74BA-46A9-A3D0-0A0B75AC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DC98-A7FD-4EDC-B12F-2F6FC73A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4107-80D5-4ACE-B196-E53ED30C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5E45-860C-4BBD-A8C5-F99EAD44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C832-6E03-4ED5-B990-468098AC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FDF-DA92-4070-9D5F-76C5F986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9AAB-A9C2-4605-8A66-6566788B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E53-431B-45CD-A922-7059D2A1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A75A-572E-4203-8597-6998170E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449-0D33-45E1-9C01-5C7DB81F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690-65F9-4D5A-9E36-25ADC073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831-3626-4670-ACB6-332F4D49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8EB-E4A0-46EC-B759-E8CB4A06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EED5-B727-4AA7-930B-383A5D17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82E1-4885-462D-8B0A-9EB8296C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7CD-1544-4834-92AA-237613AD7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A5C-9DA9-496E-BCE1-D0B04419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6A5A-AB8B-47C4-BC53-4974435B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25C1-B015-4098-B50B-1BD297A64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6876-8536-4345-9774-ACC0C6F7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F95-7838-409E-B4FA-C763F637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A90-7831-47CE-A025-FA030488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ATIONAL PARK IN CALIFORNIA WAS A RECORD HIGH TEMPERATURE OF 13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CORD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MIDDLE STRIPE ON RUSSIA'S NATIONAL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CHARACTERS ARE A BUNCH OF BIRDS WHO WORK FOR A NEWSPA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1000" y="762120"/>
            <a:ext cx="844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COMPOSER OF "4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'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, CONSISTING OF 4 MINUTES AND 33 SECONDS OF SI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LL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5120" y="762120"/>
            <a:ext cx="821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RELIEF PITCHERS WARM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2560" y="762120"/>
            <a:ext cx="777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2016 SUMMER OLYMPICS, SIMONE BILES WON GOLD MEDALS IN 2 INDIVIDUAL EVENTS: FLOOR EXERCISE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W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ANDIDATE DONALD TRUMP CLAIM HE WAS GOING TO D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INE)  CH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8480" y="762120"/>
            <a:ext cx="8085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NURSE ON THE ORIGINAL SERIES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MIDDLE STRIPE ON RUSSIA'S NATIONAL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WRESTLER TURNED MOVIE STA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 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6440" y="762120"/>
            <a:ext cx="7791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ATIONAL PARK IN CALIFORNIA WAS A RECORD HIGH TEMPERATURE OF 13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CORD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20760" y="4343400"/>
            <a:ext cx="67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COLLEGE  FOOTBALL  STADI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CHARACTERS ARE A BUNCH OF BIRDS WHO WORK FOR A NEWSPA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9600" y="762120"/>
            <a:ext cx="8524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COMPOSER OF "4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'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, CONSISTING OF 4 MINUTES AND 33 SECONDS OF SI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RELIEF PITCHERS WARM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2880" y="761760"/>
            <a:ext cx="787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2016 SUMMER OLYMPICS, SIMONE BILES WON GOLD MEDALS IN 2 INDIVIDUAL EVENTS: FLOOR EXERCISE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ANDIDATE DONALD TRUMP CLAIM HE WAS GOING TO D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280" y="761760"/>
            <a:ext cx="8115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NURSE ON THE ORIGINAL SERIES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WRESTLER TURNED MOVIE STA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46:57Z</dcterms:modified>
  <cp:revision>463</cp:revision>
  <dc:subject/>
  <dc:title>Slide 1</dc:title>
</cp:coreProperties>
</file>