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DE54-B707-4C84-A562-9CA4E166F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1830-E35B-4292-B14C-E0C641616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7500-3F0C-4A9C-BFC9-A0A06DA28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9448-5F40-482D-B810-B33FDF446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776A-4C80-4D1D-8E90-3598E3AD0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6B8F-6F64-4080-82D9-1CE7168E4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320B-318F-46AE-B235-7C1D5892F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BF50-57D5-49A7-B031-5A2113D63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F19B-9679-438C-9B5E-5722AC47A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2104-8D32-4B9B-BB74-125D57F99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153F-C6C3-4EA2-ADF3-E04975C8D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EF03-32EE-4DB4-B49E-199CDCB42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11A3-E104-4FC3-A147-E8E6AEBB9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AA82-1D08-40B0-89DA-B59DE7C55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5D72-2E01-4F6B-956D-91FF86EDC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3055-C302-4F23-984A-72658EFDB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3C23-4BE1-4AEB-9931-E62F02FA4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1835-8223-4BCA-87F9-9BDE4D83B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C319-653F-45FF-BF17-9292E7CE9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7E3D-1C33-4D68-849F-7EDCB33D7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B794-FF5E-4039-A3C8-755C9FF2A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B953-3136-4D7E-996F-C7E0A5116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66A1-12AE-4A09-8CB6-BFFED6D1D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NATIONAL PARK IN CALIFORNIA WAS A RECORD HIGH TEMPERATURE OF 13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RECORDED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95320" y="762120"/>
            <a:ext cx="7353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THE MIDDLE STRIPE ON RUSSIA'S NATIONAL FLA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228600" y="487692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874800" y="762120"/>
            <a:ext cx="7394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STRIP'S CHARACTERS ARE A BUNCH OF BIRDS WHO WORK FOR A NEWSPAP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266760" y="48769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OHN)  C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51000" y="762120"/>
            <a:ext cx="8442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 THE COMPOSER OF "4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' 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"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, CONSISTING OF 4 MINUTES AND 33 SECONDS OF SIL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12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ULLP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65120" y="762120"/>
            <a:ext cx="8212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ASEBALL, WHERE DO RELIEF PITCHERS WARM 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87692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A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82560" y="762120"/>
            <a:ext cx="7778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THE 2016 SUMMER OLYMPICS, SIMONE BILES WON GOLD MEDALS IN 2 INDIVIDUAL EVENTS: FLOOR EXERCISE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WA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63560" y="762120"/>
            <a:ext cx="7615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CANDIDATE DONALD TRUMP CLAIM HE WAS GOING TO DR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CHRISTINE)  CHAP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28480" y="762120"/>
            <a:ext cx="8085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E NURSE ON THE ORIGINAL SERIES OF "STAR TRE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87400" y="762120"/>
            <a:ext cx="7367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THE MIDDLE STRIPE ON RUSSIA'S NATIONAL FLA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11080" y="762120"/>
            <a:ext cx="75200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OF WRESTLER TURNED MOVIE STAR DWAYNE JOHN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ATH  VAL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76440" y="762120"/>
            <a:ext cx="7791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NATIONAL PARK IN CALIFORNIA WAS A RECORD HIGH TEMPERATURE OF 13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RECORDE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220760" y="4343400"/>
            <a:ext cx="6701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CKNAMES  OF  COLLEGE  FOOTBALL  STADIU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STRIP'S CHARACTERS ARE A BUNCH OF BIRDS WHO WORK FOR A NEWSPAP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09600" y="762120"/>
            <a:ext cx="8524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 THE COMPOSER OF "4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' 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"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, CONSISTING OF 4 MINUTES AND 33 SECONDS OF SIL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81040" y="762120"/>
            <a:ext cx="7981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ASEBALL, WHERE DO RELIEF PITCHERS WARM U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32880" y="761760"/>
            <a:ext cx="7875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THE 2016 SUMMER OLYMPICS, SIMONE BILES WON GOLD MEDALS IN 2 INDIVIDUAL EVENTS: FLOOR EXERCISE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74800" y="761760"/>
            <a:ext cx="7394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CANDIDATE DONALD TRUMP CLAIM HE WAS GOING TO DRA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47280" y="761760"/>
            <a:ext cx="8115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E NURSE ON THE ORIGINAL SERIES OF "STAR TRE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58800" y="762120"/>
            <a:ext cx="7824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OF WRESTLER TURNED MOVIE STAR DWAYNE JOHN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1-30T19:46:57Z</dcterms:modified>
  <cp:revision>463</cp:revision>
  <dc:subject/>
  <dc:title>Slide 1</dc:title>
</cp:coreProperties>
</file>