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7F27-2ACF-4363-BCB0-2EDD4C32A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5655-72C6-4108-A3EE-452082384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B5BC-8389-4A50-B721-4490A1613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013F-C237-48ED-A81D-79DF17661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9ACF-C294-49E6-947B-DD630EA80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F464-34ED-43F7-B008-34181A847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0CDD-C81C-4FF6-8989-43D7686EB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F167-112B-49A0-9F38-B00E7EDA0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57B9-725C-4194-95AC-59877AB4F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60C9-F71C-4A8B-94B6-E2492E862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27A0-3E03-448C-B293-E5BE06FD7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9A6D-3F3D-4C01-938A-D8CD7A2B2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33A3-A58B-45B1-9DBB-CB57D8701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6DD5-DCEE-4D97-A41B-80B3C91F0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C516-1D82-42A4-BF46-5E56B32E1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AFD6-F8E3-4315-826A-850409342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B912-B3F6-4C5A-BA52-BE5B8085D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5ECD-E098-451D-A924-C9BC754EB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6D68-2503-4CF7-9268-8BB92DBF9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684B-0AF5-4914-89FE-EF433A03D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D65A-7364-418B-A8EB-1EB8F51E1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8FA4-7DC6-443E-8B48-1ADE38D70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B4CD-6E35-47A3-8DAE-E2CFB9617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17520" y="761760"/>
            <a:ext cx="6708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WORLD'S LARGEST E-COMMERCE MARKETPLAC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-50760" y="4952880"/>
            <a:ext cx="5181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PUDS)  MACKENZ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44600" y="933480"/>
            <a:ext cx="4190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IS BUDWEISER MASC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5145120" y="228600"/>
            <a:ext cx="3733920" cy="52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228600" y="48769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H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36640" y="762120"/>
            <a:ext cx="7470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U.S. STATE WHOSE STATE FLAG IS NOT RECTANGU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UMB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62080" y="762120"/>
            <a:ext cx="8653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TH PRESIDENT ROOSEVELTS, PRESIDENT OBAMA, AND SUPREME COURT JUSTICES  GINSBURG AND GORSUCH ALL ATTENDED WHAT UNIVERSIT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INT  LAW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14360" y="762120"/>
            <a:ext cx="8315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CHDEACON OF ROME IN 258 GAVE THE ENTIRE WEALTH OF THE CHURCH TO THE POOR INSTEAD OF TO ROMAN EMPEROR VALERI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8116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NA  (DUNHA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95280" y="762120"/>
            <a:ext cx="8353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CREATOR, WRITER, AND STAR OF THE HBO SERIES "GIRL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01640" y="762120"/>
            <a:ext cx="7740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JERSEY DOES THE LEADER OF THE TOUR DE FRANCE W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O  GRA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42960" y="762120"/>
            <a:ext cx="7856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3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ILM IN JOHN FORD'S "CAVALRY TRILOGY"  STARRING JOHN WAYNE, AFTER "FORT APACHE" AND "SHE WORE A YELLOW RIBBON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990720"/>
            <a:ext cx="422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IS BUDWEISER MASCO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145120" y="228600"/>
            <a:ext cx="373392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SSISSIP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90440" y="762120"/>
            <a:ext cx="6961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U.S. STATE CONTAINS THE HIGHEST PERCENTAGE OF AFRICAN-AMERICA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AZ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247760" y="762120"/>
            <a:ext cx="6648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WORLD'S LARGEST E-COMMERCE MARKETPLA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533520" y="4876920"/>
            <a:ext cx="8076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43040" y="761760"/>
            <a:ext cx="7657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U.S. STATE WHOSE STATE FLAG IS NOT RECTANGUL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37960" y="762120"/>
            <a:ext cx="8668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TH PRESIDENT ROOSEVELTS, PRESIDENT OBAMA, AND SUPREME COURT JUSTICES  GINSBURG AND GORSUCH ALL ATTENDED WHAT UNIVERSIT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CHDEACON OF ROME IN 258 GAVE THE ENTIRE WEALTH OF THE CHURCH TO THE POOR INSTEAD OF TO ROMAN EMPEROR VALERI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82480" y="761760"/>
            <a:ext cx="7979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CREATOR, WRITER, AND STAR OF THE HBO SERIES "GIRL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71400" y="761760"/>
            <a:ext cx="7801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JERSEY DOES THE LEADER OF THE TOUR DE FRANCE W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3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ILM IN JOHN FORD'S "CAVALRY TRILOGY"  STARRING JOHN WAYNE, AFTER "FORT APACHE" AND "SHE WORE A YELLOW RIBBON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16000" y="762120"/>
            <a:ext cx="6910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U.S. STATE CONTAINS THE HIGHEST PERCENTAGE OF AFRICAN-AMERICAN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1-30T19:54:48Z</dcterms:modified>
  <cp:revision>454</cp:revision>
  <dc:subject/>
  <dc:title>Slide 1</dc:title>
</cp:coreProperties>
</file>