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540-C979-42AC-94E5-4C2BB7FC0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9FA5-A4C5-4BE3-BD24-32E7EF0D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C942-AED7-4CA3-8DFD-38C9DE927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63FD-78C0-454C-92DB-3E06C9E5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C086-5F29-48E6-BCE0-618640AD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D411-67BA-4F5D-AB38-052349177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0AFF-CAE4-48E8-9F69-5F453E34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436D-24C2-4921-945F-BF38DFAB6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F421-F982-4662-999D-F83D0F09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626A-EF8B-4314-A60B-08FBC143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7A79-FDB5-4EEA-B88E-5BD15B7D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DE8-1178-4283-AA45-2088E022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B649-9429-4619-B49D-653FF489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B2E6-02C3-4126-9EDE-0FEAF790C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B1C-B8BA-45AB-872D-38A96352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4103-3442-4966-8F5F-52119C3AC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7F8A-FF6B-44AA-AC7D-F2773109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A691-13D8-4043-8555-F1E239CA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419B-A350-4DB2-815A-E22A0312B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0AA-571A-49C3-B4DB-ED073F64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6C1-36B0-48E7-A862-351FF5725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6932-C2E4-4356-AD0F-77E325EEF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02F1-EE5C-49DA-9162-80E8044C5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7520" y="761760"/>
            <a:ext cx="67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ORLD'S LARGEST E-COMMERCE MARKETP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-50760" y="495288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PUDS)  MACKEN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44600" y="933480"/>
            <a:ext cx="4190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BUDWEISER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5145120" y="228600"/>
            <a:ext cx="3733920" cy="52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6640" y="762120"/>
            <a:ext cx="747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STATE FLAG IS NOT RECTANG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PRESIDENT ROOSEVELTS, PRESIDENT OBAMA, AND SUPREME COURT JUSTICES  GINSBURG AND GORSUCH ALL ATTENDED WHAT UNIVER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DEACON OF ROME IN 258 GAVE THE ENTIRE WEALTH OF THE CHURCH TO THE POOR INSTEAD OF TO ROMAN EMPEROR VALER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A  (DUNH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, WRITER, AND STAR OF THE HBO SERIES "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1640" y="762120"/>
            <a:ext cx="774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JERSEY DOES THE LEADER OF THE TOUR DE FRANCE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2960" y="762120"/>
            <a:ext cx="78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ILM IN JOHN FORD'S "CAVALRY TRILOGY"  STARRING JOHN WAYNE, AFTER "FORT APACHE" AND "SHE WORE A YELLOW RIBB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422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IS BUDWEISER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45120" y="228600"/>
            <a:ext cx="373392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90440" y="762120"/>
            <a:ext cx="696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U.S. STATE CONTAINS THE HIGHEST PERCENTAGE OF AFRICAN-AMERIC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47760" y="762120"/>
            <a:ext cx="664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ORLD'S LARGEST E-COMMERCE MARKETPL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STATE FLAG IS NOT RECTANG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PRESIDENT ROOSEVELTS, PRESIDENT OBAMA, AND SUPREME COURT JUSTICES  GINSBURG AND GORSUCH ALL ATTENDED WHAT UNIVER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DEACON OF ROME IN 258 GAVE THE ENTIRE WEALTH OF THE CHURCH TO THE POOR INSTEAD OF TO ROMAN EMPEROR VALER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2480" y="761760"/>
            <a:ext cx="797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, WRITER, AND STAR OF THE HBO SERIES "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JERSEY DOES THE LEADER OF THE TOUR DE FRANCE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ILM IN JOHN FORD'S "CAVALRY TRILOGY"  STARRING JOHN WAYNE, AFTER "FORT APACHE" AND "SHE WORE A YELLOW RIBB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16000" y="762120"/>
            <a:ext cx="69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U.S. STATE CONTAINS THE HIGHEST PERCENTAGE OF AFRICAN-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54:48Z</dcterms:modified>
  <cp:revision>454</cp:revision>
  <dc:subject/>
  <dc:title>Slide 1</dc:title>
</cp:coreProperties>
</file>