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5E2EC-E929-4AF6-8849-A33E69D398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269F1-C9A8-485A-A2FB-DECA4D79D5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F1A10-FC62-471D-A1E5-52BC3BAFFA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99AF3-233A-454A-9949-83F113D1D8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1134C-50D4-4C0D-98A7-CFA84E7AAA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32BFA-3EE5-46C5-8535-A9315289D6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F7582-281C-4439-90D9-AE29D79265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7A1A1-A519-450C-87F1-C0BABF6EE3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CC146-8B5D-4334-92D1-F04D9CC75B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FAC1B-D93C-4C9B-A284-2ADB219945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41855-FD29-4F79-8B4C-990645E10A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1406D-E93E-41C9-8563-DB579A3ADD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5CFF7-0D91-4CD6-9078-BB9EB04172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48289-807B-42F2-A98F-94DD34D1E5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F75BB-34D4-42BC-994A-9AE5335967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648D3-F371-41C5-BCCC-41980C4949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E4A60-6982-490B-AB20-E931CE0C4F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21176-2B24-4186-830E-DD61AA6426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23FED-3269-4145-BB41-08EF46A030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C828A-D61B-4139-9994-563BF802FC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D1B1C-CE97-4334-8785-5FD2F218DE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6B5B0-6CC9-46F1-B3C0-0BB4E187F3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30651-C1E8-4E29-9624-6F2F88185B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600200" y="1523880"/>
            <a:ext cx="5943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V NETWORK SHOWED "THE CLOSER", "LEVERAGE", "RIZZOLI &amp; ISLES", AND "MAJOR CRIMES"?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990720" y="4876920"/>
            <a:ext cx="71625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IP  (VAN  WINKL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3"/>
          <p:cNvSpPr/>
          <p:nvPr/>
        </p:nvSpPr>
        <p:spPr>
          <a:xfrm>
            <a:off x="876240" y="762120"/>
            <a:ext cx="7391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NAME OF THE CHARACTER WHO FALLS ASLEEP FOR 20 YEARS IN A SHORT STORY BY WASHINGTON IRVI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DOCTOR)  WH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685800" y="762120"/>
            <a:ext cx="77724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WORD IN THE TITLE OF THE LONGEST-RUNNING SCIENCE FICTION TV SHOW IN THE WORL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80880" y="4876920"/>
            <a:ext cx="8382240" cy="11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AS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647640" y="712800"/>
            <a:ext cx="78487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IS INSEC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1" name="Picture 3" descr="wasp2.jpg"/>
          <p:cNvPicPr/>
          <p:nvPr/>
        </p:nvPicPr>
        <p:blipFill>
          <a:blip r:embed="rId1"/>
          <a:stretch/>
        </p:blipFill>
        <p:spPr>
          <a:xfrm>
            <a:off x="2590920" y="2057400"/>
            <a:ext cx="3962160" cy="2643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3"/>
          <p:cNvSpPr/>
          <p:nvPr/>
        </p:nvSpPr>
        <p:spPr>
          <a:xfrm>
            <a:off x="343080" y="4876920"/>
            <a:ext cx="8458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2"/>
          <p:cNvSpPr/>
          <p:nvPr/>
        </p:nvSpPr>
        <p:spPr>
          <a:xfrm>
            <a:off x="914400" y="762120"/>
            <a:ext cx="7315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IS FISH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4" name="Picture 4" descr="download.jpg"/>
          <p:cNvPicPr/>
          <p:nvPr/>
        </p:nvPicPr>
        <p:blipFill>
          <a:blip r:embed="rId1"/>
          <a:stretch/>
        </p:blipFill>
        <p:spPr>
          <a:xfrm>
            <a:off x="1066680" y="1905120"/>
            <a:ext cx="7086600" cy="2869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E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762120" y="758880"/>
            <a:ext cx="761976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CRAZY" AND "KISS FROM A ROS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457200" y="4876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AL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952560" y="762120"/>
            <a:ext cx="723888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SODIUM CHLORIDE BETTER KNOWN A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1143000" y="4876920"/>
            <a:ext cx="6858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I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905040" y="762120"/>
            <a:ext cx="73339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ROUP SANG "LICK IT UP" AND "I WANNA ROCK AND ROLL ALL NIGHT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723960" y="7621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NAME   OF THE CHARACTER WHO FALLS ASLEEP FOR 20 YEARS IN A SHORT STORY BY WASHINGTON IRVING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380880" y="4876920"/>
            <a:ext cx="838224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ASI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895320" y="762120"/>
            <a:ext cx="735336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CHEMISTRY, WHAT IS THE OPPOSITE OF ACIDIC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2"/>
          <p:cNvSpPr/>
          <p:nvPr/>
        </p:nvSpPr>
        <p:spPr>
          <a:xfrm>
            <a:off x="647640" y="762120"/>
            <a:ext cx="78487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V NETWORK SHOWED "THE CLOSER", "LEVERAGE", "RIZZOLI &amp; ISLES", AND "MAJOR CRIMES"?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3"/>
          <p:cNvSpPr/>
          <p:nvPr/>
        </p:nvSpPr>
        <p:spPr>
          <a:xfrm>
            <a:off x="1143000" y="4876920"/>
            <a:ext cx="6858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Y  ARE  ALL  ACRONY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647640" y="7617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WORD IN THE TITLE OF THE LONGEST-RUNNING SCIENCE FICTION TV SHOW IN THE WORL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647640" y="762120"/>
            <a:ext cx="78487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IS INSEC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5" name="Picture 3" descr="wasp2.jpg"/>
          <p:cNvPicPr/>
          <p:nvPr/>
        </p:nvPicPr>
        <p:blipFill>
          <a:blip r:embed="rId1"/>
          <a:stretch/>
        </p:blipFill>
        <p:spPr>
          <a:xfrm>
            <a:off x="2590920" y="2057400"/>
            <a:ext cx="3962160" cy="2643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876240" y="762120"/>
            <a:ext cx="73915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IS FISH? DUVALI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7" name="Picture 2" descr="download.jpg"/>
          <p:cNvPicPr/>
          <p:nvPr/>
        </p:nvPicPr>
        <p:blipFill>
          <a:blip r:embed="rId1"/>
          <a:stretch/>
        </p:blipFill>
        <p:spPr>
          <a:xfrm>
            <a:off x="1066680" y="2057400"/>
            <a:ext cx="7086600" cy="2870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647640" y="72396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CRAZY" AND "KISS FROM A ROS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609480" y="761760"/>
            <a:ext cx="79250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SODIUM CHLORIDE BETTER KNOWN A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876240" y="761760"/>
            <a:ext cx="73915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ROUP SANG "LICK IT UP" AND "I WANNA ROCK AND ROLL ALL NIGHT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/>
          </p:nvPr>
        </p:nvSpPr>
        <p:spPr>
          <a:xfrm>
            <a:off x="914400" y="837720"/>
            <a:ext cx="73152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CHEMISTRY, WHAT IS THE OPPOSITE OF ACIDIC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25T14:31:44Z</dcterms:created>
  <dc:creator>Jennifer Budzinski</dc:creator>
  <dc:description/>
  <dc:language>en-US</dc:language>
  <cp:lastModifiedBy>Erich Friedman</cp:lastModifiedBy>
  <dcterms:modified xsi:type="dcterms:W3CDTF">2020-08-24T23:36:49Z</dcterms:modified>
  <cp:revision>369</cp:revision>
  <dc:subject/>
  <dc:title>Slide 1</dc:title>
</cp:coreProperties>
</file>