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50FB-9957-40CA-A263-DCCD5332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3FC4-4F09-4D47-A25E-813F3712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DB31-CDBB-4F28-A9D6-80113CA5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B17-E341-490E-900C-F6DC8CE0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ED8-BA84-4343-8B41-5C67689A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98DB-1FDF-406C-A2C5-1342F3D6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E39C-9317-46D9-AB08-430F88B8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72A9-D058-47EB-AD66-283BEC36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783-7B8B-49FF-AD9E-5419CE0F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195-EE48-4179-802C-A67DC99B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133-6BA6-4282-B173-96B3E134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DC1-2AD4-429C-96F2-4ADA8CD4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3CD0-27D9-400D-9D93-35EC18BE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10C-5958-4BBF-97B3-E54146DB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C7C-1966-4476-8BF7-415A145C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8840-77F2-45B6-B717-5BB8A1AA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E52-3BFD-4937-A9FA-7C794500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E80-858E-42B3-BB45-91DD8532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D97C-A309-487A-AFD1-C6C1F23D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2B2-7B6F-471B-8404-406326C7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03A9-63DA-4C1E-ACF6-39D89C17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5560-B2DF-4C9B-9B3C-A2DBD9A23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33DF-4201-44EE-A0DA-75FF3611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  (VAN  WINK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WHO FALLS ASLEEP FOR 20 YEARS IN A SHORT STORY BY WASHINGTON I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CTOR)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12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download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5888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OF THE CHARACTER WHO FALLS ASLEEP FOR 20 YEARS IN A SHORT STORY BY WASHINGTON I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ACRONY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4:31:44Z</dcterms:created>
  <dc:creator>Jennifer Budzinski</dc:creator>
  <dc:description/>
  <dc:language>en-US</dc:language>
  <cp:lastModifiedBy>Erich Friedman</cp:lastModifiedBy>
  <dcterms:modified xsi:type="dcterms:W3CDTF">2020-08-24T23:36:49Z</dcterms:modified>
  <cp:revision>369</cp:revision>
  <dc:subject/>
  <dc:title>Slide 1</dc:title>
</cp:coreProperties>
</file>