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F463-411C-41A2-93E0-3C03281B9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CA83-3671-48C2-B1A8-5AF3FF382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EA4C-0EB3-407A-A758-F75CC1777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B61-1EC0-41D9-8F74-88E4AC1E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4CC6-8B81-4655-8D73-DCDF2AA6D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665D-3767-498D-9520-B5FAA5C7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4F4A-1D4F-429A-BCBB-DA4409C4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67B-AA9B-407C-BA99-0DC43A2B0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41AF-68EC-44D7-81CA-F4C74CB7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6A67-5FA8-44FE-922C-C306DD87A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EBD9-ECB4-4025-B56A-07C92DD1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04FC-3034-4A22-B504-CA6162934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D2C-8AB2-42F7-98EE-F5BA052A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D5B9-9AE7-4F18-BCC5-A0FDC205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970D-3C03-49E4-87A3-9AA85A1E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79C7-0BA8-4EE7-9DA4-ADC85A0DA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5FFF-5851-42C7-A083-93C4FC74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5F77-A843-40F0-9D11-170E0409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96CE-DC67-4A56-8175-BBED5BD8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5121-E217-4687-A188-614EF1DE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DD6D-3FCC-4446-A3AA-0A3B6C049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C98E-0A25-430B-A413-7A0164DFA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C80D-38E0-42F7-A80E-8D5141919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  (VAN  WINK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WHO FALLS ASLEEP FOR 20 YEARS IN A SHORT STORY BY WASHINGTON I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CTOR)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12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download.jpg"/>
          <p:cNvPicPr/>
          <p:nvPr/>
        </p:nvPicPr>
        <p:blipFill>
          <a:blip r:embed="rId1"/>
          <a:stretch/>
        </p:blipFill>
        <p:spPr>
          <a:xfrm>
            <a:off x="1066680" y="1905120"/>
            <a:ext cx="708660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5888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OF THE CHARACTER WHO FALLS ASLEEP FOR 20 YEARS IN A SHORT STORY BY WASHINGTON I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SHOWED "THE CLOSER", "LEVERAGE", "RIZZOLI &amp; ISLES", AND "MAJOR CRIM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ACRONY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LONGEST-RUNNING SCIENCE FICTION TV SHOW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INS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wasp2.jpg"/>
          <p:cNvPicPr/>
          <p:nvPr/>
        </p:nvPicPr>
        <p:blipFill>
          <a:blip r:embed="rId1"/>
          <a:stretch/>
        </p:blipFill>
        <p:spPr>
          <a:xfrm>
            <a:off x="2590920" y="2057400"/>
            <a:ext cx="39621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FISH?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DIUM CHLOR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LICK IT UP" AND "I WANNA ROCK AND ROLL ALL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8377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IS THE OPPOSITE OF ACID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4:31:44Z</dcterms:created>
  <dc:creator>Jennifer Budzinski</dc:creator>
  <dc:description/>
  <dc:language>en-US</dc:language>
  <cp:lastModifiedBy>Erich Friedman</cp:lastModifiedBy>
  <dcterms:modified xsi:type="dcterms:W3CDTF">2020-08-24T23:36:49Z</dcterms:modified>
  <cp:revision>369</cp:revision>
  <dc:subject/>
  <dc:title>Slide 1</dc:title>
</cp:coreProperties>
</file>