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D063-E784-44A7-9FE7-1CC7E3D98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E80E-538F-411B-9C86-5EA52DFC4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E03D-F2FC-4585-A015-6C4285E93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A2B6-2009-4BAF-A3C2-9C2677E19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08A6-E49C-4C7A-8E7A-F194C2F1B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9444-BC27-47CC-AFFD-104190B08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60C8-996A-41A7-970A-0DC467A0D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1805-6D52-4F34-826B-14FE6BEE0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F524-2CA7-46AC-B97F-167B1161D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12D6-B891-4203-A40E-D556C1842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34B9-A399-491E-8BD3-D5AABBBC4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AF5D-8D42-4ED5-8217-61F5540CB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E209-4CB4-4832-9687-020245631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B1FF-82B7-427C-A4CB-79768A6FE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4B11-28D5-4FF8-A972-5AF68C351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7244-56E3-44A2-9A10-6FF4505BC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8997-3D6A-4AAF-9979-9E6D753D0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645F-3D60-41E3-8CC5-E4E320517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9540-9D34-495C-BEA7-B1E769D0F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414A-B72A-4C2D-A684-451D7CE60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04BB-D95B-4E8B-AE0B-5C72AAB50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32A3-F26C-401B-B70F-EBF538F56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09C8-EEDF-4321-8B9B-C29F50180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LETE THESE FILM TITLES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90640" y="76176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AVEN IS FOR ____" (2014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38360" y="762120"/>
            <a:ext cx="7667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__ NETWORK" (2010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228600" y="4952880"/>
            <a:ext cx="8686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85720" y="762120"/>
            <a:ext cx="7796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ARRY POTTER AND THE ____-BLOOD PRINCE" (2009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26676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55520" y="762120"/>
            <a:ext cx="7031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, LIES, AND VIDEOTAPE" (1989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506600" y="762120"/>
            <a:ext cx="6129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ATURDAY ____ FEVER" (1977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17720" y="762120"/>
            <a:ext cx="7108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EMI-____" (2008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50840" y="762120"/>
            <a:ext cx="8842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CALL OF THE ____ " (2020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38120" y="762120"/>
            <a:ext cx="8267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HREK FOREVER ____" (2010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39880" y="762120"/>
            <a:ext cx="7462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__ NETWORK" (2010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014480" y="762120"/>
            <a:ext cx="7113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DAY THE EARTH STOOD ____" (2008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770120" y="762120"/>
            <a:ext cx="5603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AVEN IS FOR ____" (2014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647640" y="495288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LIF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ARRY POTTER AND THE ____-BLOOD PRINCE" (2009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106640" y="762120"/>
            <a:ext cx="6929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, LIES, AND VIDEOTAPE" (1989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490760" y="762120"/>
            <a:ext cx="6162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ATURDAY ____ FEVER" (1977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EMI-____" (2008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CALL OF THE ____ " (2020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6560" y="761760"/>
            <a:ext cx="8210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HREK FOREVER ____" (2010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76320" y="762120"/>
            <a:ext cx="7189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DAY THE EARTH STOOD ____" (2008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3-02T12:48:04Z</dcterms:modified>
  <cp:revision>474</cp:revision>
  <dc:subject/>
  <dc:title>Slide 1</dc:title>
</cp:coreProperties>
</file>