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059A-16BA-4487-988B-8A101667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241C-754F-4270-9F75-B9228428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0DCF-528C-4F52-95E9-303747370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19D7-006B-4D6D-A9DE-CFCFF663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8B8C-BA10-4B57-94C5-02CA9E94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EE6-1B84-41DD-9172-5065617E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4C7-5CD8-4C30-900F-92768F660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2C55-02D5-4010-90DA-2AE3752A9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21DC-80CB-48D2-9206-44C7946C0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D84E-1C49-46F6-B729-0E317B8D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2911-F6C7-4F56-81D8-C1D636CB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8AF3-0B1A-4506-9BC4-44B401FB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B1F-FC01-47EE-A9F2-A9B47BED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287E-BEF5-4D8E-8413-37310132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BE8-B0A9-4738-9A07-D426B447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0B80-717D-4507-B57A-BF6FCE148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0F63-1CB3-47AC-A4EB-36472B2E3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124-96E9-4B89-B0CB-C230BC35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F024-A92A-4EA1-B8CD-42C687F1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910B-F68B-4905-8120-03FE21AC4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768-6B48-4BE2-94C6-9D159E40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9F7E-CF3E-48CE-BB62-40F0BFB80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36A5-062B-4D88-8C04-7AE79505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SE FILM TITLE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FOR ____" (201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8360" y="762120"/>
            <a:ext cx="7667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NETWORK" (20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5720" y="762120"/>
            <a:ext cx="77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RRY POTTER AND THE ____-BLOOD PRINCE" (200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55520" y="762120"/>
            <a:ext cx="703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LIES, AND VIDEOTAPE" (198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06600" y="762120"/>
            <a:ext cx="612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____ FEVER" (197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7720" y="762120"/>
            <a:ext cx="7108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MI-____" (200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0840" y="762120"/>
            <a:ext cx="884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CALL OF THE ____ " (202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REK FOREVER ____" (20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NETWORK" (20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14480" y="762120"/>
            <a:ext cx="711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DAY THE EARTH STOOD ____" (200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770120" y="762120"/>
            <a:ext cx="5603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FOR ____" (201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LIF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RRY POTTER AND THE ____-BLOOD PRINCE" (2009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6640" y="762120"/>
            <a:ext cx="692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LIES, AND VIDEOTAPE" (198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90760" y="762120"/>
            <a:ext cx="616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____ FEVER" (197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MI-____" (200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CALL OF THE ____ " (202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REK FOREVER ____" (20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DAY THE EARTH STOOD ____" (200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3-02T12:48:04Z</dcterms:modified>
  <cp:revision>474</cp:revision>
  <dc:subject/>
  <dc:title>Slide 1</dc:title>
</cp:coreProperties>
</file>