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480C-D5BD-4C2B-99E6-C3ABC1C66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291D-B091-42FC-B27E-625251C59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7091-C6FC-42F5-BC4B-B47E00512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9E6E-285B-4552-893B-7A2A96DD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056F-A089-47B7-9B43-F9ADB1053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DD1-1E5D-466F-B7CC-09E7BCA8D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5CEA-871A-4854-B36D-B5E5BDB4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BFED-C795-4D3F-BCB6-8996E52F4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D49E0-F3C8-4AAF-9BC0-6332C7F5E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BB1-6BC3-4E67-826C-3F50DF4F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9A91-8CC3-40D5-80F4-0A2772858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514E8-765F-4554-A429-474DF26D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0E3-8E37-4E8E-AC71-11C87C13B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DF4E-0737-4799-BF86-6EF467429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A376-67C5-46ED-9DB9-43FB74ED1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8075-6CE2-4923-BC63-B144B6A8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78C6-5F8A-4A3A-8495-0A0CA795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6B8B-A890-4454-8F87-F0F25447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8000-1ED6-4950-9DE2-4C5BB934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C500-6A29-4278-B007-846E7DC2D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65E-530A-479D-BB25-C97F9BAD0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D52F-F5FF-4E06-8757-990F84DBF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E673-B38F-491D-92CF-D4792D901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AN KNOWN AS "THE DEAN OF AMERICAN COMPOS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 OF TRANQU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73080" y="762120"/>
            <a:ext cx="7196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GEORGE H. W. BUSH'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IG'S COUNTRY MUSIC SINGING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844560" y="4876920"/>
            <a:ext cx="746748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ELENA)  BONHAM  (CAR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948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NAME OF THE ACTRESS WHO PLAYED QUEEN ELIZABETH IN "THE KING'S SPEE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 e 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R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8088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OR THE VALUE OF A CONTINUOUSLY COMPOUNDED INVESTMENT WITH PRINCIPAL P, INTEREST RATE R, AND TIME 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REW)  CA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2440" y="762120"/>
            <a:ext cx="8439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 TOOK OVER HOSTING "THE PRICE IS RIGHT" FROM BOB BARKER IN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USAN)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REPUBLICAN SENATOR FROM NEW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3320" y="762120"/>
            <a:ext cx="767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 OF TRANQU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N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 COMPLAINT IN THE TITLE OF PHILIP ROTH'S 1969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ARON)  COP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MAN KNOWN AS "THE DEAN OF AMERICAN COMPOS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4880" y="4343400"/>
            <a:ext cx="5934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AMOUS  DRUM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76320" y="761760"/>
            <a:ext cx="7191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GEORGE H. W. BUSH'S SECRETARY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BIG'S COUNTRY MUSIC SINGING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DDLE NAME OF THE ACTRESS WHO PLAYED QUEEN ELIZABETH IN "THE KING'S SPEEC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ULA FOR THE VALUE OF A CONTINUOUSLY COMPOUNDED INVESTMENT WITH PRINCIPAL P, INTEREST RATE R, AND TIME 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ERSON WHO TOOK OVER HOSTING "THE PRICE IS RIGHT" FROM BOB BARKER IN 200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REPUBLICAN SENATOR FROM NEW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D A COMPLAINT IN THE TITLE OF PHILIP ROTH'S 1969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3-02T12:52:09Z</dcterms:modified>
  <cp:revision>446</cp:revision>
  <dc:subject/>
  <dc:title>Slide 1</dc:title>
</cp:coreProperties>
</file>