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63E-26B1-4041-B496-516ED0D1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4BB2-F483-4C88-8251-8BDA55BB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9EE-0BBB-41B7-A76B-52926CA1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83D-51F1-41FE-9B1E-2F1DBF7F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0ECC-BF36-4377-A0AA-F2C292AE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8C3-ED25-44ED-B360-05425F53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D6A9-78DD-4694-8515-9E7EDE157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3BB-C330-48AF-829A-718B78CC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F6FD-CF06-4AB8-BD09-7FA9FF48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C523-B2DE-4E19-8A4B-7C9ACCDF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197-8686-4FFB-9B3D-D758E118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FDF-6E6F-486F-9143-6E5A6E55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4F3C-5202-47CC-9FA3-CC045E9A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D73-6A3E-4F0A-8150-B365BFF8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927-C671-4C31-9CB8-418FE9F7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BB0-E123-455A-9D3C-8820D179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3743-91F3-4859-B974-F68FCCDA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A0C-EC05-4585-932C-BE7690E4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58D5-E51B-4BBF-90F9-A52162484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B45A-C1FC-4CD0-9BF9-A0928184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296-21C4-4579-A1C4-605A2421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7BA1-620E-4860-8DFF-70BCB20A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DDC-17D4-4C0C-8817-1E307565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AN KNOWN AS "THE DEAN OF AMERICAN COMPOS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 OF TRANQU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3080" y="762120"/>
            <a:ext cx="7196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GEORGE H. W. BUSH'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IG'S COUNTRY MUSIC SINGING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844560" y="4876920"/>
            <a:ext cx="7467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ELENA)  BONHAM  (CAR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NAME OF THE ACTRESS WHO PLAYED QUEEN ELIZABETH IN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 e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088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OR THE VALUE OF A CONTINUOUSLY COMPOUNDED INVESTMENT WITH PRINCIPAL P, INTEREST RATE R, AND TIME 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REW)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 TOOK OVER HOSTING "THE PRICE IS RIGHT" FROM BOB BARKER IN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USAN)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REPUBLICAN SENATOR FROM NEW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 OF TRANQU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N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 COMPLAINT IN THE TITLE OF PHILIP ROTH'S 1969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ARON)  COP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AN KNOWN AS "THE DEAN OF AMERICAN COMPOS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 DRUM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6320" y="761760"/>
            <a:ext cx="7191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GEORGE H. W. BUSH'S SECRETARY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IG'S COUNTRY MUSIC SINGING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NAME OF THE ACTRESS WHO PLAYED QUEEN ELIZABETH IN "THE KING'S SPEE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OR THE VALUE OF A CONTINUOUSLY COMPOUNDED INVESTMENT WITH PRINCIPAL P, INTEREST RATE R, AND TIME 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 TOOK OVER HOSTING "THE PRICE IS RIGHT" FROM BOB BARKER IN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REPUBLICAN SENATOR FROM NEW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 COMPLAINT IN THE TITLE OF PHILIP ROTH'S 1969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3-02T12:52:09Z</dcterms:modified>
  <cp:revision>446</cp:revision>
  <dc:subject/>
  <dc:title>Slide 1</dc:title>
</cp:coreProperties>
</file>