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96FC-6C89-4DFD-9497-4818EF694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5289-0D23-430F-B29E-63DCDF962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A448-04B3-483E-A817-E3B805EAA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1633-ECCC-4432-8168-F438CE7C0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9078-C2A8-4063-8F32-A3B132568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C1A9-B037-4ABA-8626-DEF55C7CF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72C0-3505-4E3C-8EEA-04B5E7327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6895-67FA-46EF-AE95-4220A00E0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848B-24E0-4AB4-A8C0-34511D85D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B0BD-9075-4294-A660-5187B3069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E51C-C6AF-4406-9CD1-8C6099B36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94AC-CB11-44A6-AF9F-121A763C6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FF5D-CDFF-4475-81A7-6499F09AF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A4A1-E030-4151-A176-C6E5690D4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DC0B-656A-4A14-84EB-D8F8F6F3A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15B7B-EF75-44A0-8B99-684AB4D62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25B3-7BF0-405F-A3B5-7FB190162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9D90-98A5-4FE4-A9BE-00DB736AE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01DF-EF82-4C2D-AAB5-F8FCC07B0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DD48-8B8A-4B6E-8B1E-022B43F96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D13E-C674-48BA-B6D2-024C552FB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EA6E-ED6A-4D8B-9BE7-99D8751EF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BB6A-3B54-4D23-9FB4-59D6D74BE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74800" y="761760"/>
            <a:ext cx="7392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 STAR'S #1 HITS ARE "I WANNA LOVE YOU", "DROP IT LIKE IT'S HOT", AND "CALIFORNIA GUR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LY  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638360" y="762120"/>
            <a:ext cx="586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MERICAN WOMAN IN SP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228600" y="4952880"/>
            <a:ext cx="8686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99880" y="762120"/>
            <a:ext cx="8542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IAL SKELETON FOUND IN 1974 WAS NAMED AFTER A CHARACTER IN A BEATLES SONG THAT PLAYED OFTEN AT THE DIG S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US  PAU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62080" y="762120"/>
            <a:ext cx="8653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HAVE WON 2 UNSHARED NOBEL PRIZES, FOR CHEMISTRY IN 1953, AND PEACE IN 196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GPEN  CIP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914400"/>
            <a:ext cx="4876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SIMPLE CODE, USED DURING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PPERMINT  PAT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49160" y="762120"/>
            <a:ext cx="7645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ANDY DOES YORK MANUFA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12760" y="762120"/>
            <a:ext cx="6918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CONCERT WAS BILLED AS "3 DAYS OF PEACE &amp; MUS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D.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23840" y="762120"/>
            <a:ext cx="7094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EFEATED HERBERT HOOVER FOR PRESIDENT IN A LANDSL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62120" y="762120"/>
            <a:ext cx="58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MERICAN WOMAN IN SP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51040" y="762120"/>
            <a:ext cx="7441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UES MUSICIAN HAD THE #1 HITS "TROUBLE BLUES", "BLACK NIGHT", AND "PLEASE COME HOME FOR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OP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90640" y="762120"/>
            <a:ext cx="7362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 STAR'S #1 HITS ARE "I WANNA LOVE YOU", "DROP IT LIKE IT'S HOT", AND "CALIFORNIA GUR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341360" y="4419720"/>
            <a:ext cx="6459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PEANUTS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IAL SKELETON FOUND IN 1974 WAS NAMED AFTER A CHARACTER IN A BEATLES SONG THAT PLAYED OFTEN AT THE DIG S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37960" y="762120"/>
            <a:ext cx="866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HAVE WON 2 UNSHARED NOBEL PRIZES, FOR CHEMISTRY IN 1953, AND PEACE IN 196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4686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SIMPLE CODE, USED DURING TH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34120" y="1066680"/>
            <a:ext cx="33526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36560" y="761760"/>
            <a:ext cx="7670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CANDY DOES YORK MANUFA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87000" y="761760"/>
            <a:ext cx="6567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 CONCERT WAS BILLED AS "3 DAYS OF PEACE &amp; MUS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EFEATED HERBERT HOOVER FOR PRESIDENT IN A LANDSL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61480" y="762120"/>
            <a:ext cx="7418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UES MUSICIAN HAD THE #1 HITS "TROUBLE BLUES", "BLACK NIGHT", AND "PLEASE COME HOME FOR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3-02T12:55:22Z</dcterms:modified>
  <cp:revision>456</cp:revision>
  <dc:subject/>
  <dc:title>Slide 1</dc:title>
</cp:coreProperties>
</file>