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84F3-A239-4E3E-8CB8-149A4488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9FC-59B4-4794-ADC6-F6B55CCB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3890-BD00-4291-B22B-E0A377FD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A43A-66E6-474F-B077-4F5E6181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CC7F-9575-4A19-892A-9B7D63992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0D5-C25D-4751-8511-BF1DBE0F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945-B68D-40BD-81ED-4B7CEE32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AD34-79DC-4F75-AB41-6A42780B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C8F8-8D1E-4BB7-92E3-53AAEA73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0832-7E16-4F58-8FE3-3B12688E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134F-639C-4643-85C0-1096FB96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D5A-A3A2-46BE-A77F-77D27C32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141-A863-41EC-9417-8EA50B07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40F-1607-46B5-AD41-91539141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64B-997F-4EF9-8005-A0EAC81D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0660-A0AB-4B17-A497-C54DE6F2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4016-F168-4776-B82D-E91BB1C8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8A7-2797-41E0-A20C-7135ACB39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630-BEF5-4138-A924-00E4C117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2A51-EB82-4933-A7C6-4E4CA9D92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9B1-0053-4C9F-8DD8-5756F43A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CA1-3DD7-4A0D-AEB7-56ED9A12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A59F-FD2E-4E7A-89AB-E07EE137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STAR'S #1 HITS ARE "I WANNA LOVE YOU", "DROP IT LIKE IT'S HOT", AND "CALIFORNIA GU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638360" y="76212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AL SKELETON FOUND IN 1974 WAS NAMED AFTER A CHARACTER IN A BEATLES SONG THAT PLAYED OFTEN AT THE DIG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US  PA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HAVE WON 2 UNSHARED NOBEL PRIZES, FOR CHEMISTRY IN 1953, AND PEACE IN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PEN  CIP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914400"/>
            <a:ext cx="4876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SIMPLE CODE, USED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MINT  PAT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9160" y="762120"/>
            <a:ext cx="764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ANDY DOES YORK MANUFA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2760" y="762120"/>
            <a:ext cx="691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CONCERT WAS BILLED AS "3 DAYS OF PEACE &amp; MUS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3840" y="762120"/>
            <a:ext cx="7094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FEATED HERBERT HOOVER FOR PRESIDENT IN A LANDSL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2120" y="762120"/>
            <a:ext cx="58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WOMAN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1040" y="762120"/>
            <a:ext cx="7441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S MUSICIAN HAD THE #1 HITS "TROUBLE BLUES", "BLACK NIGHT", AND "PLEASE COME HOME FOR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OP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0640" y="762120"/>
            <a:ext cx="736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STAR'S #1 HITS ARE "I WANNA LOVE YOU", "DROP IT LIKE IT'S HOT", AND "CALIFORNIA GU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341360" y="4419720"/>
            <a:ext cx="645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EANUTS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AL SKELETON FOUND IN 1974 WAS NAMED AFTER A CHARACTER IN A BEATLES SONG THAT PLAYED OFTEN AT THE DIG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HAVE WON 2 UNSHARED NOBEL PRIZES, FOR CHEMISTRY IN 1953, AND PEACE IN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6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SIMPLE CODE, USED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36560" y="761760"/>
            <a:ext cx="767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ANDY DOES YORK MANUFA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7000" y="761760"/>
            <a:ext cx="656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CONCERT WAS BILLED AS "3 DAYS OF PEACE &amp; MUS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FEATED HERBERT HOOVER FOR PRESIDENT IN A LAND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61480" y="762120"/>
            <a:ext cx="7418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S MUSICIAN HAD THE #1 HITS "TROUBLE BLUES", "BLACK NIGHT", AND "PLEASE COME HOME FOR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2:55:22Z</dcterms:modified>
  <cp:revision>456</cp:revision>
  <dc:subject/>
  <dc:title>Slide 1</dc:title>
</cp:coreProperties>
</file>