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966C-75CC-4382-BFDD-2963ECBB6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856D-B15D-46C5-AC82-29C1696EC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3E9-9C61-468F-8B8B-314BD863D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C8A0-FE28-447F-A6C1-9C3CB5A3D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EA1D-FDE1-4C13-A53C-EF2CB9355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064F-C4AE-4997-9585-591316264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89A6-7F4C-47B8-A030-634E573CD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2897-617D-4D98-93A6-3850E26FE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3689-5159-460C-BA7A-CD31BF4D6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3867-740C-44A0-A2DE-0D6393B63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362-25BB-4F65-A04A-FF5BBEE23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80E7-747D-4F67-96E1-97F8DBCB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ADB9-BE62-465A-B8F2-B81651750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F427-9768-4149-BECF-CA44B5B5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95D6-180B-4FAC-98C4-7AF56B31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96F1-28C8-4C42-BE3F-56BA2213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BACA-2151-4AFB-821C-3BB3B4346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C391-A200-4BB5-8BB0-D05CCB29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B8D9-452C-44C4-AE6A-0D281B6F8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17AB-FFF3-42D0-9A2C-1BC63CD9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482A-E43F-4F89-8BDB-653D3456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8D7A-9760-40B8-9BED-EB4D23A6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CE8A-6A27-4E39-B461-A8577C130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03400" y="761760"/>
            <a:ext cx="6935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"THREE B'S" OF CLASSICAL MUSIC, WHICH ONE HAS THE LONGEST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L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MAJOR ISRAELITE WORSHIP CENTER BEFORE JERUSA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(SCHER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4840" y="762120"/>
            <a:ext cx="819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ETS PITCHER WHO HAS WON 3 CY YOUNG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846440" y="762120"/>
            <a:ext cx="545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IL OF A WHAL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IN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36600" y="762120"/>
            <a:ext cx="667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 PRIZE AT THE WESTMINSTER COMPETITIO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  B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8 DEGREES FAHRENHEIT ON THE CELSIUS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9600" y="762120"/>
            <a:ext cx="7984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USED TO BE CALLED "BEA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ATHLETIC TEAMS OF CORNELL UNIVERSIT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MAJOR ISRAELITE WORSHIP CENTER BEFORE JERUSA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9560" y="762120"/>
            <a:ext cx="7723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EVY'S ALL-ELECTRIC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70000" y="762120"/>
            <a:ext cx="680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"THREE B'S" OF CLASSICAL MUSIC, WHICH ONE HAS THE LONGEST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0800" y="495288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ABOUT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ETS PITCHER WHO HAS WON 3 CY YOUNG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95320" y="762120"/>
            <a:ext cx="55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IL OF A WHAL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 PRIZE AT THE WESTMINSTER COMPETITIO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9800" y="761760"/>
            <a:ext cx="74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8 DEGREES FAHRENHEIT ON THE CELSIUS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OF CHANCE USED TO BE CALLED "BEA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ATHLETIC TEAMS OF CORNELL UNIVERSIT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EVY'S ALL-ELECTRIC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3:00:43Z</dcterms:modified>
  <cp:revision>457</cp:revision>
  <dc:subject/>
  <dc:title>Slide 1</dc:title>
</cp:coreProperties>
</file>