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757-285C-45AC-9729-68CD6AAB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42CD-6DCA-41E1-B2BE-5300E637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1D34-E2AE-4A7A-A24D-065C35EDD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6660-B9F3-44AC-B221-ABDB8D24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100-C80B-4381-99A5-71FE0795A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0985-F901-4132-B939-E95E9741F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CC06-90FE-412F-BD2F-20C5C2CBF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85DC-EFE6-43AB-9E3D-02DF6D67E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CE73-651D-4905-9A93-5E4FCC28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5B80-A269-4B5E-B41B-965436FC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1F22-D81E-4CE4-A099-EAE8E307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B78-7933-425C-B33E-7A7D44A0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8E52-297B-4034-97E2-961521D0C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F17E-892A-4E8B-91E8-42483486C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49BB-8CA2-40C5-B84D-D915EF3B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13A-138B-4F71-ADDE-E5D1B6AA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C07D-B5A6-4AA2-82AB-F9440371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0127-7024-48A9-B7C7-E4349EA6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60E-C59D-427F-8491-03DD03983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D33-8DC0-49BD-9E2F-C78F4CA42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565-B50F-4B0B-BABD-9D4E616C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3F73-74E4-4C49-8302-38EAC56B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6172-DF06-403E-975D-0A7F483A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03400" y="761760"/>
            <a:ext cx="6935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"THREE B'S" OF CLASSICAL MUSIC, WHICH ONE HAS THE LONGEST LA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L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MAJOR ISRAELITE WORSHIP CENTER BEFORE JERUSA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  (SCHERZ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4840" y="762120"/>
            <a:ext cx="819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ETS PITCHER WHO HAS WON 3 CY YOUNG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846440" y="762120"/>
            <a:ext cx="545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IL OF A WHAL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IN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36600" y="762120"/>
            <a:ext cx="667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 PRIZE AT THE WESTMINSTER COMPETITIO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  B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2480" y="762120"/>
            <a:ext cx="7439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8 DEGREES FAHRENHEIT ON THE CELSIUS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9600" y="762120"/>
            <a:ext cx="7984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USED TO BE CALLED "BEA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4200" y="762120"/>
            <a:ext cx="76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ATHLETIC TEAMS OF CORNELL UNIVERSIT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MAJOR ISRAELITE WORSHIP CENTER BEFORE JERUSA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9560" y="762120"/>
            <a:ext cx="7723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HEVY'S ALL-ELECTRIC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70000" y="762120"/>
            <a:ext cx="680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"THREE B'S" OF CLASSICAL MUSIC, WHICH ONE HAS THE LONGES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0800" y="49528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ABOUT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ETS PITCHER WHO HAS WON 3 CY YOUNG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95320" y="762120"/>
            <a:ext cx="55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IL OF A WHAL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 PRIZE AT THE WESTMINSTER COMPETITIO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9800" y="761760"/>
            <a:ext cx="74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8 DEGREES FAHRENHEIT ON THE CELSIUS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USED TO BE CALLED "BEA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ATHLETIC TEAMS OF CORNELL UNIVERSIT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HEVY'S ALL-ELECTRIC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3-02T13:00:43Z</dcterms:modified>
  <cp:revision>457</cp:revision>
  <dc:subject/>
  <dc:title>Slide 1</dc:title>
</cp:coreProperties>
</file>