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0A9-DEC7-479C-8BB6-7C31EBBE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7CC7-4A20-494C-9A13-406FE088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BEC-52CA-4A48-8870-F46E99D1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2300-D396-46AA-B167-E6BBA3BD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3CE-DD1D-448C-BB93-E667884C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2566-0AED-4FAE-82F6-ABFD6187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52B-050E-47A6-875B-D7E8283B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D41B-8819-483E-B96E-38EFCE5C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EA6-A6BC-4F8D-A909-88B65A72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E1EE-293B-4D16-9C0D-3BC5C001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8A3-5901-4EAB-BBE5-ABFB4DA3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4A5-401E-49D9-BAAE-AB03EF49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FC9-B850-43FB-A8F7-0EDA74B1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E69A-8CBA-4ACD-8F94-A398E2E7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3F5-0085-4C06-985F-4DA67C12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B26-98FE-4323-B11A-A455B9BA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7DB-6189-49FD-8B6D-F97EEBCF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0D8E-DC08-462A-A756-119E8337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87AB-8307-4877-8601-0FA0DEB1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E02E-3E3C-452A-946F-D0710D18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61C-A73C-470D-B21B-456B18B7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C2B-C828-4934-854E-04B5752B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737-EAB8-4510-9123-3040FD26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5C4-D36A-4D5F-8D5C-42BAD450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STAR TREK", WHAT PLANET IS SPOCK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COMPACT CROSSOVER SUV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 OF THE GREEK SUN-GOD HELIOS WAS ONE OF THE SEVEN WONDERS OF THE ANCIENT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  DESERT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NAME OF THE COMBAT PORTION OF THE 1991 GULF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CL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85640" y="76500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MER'S "ODYSSEY", THE CAPTURE OF ODYSSEUS BY WHAT CREATURE SERVES AS THE PLOT FOR A PLAY BY EURIPIDES 300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TY  AND  THE  B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DISNEY FILM WAS THE FIRST ANIMATED FILM TO BE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5480" y="762120"/>
            <a:ext cx="749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'S ECONOMY IS MOSTLY DRIVEN BY THE 5 C'S: COTTON, CATTLE, CITRUS, CLIMATE, AND CO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4840" y="491508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523960" y="2063880"/>
            <a:ext cx="4096080" cy="27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V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UL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31760" y="762120"/>
            <a:ext cx="70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STAR TREK", WHAT PLANET IS SPOCK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857160" y="4876920"/>
            <a:ext cx="742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X–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480" y="76212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COMPACT CROSSOVER SUV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 OF THE GREEK SUN-GOD HELIOS WAS ONE OF THE SEVEN WONDERS OF THE ANCIENT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NAME OF THE COMBAT PORTION OF THE 1991 GULF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MER'S "ODYSSEY", THE CAPTURE OF ODYSSEUS BY WHAT CREATURE SERVES AS THE PLOT FOR A PLAY BY EURIPIDES 300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DISNEY FILM WAS THE FIRST ANIMATED FILM TO BE NOMINATED FOR AN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'S ECONOMY IS MOSTLY DRIVEN BY THE 5 C'S: COTTON, CATTLE, CITRUS, CLIMATE, AND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00480" y="20574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2T13:07:16Z</dcterms:modified>
  <cp:revision>472</cp:revision>
  <dc:subject/>
  <dc:title>Slide 1</dc:title>
</cp:coreProperties>
</file>