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F4D2-6D52-4A05-9EAE-3F7DB0DA6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4B9B-1932-4AE3-B259-369867F00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28AC-641A-41B9-AF43-634E2DAD0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BF20-13BE-4AE7-9D34-55843B67C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D6C7-DFD1-4360-AE6A-CA53C4D5A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A937-FFB7-4647-B10A-D8E824884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9EBF-3F20-4B0A-9E3E-DBE8C52DE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0F23-54D0-4294-BF26-A1D510FD8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BD9B-E456-41A0-8694-21FB42A8A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F91F-4E4B-4B38-9844-411EE05B5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C2EC-A19E-4D0A-8C7C-3E9891951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29C0-D279-4043-8120-07BEB0D6C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6A26-AE1D-42BA-8387-14633B23F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B91A-0206-4C6F-B41E-700BF852B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2736-D484-4E1D-8E4F-14CB056ED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BB6E-496D-4EC3-AC9F-D7226E19C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2FF6-B873-4E5D-9019-ECB4C321D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F5B9-D060-42B3-8643-0F90850CF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7369-8287-44F6-9A5A-52B1057BE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C0F0-9E5A-484C-8FCE-21304651C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766B-6FC6-4E9F-AEC6-0200F823E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84B0-4DA6-40EF-8E72-09A0A5C87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431D-8B5E-4ED0-962A-3A0F720A3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73F7-86F8-4025-BD5A-3346C6D7A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MEMBER OF THE WEASEL FAMI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009800" y="762120"/>
            <a:ext cx="7124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STAR TREK", WHAT PLANET IS SPOCK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200160" y="762120"/>
            <a:ext cx="8743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ISSAN'S COMPACT CROSSOVER SUV MO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SSUS  OF  RHO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04880" y="762120"/>
            <a:ext cx="7734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UE OF THE GREEK SUN-GOD HELIOS WAS ONE OF THE SEVEN WONDERS OF THE ANCIENT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ERATION  DESERT  ST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ODENAME OF THE COMBAT PORTION OF THE 1991 GULF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CL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85640" y="765000"/>
            <a:ext cx="817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OMER'S "ODYSSEY", THE CAPTURE OF ODYSSEUS BY WHAT CREATURE SERVES AS THE PLOT FOR A PLAY BY EURIPIDES 300 YEARS L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UTY  AND  THE  BE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23960" y="762120"/>
            <a:ext cx="76960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DISNEY FILM WAS THE FIRST ANIMATED FILM TO BE NOMINATED FOR AN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619200" y="4876920"/>
            <a:ext cx="799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OEN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25480" y="762120"/>
            <a:ext cx="749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CAPITAL'S ECONOMY IS MOSTLY DRIVEN BY THE 5 C'S: COTTON, CATTLE, CITRUS, CLIMATE, AND CO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04840" y="4915080"/>
            <a:ext cx="6934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UNDER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76280" y="762120"/>
            <a:ext cx="8191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D MODE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2523960" y="2063880"/>
            <a:ext cx="4096080" cy="273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LVE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447920" y="762120"/>
            <a:ext cx="6248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MEMBER OF THE WEASEL FAMI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UL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031760" y="762120"/>
            <a:ext cx="7080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STAR TREK", WHAT PLANET IS SPOCK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857160" y="4876920"/>
            <a:ext cx="7429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X–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480" y="762120"/>
            <a:ext cx="9067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NISSAN'S COMPACT CROSSOVER SUV MOD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UE OF THE GREEK SUN-GOD HELIOS WAS ONE OF THE SEVEN WONDERS OF THE ANCIENT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ODENAME OF THE COMBAT PORTION OF THE 1991 GULF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76280" y="762120"/>
            <a:ext cx="8191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HOMER'S "ODYSSEY", THE CAPTURE OF ODYSSEUS BY WHAT CREATURE SERVES AS THE PLOT FOR A PLAY BY EURIPIDES 300 YEARS L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DISNEY FILM WAS THE FIRST ANIMATED FILM TO BE NOMINATED FOR AN OSCAR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CAPITAL'S ECONOMY IS MOSTLY DRIVEN BY THE 5 C'S: COTTON, CATTLE, CITRUS, CLIMATE, AND COPP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D MODEL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400480" y="2057400"/>
            <a:ext cx="4343400" cy="289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2-03-02T13:07:16Z</dcterms:modified>
  <cp:revision>472</cp:revision>
  <dc:subject/>
  <dc:title>Slide 1</dc:title>
</cp:coreProperties>
</file>