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107E5-7C82-4561-9E2B-3B0173282D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4B539-022B-4E26-9490-9BF16905E7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FA8A8-1214-4460-BD86-FE8E237B16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764D5-D3A5-465E-82BB-C16E57A135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F4EB9-9958-441E-ADF7-B707471CAF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5B704-1421-471B-B34A-2CE6CDF5E4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58499-71E3-4868-86CE-7CCBCEB36F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C3598-671D-4A06-BDA3-CFCC013BD9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39308-9CC4-4151-9A3C-755EEB7485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20EE3-AA08-4DC6-B6CE-DEC80BCAD2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F6524-D144-400C-B52E-9E30FE4D9D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89DBA-999F-4755-AB8C-BF44B788EB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1FF0A-1663-4554-A4A8-940BABE88F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6FE94-55C4-4B28-AD22-47E07F5D97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312B2-9690-4FA3-BF04-7F13E7B2C2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77E84-C973-4723-8BEF-336A2F829A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78A03-B17A-46F9-8557-6C3A254CA3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3560B-855F-4375-A069-4403CF59CA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F647B-98F2-4BE1-902E-259A6F00F6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3CEC0-178F-4F3D-9D51-8BA375AFDE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21D22-8920-4EDF-81BA-563D5C2526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B0C63-B83C-4C0C-9A8A-68FB581A32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F45DF-686B-4706-B83C-B62A26A1D4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762120" y="1371600"/>
            <a:ext cx="7619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CTOR 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303120" y="762120"/>
            <a:ext cx="85377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"BARNEY MILLER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CTO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990720" y="4952880"/>
            <a:ext cx="71625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EVIN  COSTN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3"/>
          <p:cNvSpPr/>
          <p:nvPr/>
        </p:nvSpPr>
        <p:spPr>
          <a:xfrm>
            <a:off x="277920" y="762120"/>
            <a:ext cx="85867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2 ACADEMY AWARDS FOR "DANCES WITH WOLVE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1523880" y="4952880"/>
            <a:ext cx="60962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EVIN  K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969840" y="762120"/>
            <a:ext cx="72025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BEST SUPPORTING ACTOR FOR "A FISH CALLED WANDA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380880" y="4950000"/>
            <a:ext cx="8382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HN  CLEE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495360" y="762120"/>
            <a:ext cx="815328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EMBER OF MONTY PYTHON STARRED IN AND WROTE THE SCREENPLAY FOR "A FISH CALLED WANDA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304920" y="4952880"/>
            <a:ext cx="85341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INDA  HU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857160" y="762120"/>
            <a:ext cx="74296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"NCIS:LA" STAR WAS THE FIRST PERSON TO WIN AN OSCAR FOR PLAYING A CHARACTER OF THE OPPOSITE GEND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1143000" y="4952880"/>
            <a:ext cx="68580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EFF  GOLDBLU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528480" y="762120"/>
            <a:ext cx="808704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TARRED IN 3 "JURASSIC PARK" FILMS AND 2 "INDEPENDENCE DAY" FILM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257480" y="4952880"/>
            <a:ext cx="66294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ANNY  GLOV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1257480" y="762120"/>
            <a:ext cx="66294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TARRED WITH MEL GIBSON IN THE "LETHAL WEAPON" FILM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457200" y="4952880"/>
            <a:ext cx="4800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COTT  GLEN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-152280" y="838080"/>
            <a:ext cx="601956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THIS ACTOR FROM "BACKDRAFT", "URBAN COWBOY", AND "TRAINING DAY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5929200" y="457200"/>
            <a:ext cx="2757600" cy="4572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247680" y="762120"/>
            <a:ext cx="86486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2 ACADEMY AWARDS FOR "DANCES WITH WOLVE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3"/>
          <p:cNvSpPr/>
          <p:nvPr/>
        </p:nvSpPr>
        <p:spPr>
          <a:xfrm>
            <a:off x="190440" y="4952880"/>
            <a:ext cx="53341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RIAN  DENNE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2"/>
          <p:cNvSpPr/>
          <p:nvPr/>
        </p:nvSpPr>
        <p:spPr>
          <a:xfrm>
            <a:off x="0" y="914400"/>
            <a:ext cx="571500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THIS ACTOR, FROM "COCOON", "GORKY PARK", AND "FIRST BLOOD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3" descr=""/>
          <p:cNvPicPr/>
          <p:nvPr/>
        </p:nvPicPr>
        <p:blipFill>
          <a:blip r:embed="rId1"/>
          <a:stretch/>
        </p:blipFill>
        <p:spPr>
          <a:xfrm>
            <a:off x="5638680" y="380880"/>
            <a:ext cx="3194280" cy="4191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3"/>
          <p:cNvSpPr/>
          <p:nvPr/>
        </p:nvSpPr>
        <p:spPr>
          <a:xfrm>
            <a:off x="380880" y="4952880"/>
            <a:ext cx="83822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AL  LIND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2"/>
          <p:cNvSpPr/>
          <p:nvPr/>
        </p:nvSpPr>
        <p:spPr>
          <a:xfrm>
            <a:off x="276120" y="762120"/>
            <a:ext cx="85917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"BARNEY MILLER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3"/>
          <p:cNvSpPr/>
          <p:nvPr/>
        </p:nvSpPr>
        <p:spPr>
          <a:xfrm>
            <a:off x="114480" y="4876920"/>
            <a:ext cx="8915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N  THE  FILM  "SILVERADO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CTO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981000" y="761760"/>
            <a:ext cx="7182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BEST SUPPORTING ACTOR FOR "A FISH CALLED WANDA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466560" y="762120"/>
            <a:ext cx="82108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EMBER OF MONTY PYTHON STARRED IN AND WROTE THE SCREENPLAY FOR "A FISH CALLED WANDA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716040" y="762120"/>
            <a:ext cx="77104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"NCIS:LA" STAR WAS THE FIRST PERSON TO WIN AN OSCAR FOR PLAYING A CHARACTER OF THE OPPOSITE GEND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542880" y="762120"/>
            <a:ext cx="80582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TARRED IN 3 "JURASSIC PARK" FILMS AND 2 "INDEPENDENCE DAY" FILM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1257120" y="761760"/>
            <a:ext cx="6629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TARRED WITH MEL GIBSON IN THE "LETHAL WEAPON" FILM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-305280" y="990720"/>
            <a:ext cx="61009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THIS ACTOR FROM "BACKDRAFT", "URBAN COWBOY", AND "TRAINING DAY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5929200" y="457200"/>
            <a:ext cx="2757600" cy="45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-228960" y="914400"/>
            <a:ext cx="59626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THIS ACTOR, FROM "COCOON", "GORKY PARK", AND "FIRST BLOOD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Picture 3" descr=""/>
          <p:cNvPicPr/>
          <p:nvPr/>
        </p:nvPicPr>
        <p:blipFill>
          <a:blip r:embed="rId1"/>
          <a:stretch/>
        </p:blipFill>
        <p:spPr>
          <a:xfrm>
            <a:off x="5638680" y="380880"/>
            <a:ext cx="3194280" cy="41911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0-15T11:07:52Z</dcterms:created>
  <dc:creator>Jennifer Budzinski</dc:creator>
  <dc:description/>
  <dc:language>en-US</dc:language>
  <cp:lastModifiedBy>Erich Friedman</cp:lastModifiedBy>
  <dcterms:modified xsi:type="dcterms:W3CDTF">2022-03-02T13:12:02Z</dcterms:modified>
  <cp:revision>481</cp:revision>
  <dc:subject/>
  <dc:title>Slide 1</dc:title>
</cp:coreProperties>
</file>