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275C-0A0B-4227-8C44-22DC20F01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6176-499A-48D1-B2BB-25C08CA2E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3AB6-A9B2-4063-BB2F-7E6E3E47C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DFFC-96F7-4CDE-92C0-39BA7C580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4B43-9139-4B42-AE5C-4CDC7090B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3C68-80A5-47EB-8B31-81B17CC50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97FB-E40D-4A02-BCAD-E6DE7EC85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8ED60-8217-4EE0-8087-5C2BB471B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E3D8-F810-4275-B388-F78D4F0FE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AE45-4062-4332-9D38-91ED4B38B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64AA-37F7-407B-A737-5E7B84C1C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D223-41C1-46DC-82D9-AB35274C4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531A-E5E4-4DC1-A0CC-22D7B6F4F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9736-2A79-45E4-9CED-1AD54ED26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9D61-4A22-4588-9399-C6740EEC6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347E-A7DE-462C-B783-948B59806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D2D3-43F9-4584-9FCE-72F0285DF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1EDB-BD5F-4D50-979E-4BFDB391B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5553-0B54-4C26-ABE2-58F2CC289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D53E-3BB5-4F33-8358-F085F9506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0302-AEFE-4B71-BBC9-C3EBD9980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20FC-401E-4357-98B1-97E9D403F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3B19-F067-4225-B224-03147F04D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OR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3120" y="762120"/>
            <a:ext cx="8537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BARNEY MILL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990720" y="49528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VIN  COST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277920" y="762120"/>
            <a:ext cx="8586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2 ACADEMY AWARDS FOR "DANCES WITH WOLV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523880" y="49528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VIN  K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69840" y="762120"/>
            <a:ext cx="7202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SUPPORTING ACTOR FOR "A FISH CALLED WAND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80880" y="49500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CLE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95360" y="762120"/>
            <a:ext cx="81532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MONTY PYTHON STARRED IN AND WROTE THE SCREENPLAY FOR "A FISH CALLED WAND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952880"/>
            <a:ext cx="8534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DA  H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57160" y="762120"/>
            <a:ext cx="742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NCIS:LA" STAR WAS THE FIRST PERSON TO WIN AN OSCAR FOR PLAYING A CHARACTER OF THE OPPOSITE GEN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3000" y="495288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  GOLDB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28480" y="762120"/>
            <a:ext cx="8087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3 "JURASSIC PARK" FILMS AND 2 "INDEPENDENCE DAY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57480" y="4952880"/>
            <a:ext cx="6629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NY  GL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257480" y="762120"/>
            <a:ext cx="6629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MEL GIBSON IN THE "LETHAL WEAPON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480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TT  GLE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-152280" y="838080"/>
            <a:ext cx="60195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IS ACTOR FROM "BACKDRAFT", "URBAN COWBOY", AND "TRAINING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5929200" y="457200"/>
            <a:ext cx="27576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47680" y="762120"/>
            <a:ext cx="8648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2 ACADEMY AWARDS FOR "DANCES WITH WOLV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190440" y="4952880"/>
            <a:ext cx="533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AN  DENNE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914400"/>
            <a:ext cx="5715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IS ACTOR, FROM "COCOON", "GORKY PARK", AND "FIRST BLOO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5638680" y="380880"/>
            <a:ext cx="319428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380880" y="495288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  LIN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276120" y="762120"/>
            <a:ext cx="8591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BARNEY MILL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114480" y="4876920"/>
            <a:ext cx="8915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  THE  FILM  "SILVERADO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81000" y="761760"/>
            <a:ext cx="7182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SUPPORTING ACTOR FOR "A FISH CALLED WAND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66560" y="762120"/>
            <a:ext cx="8210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MONTY PYTHON STARRED IN AND WROTE THE SCREENPLAY FOR "A FISH CALLED WAND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16040" y="762120"/>
            <a:ext cx="77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NCIS:LA" STAR WAS THE FIRST PERSON TO WIN AN OSCAR FOR PLAYING A CHARACTER OF THE OPPOSITE GEN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42880" y="762120"/>
            <a:ext cx="8058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3 "JURASSIC PARK" FILMS AND 2 "INDEPENDENCE DAY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MEL GIBSON IN THE "LETHAL WEAPON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-305280" y="990720"/>
            <a:ext cx="6100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IS ACTOR FROM "BACKDRAFT", "URBAN COWBOY", AND "TRAINING D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929200" y="457200"/>
            <a:ext cx="27576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228960" y="914400"/>
            <a:ext cx="5962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IS ACTOR, FROM "COCOON", "GORKY PARK", AND "FIRST BLOO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5638680" y="380880"/>
            <a:ext cx="3194280" cy="419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11:07:52Z</dcterms:created>
  <dc:creator>Jennifer Budzinski</dc:creator>
  <dc:description/>
  <dc:language>en-US</dc:language>
  <cp:lastModifiedBy>Erich Friedman</cp:lastModifiedBy>
  <dcterms:modified xsi:type="dcterms:W3CDTF">2022-03-02T13:12:02Z</dcterms:modified>
  <cp:revision>481</cp:revision>
  <dc:subject/>
  <dc:title>Slide 1</dc:title>
</cp:coreProperties>
</file>