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32A1-F604-4C05-8143-1D89F1A26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B4D2-7005-4002-A854-2316B80BC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28A3-ED1B-4935-AFB1-CBBB0F5AF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DEA7-56EF-48EA-9593-A11A494BF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547D-EEFB-48F0-9F5D-08196260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85FE-AF3D-4B15-980E-8AF1A5B99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876D-145D-44CD-B87F-ECE6809BA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D8CF-E769-41DF-9980-92F47B5B7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6B19-2C33-44EF-96C3-3C40622B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295A6-6F81-48BF-8766-CCFB84E13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DF66-1AEA-44BA-9B6C-9E44F826A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28E-D0BF-46F3-8CAD-6EE2B2DAF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8724-F47B-4E98-A658-430F6516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236C-79A0-40AA-9DF6-C7E9153A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5D52-C7B5-4A6D-99A3-1A2C73F00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517-E29A-4E92-8DF0-84A5FEC09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E8B4-D627-44C0-883E-9A17575C0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E0D9-2830-4A30-A658-8D486E279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9E75-6E94-4E39-8C34-A78DC8A1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EFF5-5041-498A-BB40-5DAC2C5B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62AB-22F2-414E-BCF2-5E9ADD68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75B5-37B0-40E2-8F49-E25244F57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5893-3678-4C95-9850-CD29DFD2C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NG THE U.S. STATES WITH THE SMALLEST POPULATION, WHERE DOES VERMONT RA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23920" y="762120"/>
            <a:ext cx="689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HIS BODY WAS JOHN LENNON SHOT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03360" y="762120"/>
            <a:ext cx="613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ELEMENT ON EARTH BY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REPEATED 3 TIMES, IS THE TITLE OF A BEATLES SONG ON THE WHITE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4960" y="762120"/>
            <a:ext cx="753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STATE" APPEARS IN THE NAMES OF 2 OF THE TOP 10 CAR INSURERS IN THE U.S.  WHAT 4-LETTER WORD DOES AS W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4880" y="762120"/>
            <a:ext cx="827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APPEARS IN THE TITLE OF ALL 3 FILMS IN THE TRILOGY DIRECTED BY RICHARD LINKLATER AND STARRING ETHAN HAWKE AND JULIE DELP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  &amp;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3560" y="762120"/>
            <a:ext cx="76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XTER" AND "SINISTER" ARE LATIN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&amp;  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PORTS BETTING, WHAT DO THE "O" AND "U" STAND FOR IN "O/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06080" y="762120"/>
            <a:ext cx="6529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PART OF HIS BODY WAS JOHN LENNON SHOT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  (F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LADY GAGA'S BEST-SELLING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3840" y="762120"/>
            <a:ext cx="709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ONG THE U.S. STATES WITH THE SMALLEST POPULATION, WHERE DOES VERMONT RA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ELEMENT ON EARTH BY M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, REPEATED 3 TIMES, IS THE TITLE OF A BEATLES SONG ON THE WHITE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STATE" APPEARS IN THE NAMES OF 2 OF THE TOP 10 CAR INSURERS IN THE U.S.  WHAT 4-LETTER WORD DOES AS W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ORD APPEARS IN THE TITLE OF ALL 3 FILMS IN THE TRILOGY DIRECTED BY RICHARD LINKLATER AND STARRING ETHAN HAWKE AND JULIE DELP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XTER" AND "SINISTER" ARE LATIN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PORTS BETTING, WHAT DO THE "O" AND "U" STAND FOR IN "O/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LADY GAGA'S BEST-SELLING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3-02T13:17:28Z</dcterms:modified>
  <cp:revision>465</cp:revision>
  <dc:subject/>
  <dc:title>Slide 1</dc:title>
</cp:coreProperties>
</file>