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1A8D-E5EB-412C-A58F-14040B503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183-F09C-4D2C-BD09-2390386A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7BEE-B471-4CA0-BBC5-BA4D289CE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8949-D8AE-4249-943A-93019CDF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2AA-9BBE-46F3-AFBE-FD411543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710D-94EF-4ADE-8DC8-63D1E2F5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A42-EB17-4A13-9CC0-5506309E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FBD-E10F-4C20-943A-A721DC146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E3BE-C505-4330-A75E-97250CCD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35FD-8C1D-4EDB-AC80-75EA5481A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804-5042-4122-8CAA-717195BA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C6D7-E5F6-4EF9-8B48-6194F0D0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83B3-9523-4626-BB9C-DB140760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C970-7934-47CD-9360-DB0D1118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EB3-51E6-4E6D-BE59-61A8A1C2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F292-8431-4790-986B-A4D6E116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D9B-73BF-4594-9F98-359B0DEC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914-D746-4E06-BF17-8BC4FCEB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BE72-AF6F-46CF-8C62-94B766EA6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1D7B-8BDF-417F-8534-879266FC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45A9-CE98-4A07-BFE9-AF3B9D41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B4D9-9A4D-4008-BD30-6AC58517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E182-3186-4967-B334-BD9D210B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THE U.S. STATES WITH THE SMALLEST POPULATION, WHERE DOES VERMONT R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23920" y="762120"/>
            <a:ext cx="689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03360" y="762120"/>
            <a:ext cx="613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LEMENT ON EARTH BY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REPEATED 3 TIMES, IS THE TITLE OF A BEATLES SONG ON THE WHIT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4960" y="762120"/>
            <a:ext cx="753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TATE" APPEARS IN THE NAMES OF 2 OF THE TOP 10 CAR INSURERS IN THE U.S.  WHAT 4-LETTER WORD DOES AS W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4880" y="762120"/>
            <a:ext cx="827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APPEARS IN THE TITLE OF ALL 3 FILMS IN THE TRILOGY DIRECTED BY RICHARD LINKLATER AND STARRING ETHAN HAWKE AND JULIE DELP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  &amp;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XTER" AND "SINISTER" ARE LATIN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&amp; 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PORTS BETTING, WHAT DO THE "O" AND "U" STAND FOR IN "O/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06080" y="762120"/>
            <a:ext cx="652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(F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LADY GAGA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3840" y="762120"/>
            <a:ext cx="70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THE U.S. STATES WITH THE SMALLEST POPULATION, WHERE DOES VERMONT R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LEMENT ON EARTH BY M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REPEATED 3 TIMES, IS THE TITLE OF A BEATLES SONG ON THE WHIT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TATE" APPEARS IN THE NAMES OF 2 OF THE TOP 10 CAR INSURERS IN THE U.S.  WHAT 4-LETTER WORD DOES AS W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APPEARS IN THE TITLE OF ALL 3 FILMS IN THE TRILOGY DIRECTED BY RICHARD LINKLATER AND STARRING ETHAN HAWKE AND JULIE DELP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XTER" AND "SINISTER" ARE LATIN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PORTS BETTING, WHAT DO THE "O" AND "U" STAND FOR IN "O/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LADY GAGA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3:17:28Z</dcterms:modified>
  <cp:revision>465</cp:revision>
  <dc:subject/>
  <dc:title>Slide 1</dc:title>
</cp:coreProperties>
</file>