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643-CA2B-43F3-906F-A392484F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2156-8B01-4EB8-BC0D-70F7806A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E03A-DDC8-4C68-9DC3-EE92C525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D9C-B742-42F8-A750-74AF76A5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1AE-2F6B-4392-97B5-5DAD523A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A96-8250-4A0B-84D1-C7BDF22D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5AB2-BDDD-46A6-BE60-9AB63803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974-6484-41F4-B9EA-A05023A5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A6C-FF1A-45D7-916E-99ABAD7B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03EA-009D-4DF3-B8C6-B2D038BC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C51-496D-4734-A043-F3A0174E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78DA-DA8D-4956-BECB-FDFB6025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0FE-35BC-4062-873D-AF5231D6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337-6028-475E-A559-1D753ECB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465-142C-4CD2-BB1F-26F9B707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5D3B-9B7B-4A57-933E-935FED5A0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F93-D84F-48F0-AE44-852006A9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E09-53D1-46D9-A339-96A075BC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9CC-6FF9-4F2D-801A-DFD93B5C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0B09-F0DD-4F5E-98F6-995B7CD8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4FBD-FCF9-435F-97BF-ACD34596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104-35E1-4E3C-96B0-8D3096FE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BA3-37AB-4F71-B27F-548D4E0F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EACH 2-MINUTE PERIOD IN WHICH ROLLER DERBY TEAMS COMPE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DITION OF DUNGEONS AND DRAGONS ONLY ALLOWED PLAYERS TO BE MAGIC-USERS, CLERICS, THIEVES, 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IMITED  LIABILITY)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IN "LL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PIN A LINCOLN PENNY, WHICH SIDE WILL END UP FACE DOWN ABOUT 3/4 OF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ELEBRATED ON SATURDAYS IN EASTERN CHRISTIANITY, PUTTING IT AT ODDS WITH WESTERN CHRISTI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"YAHOO!"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PARD  (LION,  TIGER,  JAGU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CAT SPECIES WHICH CAN ACTUALLY ROAR.  WHICH ONE OF THEM HAS THE LONG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3434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  (BOTTOM,  UP,  DOWN,  CHARM,  ST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TYPES OF QUARK, WHICH ONE IS THE HEAV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DITION OF DUNGEONS AND DRAGONS ONLY ALLOWED PLAYERS TO BE MAGIC-USERS, CLERICS, THIEVES, 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VEHICLE WAS THE HINDEN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31760" y="762120"/>
            <a:ext cx="70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EACH 2-MINUTE PERIOD IN WHICH ROLLER DERBY TEAMS COMP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7160" y="4343400"/>
            <a:ext cx="7429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WORDS  IN  2–WORD  NAMES  OF  ROCK  B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IN "LL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PIN A LINCOLN PENNY, WHICH SIDE WILL END UP FACE DOWN ABOUT 3/4 OF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ELEBRATED ON SATURDAYS IN EASTERN CHRISTIANITY, PUTTING IT AT ODDS WITH WESTERN CHRISTIA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"YAHOO!"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CAT SPECIES WHICH CAN ACTUALLY ROAR.  WHICH ONE OF THEM HAS THE LONG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TYPES OF QUARK, WHICH ONE IS THE HEAV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VEHICLE WAS THE HINDENBU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29:47Z</dcterms:modified>
  <cp:revision>468</cp:revision>
  <dc:subject/>
  <dc:title>Slide 1</dc:title>
</cp:coreProperties>
</file>