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196F-25FB-4B78-809F-8213F5A69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53F2-546C-4B87-AE4D-B0FBC7A5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CEFB-9255-4A86-93E4-C995A6B1B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C090-468F-45C3-8B81-91C52EC5B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CA39-E88E-4D26-81A8-EE5E4246E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9FBA-03CB-4BA1-AEB6-68C4DB693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9DF6-88B7-40BD-B6E6-A650CB002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6E41-E7E3-4138-817E-848416569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DC07-A111-46D4-A884-C377019F0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D51D-6F9B-4904-991E-3BBDDF40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BAC9-6715-4B2C-8D20-B4661A069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9EBB-E179-4695-849F-EEC9F5264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DC5E-2E00-4EEA-A844-C9FF80561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C410-ACFE-49DE-8F92-C33D92952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9559-81EB-410B-BDE2-C84671B6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AD43-2AEB-49E8-BEA2-B71529E32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4ED6-D045-4967-A608-E9D72266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8EA1-9D75-41D2-82FF-08F00D95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47D-5E98-4611-AC5A-9AB9F4C0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E9EB-D14E-4BC1-A525-5C72EA538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647F-48A7-448C-AF7E-5494BE63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311E-06CF-4B09-8704-75CF74EEC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310E-E3DC-4DCD-B861-DC9B9C4B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EACH 2-MINUTE PERIOD IN WHICH ROLLER DERBY TEAMS COMPE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H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DITION OF DUNGEONS AND DRAGONS ONLY ALLOWED PLAYERS TO BE MAGIC-USERS, CLERICS, THIEVES, 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IMITED  LIABILITY)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IN "LLC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SPIN A LINCOLN PENNY, WHICH SIDE WILL END UP FACE DOWN ABOUT 3/4 OF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ELEBRATED ON SATURDAYS IN EASTERN CHRISTIANITY, PUTTING IT AT ODDS WITH WESTERN CHRISTIA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"YAHOO!"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619200" y="487692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PARD  (LION,  TIGER,  JAGU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6360" y="762120"/>
            <a:ext cx="799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CAT SPECIES WHICH CAN ACTUALLY ROAR.  WHICH ONE OF THEM HAS THE LONG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3434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  (BOTTOM,  UP,  DOWN,  CHARM,  STR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76280" y="762120"/>
            <a:ext cx="819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6 TYPES OF QUARK, WHICH ONE IS THE HEAV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DITION OF DUNGEONS AND DRAGONS ONLY ALLOWED PLAYERS TO BE MAGIC-USERS, CLERICS, THIEVES, 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VEHICLE WAS THE HINDEN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31760" y="762120"/>
            <a:ext cx="708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EACH 2-MINUTE PERIOD IN WHICH ROLLER DERBY TEAMS COMP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7160" y="4343400"/>
            <a:ext cx="7429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WORDS  IN  2–WORD  NAMES  OF  ROCK  B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IN "LLC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SPIN A LINCOLN PENNY, WHICH SIDE WILL END UP FACE DOWN ABOUT 3/4 OF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ELEBRATED ON SATURDAYS IN EASTERN CHRISTIANITY, PUTTING IT AT ODDS WITH WESTERN CHRISTIAN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"YAHOO!"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CAT SPECIES WHICH CAN ACTUALLY ROAR.  WHICH ONE OF THEM HAS THE LONG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6 TYPES OF QUARK, WHICH ONE IS THE HEAV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VEHICLE WAS THE HINDENBU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2T13:29:47Z</dcterms:modified>
  <cp:revision>468</cp:revision>
  <dc:subject/>
  <dc:title>Slide 1</dc:title>
</cp:coreProperties>
</file>