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D187-7F91-4D1A-94CA-5D143F0B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322-97F7-435E-B733-6A82278C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87B5-C326-44EA-B637-5DFFA7E6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F3F-4941-44FF-87CA-75959419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AF25-9460-4967-9DE8-1EA39A32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A6F4-B445-45EB-BE82-3D2DDF14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1364-3D23-418E-A548-E1984D246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0A2-69D1-4C33-B50B-5518BC2C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90F9-A7EE-42D7-B812-6C5A1686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9BC9-6164-486F-AD99-BD6A5356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7CFE-9B2B-4416-84EF-90A63286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6A6F-CA78-4408-8352-6E9AD0C13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DAAC-1524-4607-A448-FAA7E56A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46A9-70CE-433E-BD1C-CF824FEF7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982-DEFE-4B82-9D39-25C54AA5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E09B-C510-45E7-BAC8-5E7654EF8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F27C-59BE-4E6B-86E0-17E63354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C099-910E-4593-B913-1D8DF003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5954-162D-4029-AA92-E92908FC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927-1265-421E-A58F-473BB9FF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ADA5-953A-41A8-AFA6-477E8B3D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1392-9D66-4E76-8195-E6A8C07B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F2C-6003-4FE8-BE73-00D4E68DA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9A93-197D-4D0F-A9EC-09F79CDB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ERATI LOGO CONSISTS OF WHAT WEAP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57360" y="762120"/>
            <a:ext cx="782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OPERA BY GEORGES BIZ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FIX IS USED ON THE WORD "ORDINARY" TO MEAN "NOT ORDINARY AT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680" y="762120"/>
            <a:ext cx="89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USTON ASTRO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990880" y="2768760"/>
            <a:ext cx="31622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9520" y="762120"/>
            <a:ext cx="87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-2011 COMPACT MITSUBISHI MODEL WAS NAMED AFTER AN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UNBEATEN RACE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47640" y="762120"/>
            <a:ext cx="60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TOR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914400"/>
            <a:ext cx="4029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APPLICATION HAS THIS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ZO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THE PORTABLE ANTI-TANK ROCKET LAUNCHER FIRST USED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123920" y="762120"/>
            <a:ext cx="6896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ERATI LOGO CONSISTS OF WHAT WEAP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WING  GUM  B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OPERA BY GEORGES BIZ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FIX IS USED ON THE WORD "ORDINARY" TO MEAN "NOT ORDINARY AT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USTON ASTRO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90880" y="2768760"/>
            <a:ext cx="316224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-2011 COMPACT MITSUBISHI MODEL WAS NAMED AFTER AN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UNBEATEN RACE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TOR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4510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APPLICATION HAS THIS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THE PORTABLE ANTI-TANK ROCKET LAUNCHER FIRST USED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5-18T14:26:06Z</dcterms:modified>
  <cp:revision>409</cp:revision>
  <dc:subject/>
  <dc:title>Slide 1</dc:title>
</cp:coreProperties>
</file>