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BECF-A5BD-4F44-97CE-AA4599AFA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B8B5-AB88-4B57-B94B-131297698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5D0C-2505-415A-89BA-4D0D1BB62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9750-95CF-4001-9CD6-0AF0417A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79CC-01FC-4F21-8AB3-9645541F2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B33-99F3-4010-BB3B-BA3ED4180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54F5-C869-4E1F-9204-B83DCB408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83C5-239C-4058-951B-80C906613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AF4B-21B9-4F8F-B4C9-342F5AAB6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5C223-5A86-4A16-8713-C891DDE58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DFA19-7B12-4133-B4E4-E9AE225BE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628D-3C35-4827-BFC5-841E669C6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7C59-EAAE-468F-8038-08703C898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3522-FA10-42F7-9752-1C79C2DA4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60B4-6456-4982-B5DF-3A2DBB802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3818-D807-4B74-B566-EE67D9B47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371E-688A-47A1-90BD-AC0A49B4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E40D-51CD-4617-911D-DFDD9658C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BCFA-ED9D-4AAA-BBDF-11540EC8A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46C3-6C16-4B57-AC19-5B0775B5B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2745-8A78-4AA3-AA5A-DCDEDC408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1420-1A8C-4AAF-879A-A659D056C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48E4-1F76-423D-826D-518D6AE58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C0D4-F935-48AF-9E1C-4A23EFB1F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ERATI LOGO CONSISTS OF WHAT WEAP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RNELL UNIVERSITY ATHLETIC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019240" y="49528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657360" y="762120"/>
            <a:ext cx="7829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OPERA BY GEORGES BIZ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42880" y="762120"/>
            <a:ext cx="805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FIX IS USED ON THE WORD "ORDINARY" TO MEAN "NOT ORDINARY AT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5680" y="762120"/>
            <a:ext cx="897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USTON ASTROS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990880" y="2768760"/>
            <a:ext cx="3162240" cy="210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LI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09520" y="762120"/>
            <a:ext cx="872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-2011 COMPACT MITSUBISHI MODEL WAS NAMED AFTER AN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UNBEATEN RACE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47640" y="762120"/>
            <a:ext cx="60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IN THE TOR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4920" y="914400"/>
            <a:ext cx="4029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APPLICATION HAS THIS 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ZO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THE PORTABLE ANTI-TANK ROCKET LAUNCHER FIRST USED IN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123920" y="762120"/>
            <a:ext cx="6896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ERATI LOGO CONSISTS OF WHAT WEAP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RNELL UNIVERSITY ATHLETIC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WING  GUM  B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OPERA BY GEORGES BIZ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FIX IS USED ON THE WORD "ORDINARY" TO MEAN "NOT ORDINARY AT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3840" y="762120"/>
            <a:ext cx="889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USTON ASTROS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990880" y="2768760"/>
            <a:ext cx="316224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-2011 COMPACT MITSUBISHI MODEL WAS NAMED AFTER AN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UNBEATEN RACE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IN THE TOR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4510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APPLICATION HAS THIS I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THE PORTABLE ANTI-TANK ROCKET LAUNCHER FIRST USED IN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5-18T14:26:06Z</dcterms:modified>
  <cp:revision>409</cp:revision>
  <dc:subject/>
  <dc:title>Slide 1</dc:title>
</cp:coreProperties>
</file>