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2F2D-53F1-4A9B-B994-01DCE9476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65DD-26C5-4B80-B34A-A677329AD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575F-7BA4-43D0-B8D6-A55A17691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EF5D-3864-49B7-B746-FAA1C2BC8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6F82-4554-4FE3-8377-C1D4ED9CD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CBAD-95B2-4497-999D-BDD08E276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9845-C173-40BE-93D1-D6A2D2A51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494B-A1B4-437A-BD61-C44432D9F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14DA-4F6D-4E5D-877E-1FB885910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4EBA-A0BE-49CD-BA93-4D1382A7B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942A-5231-40C3-92B5-DB86265F6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DD19-D84B-46E6-8CA0-21799D8B3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AF05-1833-4E32-BEC2-6FC1B804C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1EE9-6AEB-43C8-8B4B-8401B7107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9D33-1B8B-4504-9B0E-F71E646A2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2F59-E3CE-458F-BE9E-5E711E557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727A-32FA-4085-A444-6E017831A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DE59-1F47-4160-9DFA-B242EF292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3F34-F0B1-43FE-9C0A-075BFE20B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C398-989D-405E-A646-0D39C092E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161E-456D-4BDB-9068-C009CF4D0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9EF0-C07F-453E-8FC4-8FEDCF599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4710-7B6B-4F9F-8001-8C565AE3A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08160" y="761760"/>
            <a:ext cx="6727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MAN WAS THE YOUNGEST AMERICAN IN SPACE, AT AGE 33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2019240" y="4876920"/>
            <a:ext cx="510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BERT  HO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38120" y="762120"/>
            <a:ext cx="8267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HAVE BEEN 2 U.S. PRESIDENTS FROM THE QUAKER FAITH, RICHARD NIXON AND WHO EL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DRA  DAY  O'CONN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23920" y="762120"/>
            <a:ext cx="6896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FEMALE JUSTICE ON THE U.S. SUPREME COU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LSEA  CLIN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24000" y="762120"/>
            <a:ext cx="8496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DAUGHTER HAD SECRET SERVICE CODENAME "ENERGY" WHILE HER FATHER WAS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CHEL  MADD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81040" y="762120"/>
            <a:ext cx="7981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OPENLY LESBIAN ANCHOR IN THE U.S. TO HOST A MAJOR PRIME-TIME NEWS PROGR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D  KOPP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19000" y="762120"/>
            <a:ext cx="750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ABC'S "NIGHTLINE" 1980-200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Y  BOO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114560" y="762120"/>
            <a:ext cx="6886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ACK NEW JERSEY SENATOR RAN FOR PRESIDENT IN 2020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SAN  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AMBASSADOR TO THE U.N. AND NATIONAL SECURITY ADVISOR UNDER PRESIDENT OBA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07880" y="762120"/>
            <a:ext cx="8328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HAVE BEEN 2 U.S. PRESIDENTS FROM THE QUAKER FAITH, RICHARD NIXON AND WHO EL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GOURNEY  WEA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14240" y="838080"/>
            <a:ext cx="77155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GHOSTBUSTERS", "THE ICE STORM", AND "AVAT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LY  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238400" y="762120"/>
            <a:ext cx="6667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MAN WAS THE YOUNGEST AMERICAN IN SPACE, AT AGE 33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3434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GRADUATED  FROM  STANFORD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57320" y="761760"/>
            <a:ext cx="7029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FEMALE JUSTICE ON THE U.S. SUPREME COU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24000" y="762120"/>
            <a:ext cx="8496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DAUGHTER HAD SECRET SERVICE CODENAME "ENERGY" WHILE HER FATHER WAS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OPENLY LESBIAN ANCHOR IN THE U.S. TO HOST A MAJOR PRIME-TIME NEWS PROGR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ABC'S "NIGHTLINE" 1980-200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52640" y="761760"/>
            <a:ext cx="703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ACK NEW JERSEY SENATOR RAN FOR PRESIDENT IN 2020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AMBASSADOR TO THE U.N. AND NATIONAL SECURITY ADVISOR UNDER PRESIDENT OBAM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GHOSTBUSTERS", "THE ICE STORM", AND "AVATA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2-03-04T07:55:46Z</dcterms:modified>
  <cp:revision>412</cp:revision>
  <dc:subject/>
  <dc:title>Slide 1</dc:title>
</cp:coreProperties>
</file>