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EA2-C8E8-4521-99FB-C78C78D5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229-8DD3-44B6-BF63-0CCA66DC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DCDA-FA7E-4FE0-B73F-639FBBD0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C24-0085-490A-9190-BE6BE0B8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BE75-CCED-4593-AC1E-CB54A65B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40B3-034F-4735-BA95-1C8AFAC07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AE7-D33D-42B8-9088-A35350C1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2932-C914-4CE6-BF2F-C8F09F43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1F9-4158-470F-BC3C-59FC342B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BD86-459E-43F1-9E3C-EFB317F2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6C02-FBE4-43DB-9B5C-45A4FD17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8B8B-3E36-48DE-88BF-B41A189C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C17-439A-4D7D-9938-7B798DA2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9B62-8FE6-477A-B02A-2F489638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77E3-5F12-4255-A11B-39CE875B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4AA7-D0C3-44C4-A5B2-EED85FD0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480-FB4F-4B8F-ADAE-BA357E3FC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31C5-CEEE-4553-9726-7D4128B7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9DBB-6597-4C48-AA1C-49E3CE9A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9347-97A4-484A-AC87-8E974A9E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323-59A6-4DA9-A5B8-635920A0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D5B-493F-49EF-B896-5CDC01AD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DC0-05AD-45C7-8ADF-625F13D1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08160" y="761760"/>
            <a:ext cx="672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WAS THE YOUNGEST AMERICAN IN SPACE, AT AGE 33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ERT  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BEEN 2 U.S. PRESIDENTS FROM THE QUAKER FAITH, RICHARD NIXON AND WHO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DAY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JUSTICE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DAUGHTER HAD SECRET SERVICE CODENAME "ENERGY" WHILE HER FATHER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LESBIAN ANCHOR IN THE U.S. TO HOST A MAJOR PRIME-TIME NEWS PR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OP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BC'S "NIGHTLINE" 1980-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Y  B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14560" y="762120"/>
            <a:ext cx="6886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NEW JERSEY SENATOR RAN FOR PRESIDENT IN 202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MBASSADOR TO THE U.N. AND NATIONAL SECURITY ADVISOR UNDER PRESIDENT O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7880" y="762120"/>
            <a:ext cx="832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BEEN 2 U.S. PRESIDENTS FROM THE QUAKER FAITH, RICHARD NIXON AND WHO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OURNEY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4240" y="838080"/>
            <a:ext cx="77155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HOSTBUSTERS", "THE ICE STORM",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WAS THE YOUNGEST AMERICAN IN SPACE, AT AGE 33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GRADUATED  FROM  STANFORD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57320" y="761760"/>
            <a:ext cx="70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JUSTICE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762120"/>
            <a:ext cx="8496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DAUGHTER HAD SECRET SERVICE CODENAME "ENERGY" WHILE HER FATHER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LESBIAN ANCHOR IN THE U.S. TO HOST A MAJOR PRIME-TIME NEWS PROGR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BC'S "NIGHTLINE" 1980-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52640" y="761760"/>
            <a:ext cx="703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NEW JERSEY SENATOR RAN FOR PRESIDENT IN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MBASSADOR TO THE U.N. AND NATIONAL SECURITY ADVISOR UNDER PRESIDENT O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HOSTBUSTERS", "THE ICE STORM",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7:55:46Z</dcterms:modified>
  <cp:revision>412</cp:revision>
  <dc:subject/>
  <dc:title>Slide 1</dc:title>
</cp:coreProperties>
</file>