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5367-7278-4C15-A140-4DC70B89C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DC9E-E101-443E-9AE2-FCF6970F0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4B40-CCD9-4387-A6F7-79F565833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FA78-00ED-4050-B41D-1CA923711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CA6A-AAF5-4AAC-8038-7863F2BEC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C56E-CD0F-4802-94CC-E40546941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742D-788A-4E46-881E-1924A80F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7688-6392-46BF-B27B-DFA855A50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3B1F-D0F5-4919-908F-CA3CDEA2F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3633-87A9-4760-AE77-9B6DABB49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EB7D-9994-4C2C-873C-5272C09A0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0145-0184-48A2-BE97-C1FA6E818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0940-2E67-481C-AD54-DA0E360BF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59D2-E221-48DD-BE8F-33ACD175D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B93D-1BBF-4ED0-8B74-D714FE6DD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7F59-BFED-40C6-AD26-4441B500D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7639-0914-48A6-8036-3FC22231C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4FDD-F4BE-47EC-956F-FF17E8D0A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157C-D181-4EC7-A3BB-0CBFA7967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5530-D4B7-4806-9009-5E321C18C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EC84-14A7-49A7-BCA2-9D6F7308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3330-E7A3-4FAC-B5AC-F1F3A7372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91AD-0BB5-4F3B-9B36-D26AE9F47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COLD WAR FILM WITH A 4-WORD TITLE WAS BASED ON THE BOOK BY THE SAME NAME BY JOHN LE CARRÉ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L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0'S AND 80'S BAND SANG "ROXANNE" AND "EVERY BREATH YOU TAK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AND GARFUNKEL SONG BEGINS "MY DADDY WAS THE FAMILY BASSMAN, MY MAMMA WAS AN ENGINE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E  SHOEM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XAN-BORN JOCKEY WON 11 TRIPLE CROWN RACES BEFORE HE WAS CRIPPLED    IN AN AUTO ACC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TH  OF  A  SALES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Y LOMAN WAS THE LEAD CHARACTER IN WHAT ARTHUR MILLER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CULT FILM WAS SHOT FOR $27,000 IN A VIDEO AND CONVENIENCE ST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EPISODE OF A TV SHOW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KE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CONTAINS A DOUBLE O, FOLLOWED BY A DOUBLE K, FOLLOWED BY A DOUBLE 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0'S AND 80'S BAND SANG "ROXANNE" AND "EVERY BREATH YOU TAK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LEAGUE BASEBALL TEAM IS BASED IN MILWAUKEE, WISCONS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KER  TAILOR  SOLDIER  S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COLD WAR FILM WITH A 4-WORD TITLE WAS BASED ON THE BOOK BY THE SAME NAME BY JOHN LE CARR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OCCUP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AND GARFUNKEL SONG BEGINS "MY DADDY WAS THE FAMILY BASSMAN, MY MAMMA WAS AN ENGINE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XAN-BORN JOCKEY WON 11 TRIPLE CROWN RACES BEFORE HE WAS CRIPPLED    IN AN AUTO ACC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176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Y LOMAN WAS THE LEAD CHARACTER IN WHAT ARTHUR MILLER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2396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CULT FILM WAS SHOT FOR $27,000 IN A VIDEO AND CONVENIENCE ST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EPISODE OF A TV SHOW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CONTAINS A DOUBLE O, FOLLOWED BY A DOUBLE K, FOLLOWED BY A DOUBLE 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LEAGUE BASEBALL TEAM IS BASED IN MILWAUKEE, WISCONSI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4:07:00Z</dcterms:created>
  <dc:creator>Jennifer Budzinski</dc:creator>
  <dc:description/>
  <dc:language>en-US</dc:language>
  <cp:lastModifiedBy>Erich Friedman</cp:lastModifiedBy>
  <dcterms:modified xsi:type="dcterms:W3CDTF">2020-08-23T18:04:10Z</dcterms:modified>
  <cp:revision>341</cp:revision>
  <dc:subject/>
  <dc:title>Slide 1</dc:title>
</cp:coreProperties>
</file>