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CCB0-EA90-4184-80DC-BD813C0CE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B248-6F41-4BBD-A5E0-E30B3D822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9343-1741-4C5D-B2EB-7DE2D2D03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1962-F5E2-4552-B1E0-93AE83E4F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42BC-EEB3-4D70-9E58-878ED5660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C07A-E8DE-4CA1-A588-764018C9A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FD4A-FA1B-43B3-9C59-96106ECB4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5A19-EFC9-4D68-89BB-36BC1DAD6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AFF2-0F6F-4311-B4A7-F131F7B29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890A-A799-47EE-AAAF-B61E83807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0A4C-45B8-4520-B54A-5C31D1B04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B478-F55D-4879-A4A5-9C84A7749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9BBB-E239-4487-B697-E760ABA5A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C281-CC88-4669-A35B-ED9E66326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1BBE-C166-49BE-9ACD-225B9B098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1472-BCC2-4203-AC9F-CD0A6D5FF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51F8-38B7-4433-A579-90CB18DEC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AE9B-A111-4AAD-8180-8AEBBD130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5B75-8F1D-473D-BB72-76E4CE453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EA34-06F4-4563-AB1C-C4AACEC10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0507-6AF8-4B18-8765-D0FB8A48F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7846-988A-4A7A-A198-F47135702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ED29-7FCF-4CC1-B389-5B69BCC41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COLD WAR FILM WITH A 4-WORD TITLE WAS BASED ON THE BOOK BY THE SAME NAME BY JOHN LE CARRÉ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OL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23960" y="762120"/>
            <a:ext cx="7696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70'S AND 80'S BAND SANG "ROXANNE" AND "EVERY BREATH YOU TAKE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BY  D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MON AND GARFUNKEL SONG BEGINS "MY DADDY WAS THE FAMILY BASSMAN, MY MAMMA WAS AN ENGINE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E  SHOEMA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808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XAN-BORN JOCKEY WON 11 TRIPLE CROWN RACES BEFORE HE WAS CRIPPLED    IN AN AUTO ACC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ATH  OF  A  SALES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LLY LOMAN WAS THE LEAD CHARACTER IN WHAT ARTHUR MILLER PL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E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CULT FILM WAS SHOT FOR $27,000 IN A VIDEO AND CONVENIENCE STO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L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38080" y="762120"/>
            <a:ext cx="74678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EPISODE OF A TV SHOW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OKKEE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WORD CONTAINS A DOUBLE O, FOLLOWED BY A DOUBLE K, FOLLOWED BY A DOUBLE 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70'S AND 80'S BAND SANG "ROXANNE" AND "EVERY BREATH YOU TAKE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EW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JOR LEAGUE BASEBALL TEAM IS BASED IN MILWAUKEE, WISCONSI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NKER  TAILOR  SOLDIER  S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90720" y="762120"/>
            <a:ext cx="7162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COLD WAR FILM WITH A 4-WORD TITLE WAS BASED ON THE BOOK BY THE SAME NAME BY JOHN LE CARRÉ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OCCUP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MON AND GARFUNKEL SONG BEGINS "MY DADDY WAS THE FAMILY BASSMAN, MY MAMMA WAS AN ENGINE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XAN-BORN JOCKEY WON 11 TRIPLE CROWN RACES BEFORE HE WAS CRIPPLED    IN AN AUTO ACC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176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LLY LOMAN WAS THE LEAD CHARACTER IN WHAT ARTHUR MILLER PL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2396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CULT FILM WAS SHOT FOR $27,000 IN A VIDEO AND CONVENIENCE STO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EPISODE OF A TV SHOW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WORD CONTAINS A DOUBLE O, FOLLOWED BY A DOUBLE K, FOLLOWED BY A DOUBLE 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04880" y="762120"/>
            <a:ext cx="7734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JOR LEAGUE BASEBALL TEAM IS BASED IN MILWAUKEE, WISCONSI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5T04:07:00Z</dcterms:created>
  <dc:creator>Jennifer Budzinski</dc:creator>
  <dc:description/>
  <dc:language>en-US</dc:language>
  <cp:lastModifiedBy>Erich Friedman</cp:lastModifiedBy>
  <dcterms:modified xsi:type="dcterms:W3CDTF">2020-08-23T18:04:10Z</dcterms:modified>
  <cp:revision>341</cp:revision>
  <dc:subject/>
  <dc:title>Slide 1</dc:title>
</cp:coreProperties>
</file>