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F001-9FD4-40E6-A852-9EB141D0E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93E3-119E-46C3-B6C5-04E6CF903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C6BB-A0E8-4443-98BB-242334C3B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EA6C-59AD-42AC-B09F-6D379C3BB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7638-6BE4-46CD-BEAE-0949A865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7873-AF4F-4622-8B44-196AA4473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DD13-F1B9-43B9-93E3-C7E3DBAD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C1F0-F506-405F-BAB7-419EF46BC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7A32-A0F6-489B-ADF5-32C95814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5123-FF09-404D-8EE4-8BC49DA5E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C977-403E-4859-9307-3DF736995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E67F-9FEE-44F8-B70A-D4345AEE1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0B95-5C84-41C9-B382-81A3F85F1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E2DF-3948-4F17-B8DE-C9A10E68D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6CB9-A437-42CC-A6FF-31AF2500A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5A0C-2FBD-46CA-ABA2-6E26D2383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0DAB-5F88-49F2-91F5-483CA31C3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57CF-4E6F-4738-817E-B317F2276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1DC0-668A-427F-ACA3-5239C3A9D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4CD7-3317-4EC0-A200-336340101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D476-B0F2-4E61-B1AA-8CEE5B3EA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0D6C-EE73-41E2-B7C4-C9D94CC39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A5A5-8AEE-4670-B665-736516918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COLD WAR FILM WITH A 4-WORD TITLE WAS BASED ON THE BOOK BY THE SAME NAME BY JOHN LE CARRÉ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0'S AND 80'S BAND SANG "ROXANNE" AND "EVERY BREATH YOU TAK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AND GARFUNKEL SONG BEGINS "MY DADDY WAS THE FAMILY BASSMAN, MY MAMMA WAS AN ENGINE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E  SHOEM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XAN-BORN JOCKEY WON 11 TRIPLE CROWN RACES BEFORE HE WAS CRIPPLED    IN AN AUTO ACC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TH  OF  A  SALES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Y LOMAN WAS THE LEAD CHARACTER IN WHAT ARTHUR MILLER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CULT FILM WAS SHOT FOR $27,000 IN A VIDEO AND CONVENIENCE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HOW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K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CONTAINS A DOUBLE O, FOLLOWED BY A DOUBLE K, FOLLOWED BY A DOUBLE 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0'S AND 80'S BAND SANG "ROXANNE" AND "EVERY BREATH YOU TAK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LEAGUE BASEBALL TEAM IS BASED IN MILWAUKEE, WISCONS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KER  TAILOR  SOLDIER  S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COLD WAR FILM WITH A 4-WORD TITLE WAS BASED ON THE BOOK BY THE SAME NAME BY JOHN LE CARR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OCCUP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AND GARFUNKEL SONG BEGINS "MY DADDY WAS THE FAMILY BASSMAN, MY MAMMA WAS AN ENGINE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XAN-BORN JOCKEY WON 11 TRIPLE CROWN RACES BEFORE HE WAS CRIPPLED    IN AN AUTO ACC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176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Y LOMAN WAS THE LEAD CHARACTER IN WHAT ARTHUR MILLER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2396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CULT FILM WAS SHOT FOR $27,000 IN A VIDEO AND CONVENIENCE ST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EPISODE OF A TV SHOW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CONTAINS A DOUBLE O, FOLLOWED BY A DOUBLE K, FOLLOWED BY A DOUBLE 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JOR LEAGUE BASEBALL TEAM IS BASED IN MILWAUKEE, WISCONSI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4:07:00Z</dcterms:created>
  <dc:creator>Jennifer Budzinski</dc:creator>
  <dc:description/>
  <dc:language>en-US</dc:language>
  <cp:lastModifiedBy>Erich Friedman</cp:lastModifiedBy>
  <dcterms:modified xsi:type="dcterms:W3CDTF">2020-08-23T18:04:10Z</dcterms:modified>
  <cp:revision>341</cp:revision>
  <dc:subject/>
  <dc:title>Slide 1</dc:title>
</cp:coreProperties>
</file>