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DC0-48DA-4758-88CF-CD17E1AB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496-ECC0-4C4E-A7F8-1091AC25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F70-66E5-4A5F-AA63-9CEC981B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FF9-155C-4762-9E87-DD573E039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148-A5A2-41C2-B12D-404E0084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94A-F59A-4602-9AB1-6A5E69FD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111-E72E-4BF0-BA16-F4B1B9DB5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025F-6E45-40CD-A362-5693202E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CDBE-FBF6-4181-BE80-59075C28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2539-A5F1-496E-9B13-735ED448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773D-B712-4DC8-8FC5-0E7B3267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AD3-5CD2-4A0A-AB5A-E0447ACA8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06FE-0B5B-493F-A614-5E5472FD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959E-E6D0-44E2-88E3-AB522167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57BB-1955-4748-871B-55BD41F0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EEA-D77C-4C1A-A2A2-625DAE4C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1BF-1690-4D83-8F88-06EBBFCD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4657-2100-4BC6-9787-0C715D7A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FBB1-E2AD-4816-8C3C-A61488EB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AB4-749A-4189-A3BF-8BF25822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5F4-7B49-412A-81D6-AB050087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C64-6DC9-4953-8C45-2D33B24B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A6E3-5BC6-4BB1-B6B0-E981D178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0  PENNSYLVANIA  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04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OF  10,000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5420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CAN  BE  ONLY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0  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PERFECT 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7:18:04Z</dcterms:created>
  <dc:creator>Jennifer Budzinski</dc:creator>
  <dc:description/>
  <dc:language>en-US</dc:language>
  <cp:lastModifiedBy>Erich Friedman</cp:lastModifiedBy>
  <dcterms:modified xsi:type="dcterms:W3CDTF">2020-08-24T23:41:36Z</dcterms:modified>
  <cp:revision>392</cp:revision>
  <dc:subject/>
  <dc:title>Slide 1</dc:title>
</cp:coreProperties>
</file>