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5257-72EB-4093-82FA-1BC785166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4618-ECF7-472D-B3CD-EE285873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7F5E-8FDB-48A5-899E-F56082B74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701C-5466-4BD9-AC0F-C01A7FEA9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3463-C263-48FD-AAEB-0EDD1AE32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21D3-6D78-406E-BC12-4781989D4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EBC0-AE9A-4A3D-99CB-5B9FD8EC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2CB-9376-4A6A-9D39-A835939D7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D599-8569-48AE-B487-5A36E14A9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D8AE-41A9-404F-930E-52E76721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BE2-5AA2-44BE-9B5F-B673B414C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CCF5-42CF-4536-9EF7-948ECD1E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4488-106A-4015-A3F6-DB93CB0D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F7A5-C757-4666-9714-25B3E896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8E6-84AF-470C-AA48-B1C956CEC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0E52-B414-4D10-A807-8B848B62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CD0E-0100-400A-A38B-3049B157C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FD02-1EA6-4C9F-97A2-F7516AB17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27B6-1285-4859-B570-A68C51B8E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92DC-427E-4EEE-BA05-841C8500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1E19-8951-4317-98C8-AA19B606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7A25-7B7C-494A-98BE-8A15F142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F383-DFDC-4B46-B651-C0D749339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ERICAL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PRESIDENTS HAVE DIED OR RESIGNED WHILE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23880" y="762120"/>
            <a:ext cx="6096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RINGS DOES A VIOLI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00  PENNSYLVANIA  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DDRESS OF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044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  OF  10,000  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ERICAL NICKNAME FOR THE STATE OF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JESSE OWENS WIN 4 OLYMPIC GOLD MEDALS, MUCH TO HITLER'S DIS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5420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CKS ARE IN THE NIKKEI INDEX ON THE JAPANESE STOCK EX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  CAN  BE  ONLY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IGHLANDER" FILM FRANCHISE, WHAT IS THE MOTTO OF THE IMMORT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SIAN GAME OF MAH JONG IS USUALLY PLAYED WITH HOW MANY T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RINGS DOES A VIOLIN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09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0  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R (IN METERS) IS IT AROUND A STANDARD RUNNING 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PRESIDENTS HAVE DIED OR RESIGNED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76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PERFECT  SQU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DDRESS OF THE WHITE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ERICAL NICKNAME FOR THE STATE OF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JESSE OWENS WIN 4 OLYMPIC GOLD MEDALS, MUCH TO HITLER'S DISM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CKS ARE IN THE NIKKEI INDEX ON THE JAPANESE STOCK EXCH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IGHLANDER" FILM FRANCHISE, WHAT IS THE MOTTO OF THE IMMORT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SIAN GAME OF MAH JONG IS USUALLY PLAYED WITH HOW MANY T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R (IN METERS) IS IT AROUND A STANDARD RUNNING 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7:18:04Z</dcterms:created>
  <dc:creator>Jennifer Budzinski</dc:creator>
  <dc:description/>
  <dc:language>en-US</dc:language>
  <cp:lastModifiedBy>Erich Friedman</cp:lastModifiedBy>
  <dcterms:modified xsi:type="dcterms:W3CDTF">2020-08-24T23:41:36Z</dcterms:modified>
  <cp:revision>392</cp:revision>
  <dc:subject/>
  <dc:title>Slide 1</dc:title>
</cp:coreProperties>
</file>