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D534-0623-477C-8719-D4F6CDC35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524-D582-42E4-9F88-EF288BDBD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8B9F-61D8-45A0-92EF-399A09DC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101A-34CF-44B7-93A2-41DA04FE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EA21-7407-4B57-8535-104DAD9A7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DB45-1783-4E75-8DC6-88585D47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93DF-89FA-45A6-82AA-57063EE2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C66A-8D6A-43FD-91A2-440B20543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8641-F1BE-4111-BC83-2F6D95BA2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172-36B6-4904-8780-07C8DDE4B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FCE8-FAB6-41BB-8296-4FFB434DA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475A-41E2-4B1F-9096-FB5A72475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9CF0-CF6C-4089-871C-B4675BCB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0D72-4C40-4735-BBC9-20C4846E0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2A1-50DA-4216-BAD4-233AA2E44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AC21-10C9-43CB-965B-D53D35E34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54F5-EF4C-4DE2-BC8E-0E204944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B8F2-810A-41C4-9FD4-AC644C001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F5B3-0659-46B3-9866-E0B7FEA7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258-E9BC-408F-BDC5-3D8ADEBB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36AE-163F-4598-8920-9648A1249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7D0-D7AB-4B8B-82E0-343F0CC89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97C5-EEB3-448E-9743-E23DE922C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ERICAL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00  PENNSYLVANIA  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044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ND  OF  10,000  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5420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  CAN  BE  ONLY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RINGS DOES A VIOLIN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0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0  M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PRESIDENTS HAVE DIED OR RESIGNED WHILE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769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PERFECT  SQU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DDRESS OF THE WHITE H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ERICAL NICKNAME FOR THE STATE OF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JESSE OWENS WIN 4 OLYMPIC GOLD MEDALS, MUCH TO HITLER'S DISM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CKS ARE IN THE NIKKEI INDEX ON THE JAPANESE STOCK EXCH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"HIGHLANDER" FILM FRANCHISE, WHAT IS THE MOTTO OF THE IMMORT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SIAN GAME OF MAH JONG IS USUALLY PLAYED WITH HOW MANY T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FAR (IN METERS) IS IT AROUND A STANDARD RUNNING TR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7:18:04Z</dcterms:created>
  <dc:creator>Jennifer Budzinski</dc:creator>
  <dc:description/>
  <dc:language>en-US</dc:language>
  <cp:lastModifiedBy>Erich Friedman</cp:lastModifiedBy>
  <dcterms:modified xsi:type="dcterms:W3CDTF">2020-08-24T23:41:36Z</dcterms:modified>
  <cp:revision>392</cp:revision>
  <dc:subject/>
  <dc:title>Slide 1</dc:title>
</cp:coreProperties>
</file>