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7231-FCBF-45B1-A602-A59C4EF20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773C-CF74-4299-876D-B2DD6A5DF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1B79-E81B-4A6B-8DB3-B500CBB48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597D-B8B2-4F2F-8850-6C76D263B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384C-0EC5-4659-AAD1-BF52091B6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C20A-7C66-48D3-9359-EC9CADC60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1A8-13CB-4E5C-8D4E-C4E1AE981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4468-ACE4-4999-931C-07AAAB02C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F9B4-1CF7-480D-8C22-5B13D3DD8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E9DC-2AE1-4872-9343-0CE303B36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862B-1D64-42A8-A087-3E0E5C0C3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C2A0-F622-4CA0-A0FA-E5A0A3B52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9C58-2519-4C33-A34E-5CF68B7CE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1086-6EE3-46A7-90B5-C9AA9716E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3B29-2CEB-4E4C-840E-FE16A562F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6300-1240-40F1-9970-71E0EAF62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4D77-19C7-4DC8-991A-3D7E4F910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ACF4-8DDA-4534-B0E3-644453CA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8644-DF11-45D4-9056-1A7715697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56AA-D87A-40B6-9C27-9B3A52742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EFEF-84FD-4AC8-BA09-E9CC2A01A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CCA6-F707-4037-B83F-63311D50D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9007-C54C-4A8E-A20E-3405697EC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04840" y="761760"/>
            <a:ext cx="87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-1992 SITCOM STARRED JUDD HIRSH AS A MAN WHOSE WIFE LEFT HIM AFTER 10 YEARS OF MARRIAGE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RICH SEGAL NOVEL WAS THE BEST-SELLING BOOK OF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AN  (MEDIAN,  M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60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ATISTICS, OF THE 3 MEASURES OF CENTRAL TENDENCY STARTING WITH "M", WHICH ONE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EAR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5680" y="762120"/>
            <a:ext cx="897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FEDERAL HOLIDAY OCCURS EXACTLY ONE WEEK AFTER ANOTHER FEDERAL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LETTERS ARE THERE IN THE HEBREW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9960" y="768240"/>
            <a:ext cx="8344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"JUST TO SEE YOU SMILE", "IT'S YOUR LOVE", AND "LIVE LIKE YOU WERE DY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47800" y="762120"/>
            <a:ext cx="744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"KAL-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CHA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24000" y="762120"/>
            <a:ext cx="849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LIVE ACTION / ANIMATED FAIRY TALE FILM STARRED AMY ADAMS, PATRICK DEMPSEY, JAMES MARSDEN, AND SUSAN SARA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RICH SEGAL NOVEL WAS THE BEST-SELLING BOOK OF 19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UEL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0680" y="762120"/>
            <a:ext cx="8162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DEO FOR WHAT 1983 BANANARAMA TOP-10 HIT WAS APPROPRIATELY FILMED DURING A HEAT W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-1992 SITCOM STARRED JUDD HIRSH AS A MAN WHOSE WIFE LEFT HIM AFTER 10 YEARS OF MARRI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TAYLOR  SWIFT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ATISTICS, OF THE 3 MEASURES OF CENTRAL TENDENCY STARTING WITH "M", WHICH ONE COMES FIR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3840" y="762120"/>
            <a:ext cx="889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FEDERAL HOLIDAY OCCURS EXACTLY ONE WEEK AFTER ANOTHER FEDERAL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LETTERS ARE THERE IN THE HEBREW ALPHAB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"JUST TO SEE YOU SMILE", "IT'S YOUR LOVE", AND "LIVE LIKE YOU WERE DY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"KAL-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47680" y="761760"/>
            <a:ext cx="8648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LIVE ACTION / ANIMATED FAIRY TALE FILM STARRED AMY ADAMS, PATRICK DEMPSEY, JAMES MARSDEN, AND SUSAN SARA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DEO FOR WHAT 1983 BANANARAMA TOP-10 HIT WAS APPROPRIATELY FILMED DURING A HEAT W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6T21:34:43Z</dcterms:modified>
  <cp:revision>409</cp:revision>
  <dc:subject/>
  <dc:title>Slide 1</dc:title>
</cp:coreProperties>
</file>