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01EA-4314-43D1-A016-B75AC93BA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0045-A3A2-4794-A01F-5F8873361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4A50-4E00-4A25-87D6-FDA48A0B2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1BCB-E9C8-43F6-B15D-25EE08905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4AAB-8B2C-49A0-A417-F2136383D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E8F6-7D8D-4793-9F9D-9D0AE46A2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B9DE-C220-4D86-A1FB-78731B813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1D34-69AD-483E-817D-1715573F6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0557-D2E1-4ED5-BB35-5E4B878F3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E514-BC7F-4ECB-A1AD-E955E3340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82F2-B049-4DA1-8538-47282C56B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39A6-D363-4C05-9AFE-4A49517CF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E20B-9F31-40DF-894A-CEFD0F1F5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475B-2D36-4249-85B7-6859887A9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8CBF-676A-48C4-A091-45884CD25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1AA1-7E04-4A93-9AC6-DDFAF2C16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99DD-7E34-4D4F-B05A-E6E6A5231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56B2-E37D-4D46-BF0E-EEED36803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5169-DAA1-49CC-8549-A9E8A81AF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35BE-C7A5-48E4-8488-32DE23604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957C-B0BF-4843-86EE-95D3694DD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D98A-B437-455A-8E8B-E9F64CD9C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27BD-6F1E-4389-B353-3ADCD7E66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04840" y="761760"/>
            <a:ext cx="87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-1992 SITCOM STARRED JUDD HIRSH AS A MAN WHOSE WIFE LEFT HIM AFTER 10 YEARS OF MARRIAGE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019240" y="487692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 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81200" y="762120"/>
            <a:ext cx="7581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RICH SEGAL NOVEL WAS THE BEST-SELLING BOOK OF 197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AN  (MEDIAN,  M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57160" y="762120"/>
            <a:ext cx="7601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TATISTICS, OF THE 3 MEASURES OF CENTRAL TENDENCY STARTING WITH "M", WHICH ONE COMES FIRST ALPHABETIC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YEAR'S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5680" y="762120"/>
            <a:ext cx="8972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FEDERAL HOLIDAY OCCURS EXACTLY ONE WEEK AFTER ANOTHER FEDERAL HOLI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0060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LETTERS ARE THERE IN THE HEBREW ALPHAB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MCG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99960" y="768240"/>
            <a:ext cx="8344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TIST SANG "JUST TO SEE YOU SMILE", "IT'S YOUR LOVE", AND "LIVE LIKE YOU WERE DY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47800" y="762120"/>
            <a:ext cx="7448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"KAL-E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CHAN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24000" y="762120"/>
            <a:ext cx="8496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 LIVE ACTION / ANIMATED FAIRY TALE FILM STARRED AMY ADAMS, PATRICK DEMPSEY, JAMES MARSDEN, AND SUSAN SARAND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12800" y="762120"/>
            <a:ext cx="7718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RICH SEGAL NOVEL WAS THE BEST-SELLING BOOK OF 197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UEL  SU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90680" y="762120"/>
            <a:ext cx="8162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IDEO FOR WHAT 1983 BANANARAMA TOP-10 HIT WAS APPROPRIATELY FILMED DURING A HEAT W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R  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09520" y="762120"/>
            <a:ext cx="8724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-1992 SITCOM STARRED JUDD HIRSH AS A MAN WHOSE WIFE LEFT HIM AFTER 10 YEARS OF MARRI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440" y="4876920"/>
            <a:ext cx="8763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TAYLOR  SWIFT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42880" y="761760"/>
            <a:ext cx="8058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TATISTICS, OF THE 3 MEASURES OF CENTRAL TENDENCY STARTING WITH "M", WHICH ONE COMES FIRST ALPHABETICA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23840" y="762120"/>
            <a:ext cx="8896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FEDERAL HOLIDAY OCCURS EXACTLY ONE WEEK AFTER ANOTHER FEDERAL HOLI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LETTERS ARE THERE IN THE HEBREW ALPHAB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TIST SANG "JUST TO SEE YOU SMILE", "IT'S YOUR LOVE", AND "LIVE LIKE YOU WERE DY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09640" y="761760"/>
            <a:ext cx="7524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"KAL-E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47680" y="761760"/>
            <a:ext cx="8648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 LIVE ACTION / ANIMATED FAIRY TALE FILM STARRED AMY ADAMS, PATRICK DEMPSEY, JAMES MARSDEN, AND SUSAN SARAND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IDEO FOR WHAT 1983 BANANARAMA TOP-10 HIT WAS APPROPRIATELY FILMED DURING A HEAT W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3-06T21:34:43Z</dcterms:modified>
  <cp:revision>409</cp:revision>
  <dc:subject/>
  <dc:title>Slide 1</dc:title>
</cp:coreProperties>
</file>