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6FCD-621B-447C-9956-F8B10F1B6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0A44-6130-4AFE-A5B7-E914B0EDA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5C0C-5F68-4A4B-A735-CC98EDFB6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FCC2-42A3-4F4E-8CF1-946B63110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4A02-6333-4E93-AAEA-75CDF860C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79C9-9EA2-438F-A7CC-7A969568A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CB3A-C8CF-442D-9C63-7504A42B5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20E2-AEA2-4EB6-B191-A5ECF9079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FB75-99D7-4BB3-A4B5-A80A99EF8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2AA5-2D91-4DA2-B817-603E61EB2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4CF5-5998-4256-A778-57AD0CDE0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98F6-E8DB-4C60-9139-9AF7133FE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6AE0-BEE6-4336-9465-219F5232F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A939-343B-4071-B50B-60E52C652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0C84-6B1F-497D-A655-21A28E17F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A5E0-1756-45E3-9472-0F1984B01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0E4A-5B19-41A3-84B1-E713798DA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CFBC-FC88-4DD7-94B4-52EDF2869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EAF3-1E4D-4E29-B824-2E0F493C4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BBAE-8BF7-47CB-84D3-EA8677C2C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D408-8E3E-4D50-9F2F-59C9BED33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842F-E1CF-4328-9B78-188207B87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2123-4FC6-45C4-97B3-FABCEA0AB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95360" y="133344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ACTOR CARICATURES (BY MAGIXL)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557440" y="1414440"/>
            <a:ext cx="4029120" cy="40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23960" y="6858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  SM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SELL  CROW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790720" y="1352520"/>
            <a:ext cx="3562560" cy="356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REMY  I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2714760" y="1314360"/>
            <a:ext cx="3714480" cy="371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WAY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805120" y="129528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H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2840040" y="1371600"/>
            <a:ext cx="3463920" cy="34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T  DA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786040" y="1371600"/>
            <a:ext cx="357192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MY  LEE  J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2781360" y="137160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LANDO  BL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2790720" y="1371600"/>
            <a:ext cx="3562560" cy="35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2763720" y="1359000"/>
            <a:ext cx="3616560" cy="36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–LETTER  LAST  N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2502000" y="1359000"/>
            <a:ext cx="414000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533680" y="1390680"/>
            <a:ext cx="407664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492280" y="1343160"/>
            <a:ext cx="4159440" cy="41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557440" y="1341360"/>
            <a:ext cx="4029120" cy="40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544840" y="1401840"/>
            <a:ext cx="4054320" cy="40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790720" y="1371600"/>
            <a:ext cx="3562560" cy="3562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3-04T07:59:04Z</dcterms:modified>
  <cp:revision>290</cp:revision>
  <dc:subject/>
  <dc:title>Slide 1</dc:title>
</cp:coreProperties>
</file>