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56E0-7FAA-4DC2-93FE-24C49C38A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5BF1-6B63-4163-9635-D519B5EE6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163F-3F3B-49AD-8FED-911DF482C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2F11-4FAA-457D-B1AD-B6E00B51C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55AE-6019-4A7B-9860-F4BF822A7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DD23-1D23-4B15-A202-65B725420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71AF-8E68-4465-88A7-7BB2E25C8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8254-B3D7-4726-9677-8568CC996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C2B6-2A1A-463A-9391-B6B86B121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9871-7228-4E9A-8E43-7753C302C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DD66-C20E-4D80-878F-AA085F750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2439-CDF5-4C68-A8BC-AE4FE0616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572E-0F0F-46B9-9985-889F1322B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0B42-3D0A-41B2-84E5-A583FA5B2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400C-F64D-48F6-863F-ED9ED4564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8840-A9C2-4A51-B56E-3F41C59C1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0179-31D1-4FBB-98D5-6A2EB9323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FEB1-7472-4447-BACC-4DBDB2F27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04BD-C0AF-4D4B-A4DE-D728FB9F6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2D49-EF0B-488B-99D6-42E9E09C0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E649-FFB4-4F34-A817-EFBDDB8C0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F792-0186-4102-ACAC-59456FAE5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5E71-A1D4-4072-96BE-FA0365CE7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95360" y="133344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CTOR CARICATURES (BY MAGIXL)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557440" y="1414440"/>
            <a:ext cx="402912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23960" y="685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ELL  CRO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790720" y="1352520"/>
            <a:ext cx="3562560" cy="35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EMY  I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714760" y="1314360"/>
            <a:ext cx="371448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2805120" y="129528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840040" y="1371600"/>
            <a:ext cx="3463920" cy="34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  DA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786040" y="137160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MY  LEE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2781360" y="13716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ANDO  BL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790720" y="1371600"/>
            <a:ext cx="3562560" cy="35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763720" y="1359000"/>
            <a:ext cx="3616560" cy="36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–LETTER  LAST 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502000" y="1359000"/>
            <a:ext cx="414000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33680" y="1390680"/>
            <a:ext cx="407664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492280" y="1343160"/>
            <a:ext cx="4159440" cy="41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57440" y="1341360"/>
            <a:ext cx="402912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544840" y="1401840"/>
            <a:ext cx="40543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790720" y="1371600"/>
            <a:ext cx="3562560" cy="3562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3-04T07:59:04Z</dcterms:modified>
  <cp:revision>290</cp:revision>
  <dc:subject/>
  <dc:title>Slide 1</dc:title>
</cp:coreProperties>
</file>