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B79B2-59D3-47D3-B70F-C9CFD8C8D7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98668-77AE-4F70-9517-91CE970D83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EE895-136F-410F-B110-46591CE44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C9857-B66E-4898-8B20-E8127FC38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037F5-BEFA-4254-B281-C9739C830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DA76D-2D8A-4176-A92F-76F2E3428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35A2D-0994-45F3-B348-F47122A319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CADF7-2F0B-41FC-9556-4D5D3BCA5D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FEB64-0903-4B87-AA78-57C3DEE771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D8796-6940-42B0-A877-055E3A8E2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C3372-99CB-4CDD-8918-507CA4D8B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44D72-A6BE-4B0C-A49A-01A3CC480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3E895-D100-4AAB-BF2E-F05A965D3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9D8E5-66FF-49AF-80CE-563B88DBB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44EF5-DA06-4576-AD12-7A5335CDB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F0F59-A481-483B-B361-F282311200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EC3DD-007F-4FA2-8F06-FE75D1FDD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EAAA5-1A72-4AB7-BAF5-3A85412DD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3D3C8-B578-4285-B04C-B225AA132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D1E5F-2F76-4E73-A8D7-1F6C993C81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981AD-E406-4EDE-8EC6-3C5EC6995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E9BC6-8969-48BF-B59D-C24746FDB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5D0FD-B950-41FA-80A6-5B8E3592C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838080" y="1523880"/>
            <a:ext cx="74678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NG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90560" y="761760"/>
            <a:ext cx="7562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BY LOOKING GLASS HAS SUBTITLE "YOU'RE A FINE GIRL"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SONG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2019240" y="4876920"/>
            <a:ext cx="51055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ILL  THE  W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514440" y="762120"/>
            <a:ext cx="8115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BAND WAR'S FIRST HIT SONG, CONTAINING A PREVALENT FLUTE SOL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IN  AND  JU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361800" y="762120"/>
            <a:ext cx="8420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WRITTEN BY SNOOP DOG HAS REFRAIN "WITH MY MIND ON MY MONEY AND MY MONEY ON MY MI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QUI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324000" y="762120"/>
            <a:ext cx="8496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#1 SONG BY THE CHAMPS WAS IRONICALLY THE B-SIDE TO THEIR SINGLE "TRAIN TO NOWHERE", WHICH DID NOT EVEN REACH THE CHAR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238400" y="4419720"/>
            <a:ext cx="6667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NE  BOURBON,  ONE  SCOTCH,  ONE  BE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276120" y="762120"/>
            <a:ext cx="8591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DID GEORGE THOROGOOD COVER ON HIS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LBUM, WHOSE TITLE  ANSWERS THE QUESTION "WHAT DO YOU WANT JOHNN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GARITAVIL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438120" y="762120"/>
            <a:ext cx="8267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JIMMY BUFFETT'S SIGNATURE SONG, WHICH HE USED TO NAME HIS CHAIN OF RESTAURAN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D  RED  W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000080" y="762120"/>
            <a:ext cx="71438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WRITTEN BY NEIL DIAMOND WAS MADE INTO A #1 HIT BY UB4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ISKEY  B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047600" y="762120"/>
            <a:ext cx="7048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SUBTITLE OF THE DOORS SONG "ALABAMA SO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84200" y="762120"/>
            <a:ext cx="8175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BAND WAR'S FIRST HIT SONG, CONTAINING A PREVALENT FLUTE SOL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PIÑA  COLADA  SO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162080" y="762120"/>
            <a:ext cx="6819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UBTITLE OF THE RUPERT HOLMES SONG "THE ESCAP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AN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571680" y="762120"/>
            <a:ext cx="8001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BY LOOKING GLASS HAS SUBTITLE "YOU'RE A FINE GIRL"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143000" y="434340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IR  TITLES  CONTAIN  ALCOHOLIC  BEVER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SONG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67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WRITTEN BY SNOOP DOG HAS REFRAIN "WITH MY MIND ON MY MONEY AND MY MONEY ON MY MIN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324000" y="762120"/>
            <a:ext cx="84960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#1 SONG BY THE CHAMPS WAS IRONICALLY THE B-SIDE TO THEIR SINGLE "TRAIN TO NOWHERE", WHICH DID NOT EVEN REACH THE CHAR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33280" y="762120"/>
            <a:ext cx="8677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DID GEORGE THOROGOOD COVER ON HIS 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LBUM, WHOSE TITLE  ANSWERS THE QUESTION "WHAT DO YOU WANT JOHNN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JIMMY BUFFETT'S SIGNATURE SONG, WHICH HE USED TO NAME HIS CHAIN OF RESTAURAN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957240" y="761760"/>
            <a:ext cx="7229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WRITTEN BY NEIL DIAMOND WAS MADE INTO A #1 HIT BY UB4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009800" y="761760"/>
            <a:ext cx="7124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SUBTITLE OF THE DOORS SONG "ALABAMA SO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UBTITLE OF THE RUPERT HOLMES SONG "THE ESCAP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1T18:24:11Z</dcterms:created>
  <dc:creator>Jennifer Budzinski</dc:creator>
  <dc:description/>
  <dc:language>en-US</dc:language>
  <cp:lastModifiedBy>Erich Friedman</cp:lastModifiedBy>
  <dcterms:modified xsi:type="dcterms:W3CDTF">2022-03-04T08:01:37Z</dcterms:modified>
  <cp:revision>405</cp:revision>
  <dc:subject/>
  <dc:title>Slide 1</dc:title>
</cp:coreProperties>
</file>