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C9D3-9BBC-4B59-BB9A-D552DA479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DF8E-9DB8-430A-884A-45838926E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570E-51D1-46CF-B428-DA2EF01AF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AFB6-502F-4435-8D96-74012DEF0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97CB-636D-44E5-BF40-9A6A5E9FC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2AF7-4C7B-4D2A-88DF-D5BB57477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A9FF-3426-45DA-A156-3C1188A2E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AE34-F962-4D53-BB58-197A969FD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A7C5-17AC-414D-A007-10BE9C908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C84B-8F75-4342-ADCB-8837D7741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4C1F-5366-4DE2-83A5-E90EEEA1F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86EF-450B-419F-A220-BD5EC0C91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2B4B-A409-45FD-AA82-322CFCD15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4C05A-FC84-4586-9CB4-D11AF8B7A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ADED-4316-42E6-89A1-34AEF4361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127-B7F5-4171-878E-C0A64598B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6B3F-35AE-4C59-BCDF-659418981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10CA-66A9-405E-B5A4-58C64C111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C2B-2BDF-422E-BA1A-09760B8BC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1B2-53F5-424E-BD50-730FF4757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45A-571E-4A37-BE3F-956EECB93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1F97-9746-4B17-9539-F1EAE61F4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229A-6B54-4291-BD87-55F6EF22F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LOOKING GLASS HAS SUBTITLE "YOU'RE A FINE GIRL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LL  THE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AND WAR'S FIRST HIT SONG, CONTAINING A PREVALENT FLUTE SO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  AND 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SNOOP DOG HAS REFRAIN "WITH MY MIND ON MY MONEY AND MY MONEY ON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QU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24000" y="762120"/>
            <a:ext cx="849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CHAMPS WAS IRONICALLY THE B-SIDE TO THEIR SINGLE "TRAIN TO NOWHERE", WHICH DID NOT EVEN REACH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38400" y="44197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BOURBON,  ONE  SCOTCH,  ONE  B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76120" y="762120"/>
            <a:ext cx="859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GEORGE THOROGOOD COVER ON HI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OSE TITLE  ANSWERS THE QUESTION "WHAT DO YOU WANT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ITA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IMMY BUFFETT'S SIGNATURE SONG, WHICH HE USED TO NAME HIS CHAIN OF RESTAURA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RED  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00080" y="762120"/>
            <a:ext cx="7143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NEIL DIAMOND WAS MADE INTO A #1 HIT BY UB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SKEY 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DOORS SONG "ALABAMA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AND WAR'S FIRST HIT SONG, CONTAINING A PREVALENT FLUTE SO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ÑA  COLADA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62080" y="762120"/>
            <a:ext cx="681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RUPERT HOLMES SONG "THE ESC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LOOKING GLASS HAS SUBTITLE "YOU'RE A FINE GIRL"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43000" y="43434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CONTAIN  ALCOHOLIC  BEVER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SNOOP DOG HAS REFRAIN "WITH MY MIND ON MY MONEY AND MY MONEY ON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4000" y="762120"/>
            <a:ext cx="8496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CHAMPS WAS IRONICALLY THE B-SIDE TO THEIR SINGLE "TRAIN TO NOWHERE", WHICH DID NOT EVEN REACH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GEORGE THOROGOOD COVER ON HIS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, WHOSE TITLE  ANSWERS THE QUESTION "WHAT DO YOU WANT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IMMY BUFFETT'S SIGNATURE SONG, WHICH HE USED TO NAME HIS CHAIN OF RESTAURA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7240" y="761760"/>
            <a:ext cx="722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NEIL DIAMOND WAS MADE INTO A #1 HIT BY UB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BTITLE OF THE DOORS SONG "ALABAMA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THE RUPERT HOLMES SONG "THE ESC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3-04T08:01:37Z</dcterms:modified>
  <cp:revision>405</cp:revision>
  <dc:subject/>
  <dc:title>Slide 1</dc:title>
</cp:coreProperties>
</file>