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4D6E-7431-46DF-8EDF-D7C8419DB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E2DA-9644-4865-9003-BC5730C79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05B0-8AF0-4647-808B-14CBF207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F074-2336-418B-B54F-FB7E64518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7011-84FA-43FC-AEA9-5F03B6170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807A-69EC-40D7-A228-9EC80F198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63D1-73CA-48B8-AAAA-24F8D2E86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E96C-DACC-4B46-91F4-3244BBD5A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9F43-5B80-4763-8735-ECCD9A86C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BBAC-76CC-4A67-B62E-129D98F42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7E7D-0C8F-4E18-9D29-54225F599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A726-F71B-40B7-B07B-F5647C595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23B0-8151-4595-B168-062C63A7E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23B-28C1-4B55-A103-9DC104F0C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A602-AFC1-4FF1-B2DE-6EFB29427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3807-3940-4523-8E91-5F8FCEB79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CC9B-8459-4968-810C-5DFC2CE0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3899-8E36-4C28-8AD0-88737EA02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AB11-CA56-44D1-B220-22D61DB0B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D7F8-0FF7-456F-BDF7-A0F420DC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AA8B-2737-447A-8EA9-C6BAED95F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F89C-1E9D-4859-B203-3CA7490BA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5935-5241-43B5-9853-0F71EE902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 OF THE WINNER OF THE OSCAR FOR BEST ACTOR IN 1982 (FOR "GANDHI"), WHO WAS NOMINATED AGAIN IN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2840" y="762120"/>
            <a:ext cx="851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ROBIN EG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6040" y="762120"/>
            <a:ext cx="8791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QUARK (UP, DOWN, TOP, BOTTOM, CHARM, OR STRANGE) IS THE MOST MASSIVE ELEMENTARY PARTI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52360" y="762120"/>
            <a:ext cx="8639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.S. STEEL WAS THE FIRST COMPANY WORTH $1 BILLION.  WHAT WAS THE FIRST COMPANY TO BE WORTH $2 BILLION (AND THEN $3 BILLIO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95160" y="762120"/>
            <a:ext cx="775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DRINK, A GOAL ATTEMPT, OR A TYPE OF AMMUN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AME OF BOTH THE HIGHEST-CHARTING SONG OF THE ALAN PARSONS PROJECT (APP), AND A PINK FLOYD SONG THAT USED AN INTRO RECORDED BY AP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47600" y="762120"/>
            <a:ext cx="70488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HOW LONG IS A MALE SIZE-14 SH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42880" y="762120"/>
            <a:ext cx="805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US OF WESTERN SONGBIRD ARE KNOWN FOR THEIR BOBBING MOVEMENTS AND THE ABILITY TO DIVE AND SWIM UNDER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ROBIN EG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O SHAKERS USE TO REFER TO MALE BELIEV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(KINGSL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 OF THE WINNER OF THE OSCAR FOR BEST ACTOR IN 1982 (FOR "GANDHI"), WHO WAS NOMINATED AGAIN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66720" y="4876920"/>
            <a:ext cx="781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I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QUARK (UP, DOWN, TOP, BOTTOM, CHARM, OR STRANGE) IS THE MOST MASSIVE ELEMENTARY PARTI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49120" y="762120"/>
            <a:ext cx="8645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.S. STEEL WAS THE FIRST COMPANY WORTH $1 BILLION.  WHAT WAS THE FIRST COMPANY TO BE WORTH $2 BILLION (AND THEN $3 BILLIO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DRINK, A GOAL ATTEMPT, OR A TYPE OF AMMUNI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5280" y="762120"/>
            <a:ext cx="889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AME OF BOTH THE HIGHEST-CHARTING SONG OF THE ALAN PARSONS PROJECT (APP), AND A PINK FLOYD SONG THAT USED AN INTRO RECORDED BY AP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HOW LONG IS A MALE SIZE-14 SH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US OF WESTERN SONGBIRD ARE KNOWN FOR THEIR BOBBING MOVEMENTS AND THE ABILITY TO DIVE AND SWIM UNDER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O SHAKERS USE TO REFER TO MALE BELIEV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3-04T08:16:25Z</dcterms:modified>
  <cp:revision>434</cp:revision>
  <dc:subject/>
  <dc:title>Slide 1</dc:title>
</cp:coreProperties>
</file>