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4F1-FBD8-4842-B553-A6DDD5B1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CA8-0C25-4F0C-BEB9-D6372DB16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E9C3-9E20-443D-84BF-EE67A744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9CF-0930-4940-BE2B-D8396524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8AE-5555-4A42-AFAE-D826F9DC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2B6A-07BD-49E5-8409-5E50AD9B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885-4B11-4C40-8E94-F60DE0679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571E-73B7-44DC-A831-08D572A0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B2C2-FD3E-4EF2-B647-CC9358583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BEEB-E7D9-40D1-B0B5-AFC243326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015-55CC-49D1-B5D5-E5364CE3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3ED-9CC0-4894-AF76-F951F273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92AA-9183-46B5-83B5-15C72F09E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CBD7-4474-4B3C-8469-D5064E64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A6D0-D135-4C53-B5D9-B03E54C55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A6C1-FC06-4743-B78E-7C79CA21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0A52-A401-4421-83A3-904B25B7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88A9-198B-43F5-A68D-D6E49780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D335-A7D6-406B-AE78-350C3BBA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451-3FB5-4CD4-AF15-749F4ED9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917B-0FBF-4997-AB03-2F7AADC96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23E-0C4A-4749-926B-70EA6C5B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7E1-C98E-4E88-878A-07D466A7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WINNER OF THE OSCAR FOR BEST ACTOR IN 1982 (FOR "GANDHI"), WHO WAS NOMINATED AGAIN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840" y="762120"/>
            <a:ext cx="851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ROBIN EG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6040" y="762120"/>
            <a:ext cx="879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QUARK (UP, DOWN, TOP, BOTTOM, CHARM, OR STRANGE) IS THE MOST MASSIVE ELEMENTARY PART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52360" y="762120"/>
            <a:ext cx="8639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STEEL WAS THE FIRST COMPANY WORTH $1 BILLION.  WHAT WAS THE FIRST COMPANY TO BE WORTH $2 BILLION (AND THEN $3 BILLI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5160" y="762120"/>
            <a:ext cx="775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DRINK, A GOAL ATTEMPT, OR A TYPE OF AMMUN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BOTH THE HIGHEST-CHARTING SONG OF THE ALAN PARSONS PROJECT (APP), AND A PINK FLOYD SONG THAT USED AN INTRO RECORDED BY AP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7600" y="762120"/>
            <a:ext cx="70488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HOW LONG IS A MALE SIZE-14 SH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2880" y="762120"/>
            <a:ext cx="80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WESTERN SONGBIRD ARE KNOWN FOR THEIR BOBBING MOVEMENTS AND THE ABILITY TO DIVE AND SWIM UNDER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ROBIN EG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O SHAKERS USE TO REFER TO MALE BELIE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(KINGS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WINNER OF THE OSCAR FOR BEST ACTOR IN 1982 (FOR "GANDHI"), WHO WAS NOMINATED AGAIN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66720" y="4876920"/>
            <a:ext cx="781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I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QUARK (UP, DOWN, TOP, BOTTOM, CHARM, OR STRANGE) IS THE MOST MASSIVE ELEMENTARY PART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49120" y="762120"/>
            <a:ext cx="8645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STEEL WAS THE FIRST COMPANY WORTH $1 BILLION.  WHAT WAS THE FIRST COMPANY TO BE WORTH $2 BILLION (AND THEN $3 BILLI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DRINK, A GOAL ATTEMPT, OR A TYPE OF AMMUN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280" y="762120"/>
            <a:ext cx="889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BOTH THE HIGHEST-CHARTING SONG OF THE ALAN PARSONS PROJECT (APP), AND A PINK FLOYD SONG THAT USED AN INTRO RECORDED BY AP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HOW LONG IS A MALE SIZE-14 SH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WESTERN SONGBIRD ARE KNOWN FOR THEIR BOBBING MOVEMENTS AND THE ABILITY TO DIVE AND SWIM UNDER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O SHAKERS USE TO REFER TO MALE BELIEV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3-04T08:16:25Z</dcterms:modified>
  <cp:revision>434</cp:revision>
  <dc:subject/>
  <dc:title>Slide 1</dc:title>
</cp:coreProperties>
</file>