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203-A662-4E18-8D85-8B3E2AA65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966-20F3-4636-8F52-0D96CD21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ECAE-5610-40CE-B150-BA1F9F3C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2E05-B080-49C3-93E4-7213A286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D16-53B0-45AE-B2A4-99FD8CFE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8A15-4D4E-486E-B25C-28FB75BA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874-C312-41CD-921B-07275ABE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4064-2B98-460A-8948-54A1942B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E03-5916-490E-9948-30B1DD8D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DAE-7F40-4DA2-BDC1-F45DBE24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E52-C856-411B-801D-11ACDE1E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FBC3-7418-45D1-A07A-8102ACAB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A517-815C-4C9C-B4F6-5F9FBB0D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CBB9-07D9-4628-A10A-48EFEF77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774-FA33-4F74-A421-C42B25D4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8C8-50B9-4F5A-9717-04CCF77F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000-8390-439F-B0D9-D520722E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4845-9313-4292-8CAC-EB623C7D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4C12-8805-4BC1-B938-4C18B16B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2D8-EC2F-48DD-A0A2-1CECAB7D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CAE9-DA4B-46AF-8BA1-4957A9C8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0C1-5D33-4E3B-AF79-87D7A842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89D-021F-4BDC-953A-1E7E4F18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85720" y="761760"/>
            <a:ext cx="797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CONOMICS, WHAT DOES THE "C" IN "AFC" STAND FOR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UPPER LEFT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LOWER RIGHT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MOST TRUSTED POLLSTER FROM THE 30'S TO THE 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INCU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066680"/>
            <a:ext cx="4305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971800" cy="35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OKING, THERE ARE        3 DROPS IN A SMIDGEN,        2 SMIDGENS IN A PINCH, AND 2 PINCHES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990720" y="48006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33520" y="1066680"/>
            <a:ext cx="3848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88944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8400" y="762120"/>
            <a:ext cx="72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UPPER LEFT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RTING SPACE ON A MONOPOLY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VERAGE  FIXED) 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CONOMICS, WHAT DOES THE "C" IN "AFC" STAN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NONYMS  FOR  "RU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LOWER RIGHT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MOST TRUSTED POLLSTER FROM THE 30'S TO THE 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INCU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971800" cy="35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OKING, THERE ARE        3 DROPS IN A SMIDGEN,        2 SMIDGENS IN A PINCH, AND 2 PINCHES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3828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8894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RTING SPACE ON A MONOPOLY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8:35:12Z</dcterms:modified>
  <cp:revision>406</cp:revision>
  <dc:subject/>
  <dc:title>Slide 1</dc:title>
</cp:coreProperties>
</file>