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49FA-526B-4872-AA02-27E73DC2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2A40-A10D-4A2D-B56D-84289571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0A06-2966-4160-B34A-6D598A8F7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62BE-BA3A-428A-898D-6DD59BEE2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BFCB-E7EA-4880-95CA-5D165E6C5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6F1D-33FE-424E-A2CE-85673F34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6CE3-D8F3-4F4A-9041-3DA0F411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EC8E-2949-4C71-800B-5141A91C0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0CE0-A45E-450B-A1C7-FC132B511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E3AD5-8A8F-4893-A810-B7F679A8A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3FD3-B661-41E3-A56D-DFBF23AD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B210-55FF-44DE-8092-0E9028699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77245-9664-41F5-81E1-2EACFB1A1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BB3F-2A6A-409A-94D6-C77E2BC49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B26E-8BCB-4A7D-96AC-ABC5DB426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718F-E95F-441D-904B-07C40F434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F5B6-E3D1-480C-8FD1-DBC76A629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D7EA-B7F1-46F4-9B76-105E0FF2E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BAC3-867E-482B-81D1-ABF196678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08C4-4571-4133-A779-E78D55525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A116-B34B-40DE-BBD4-B18B2FDCF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F8C4-2D41-4ADE-B88F-DAAD1DB53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BE2E-AFD2-49F0-A712-B64AB50D6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85720" y="761760"/>
            <a:ext cx="797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CONOMICS, WHAT DOES THE "C" IN "AFC" STAND FOR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COMPUTER KEYBOARDS, WHAT IS THE UPPER LEFT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COMPUTER KEYBOARDS, WHAT IS THE LOWER RIGHT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L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WAS THE MOST TRUSTED POLLSTER FROM THE 30'S TO THE 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BY INCUB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1066680"/>
            <a:ext cx="4305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COM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971800" cy="353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OKING, THERE ARE        3 DROPS IN A SMIDGEN,        2 SMIDGENS IN A PINCH, AND 2 PINCHES IN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990720" y="4800600"/>
            <a:ext cx="2971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33520" y="1066680"/>
            <a:ext cx="3848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HAS THIS 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88944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8400" y="762120"/>
            <a:ext cx="720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COMPUTER KEYBOARDS, WHAT IS THE UPPER LEFT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14440" y="762120"/>
            <a:ext cx="811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RTING SPACE ON A MONOPOLY 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VERAGE  FIXED)  C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CONOMICS, WHAT DOES THE "C" IN "AFC" STAND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NONYMS  FOR  "RU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COMPUTER KEYBOARDS, WHAT IS THE LOWER RIGHT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6560" y="762120"/>
            <a:ext cx="8210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WAS THE MOST TRUSTED POLLSTER FROM THE 30'S TO THE 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BY INCUB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COM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971800" cy="35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OKING, THERE ARE        3 DROPS IN A SMIDGEN,        2 SMIDGENS IN A PINCH, AND 2 PINCHES IN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3828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HAS THIS BO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952880" y="304920"/>
            <a:ext cx="38894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RTING SPACE ON A MONOPOLY BO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4T08:35:12Z</dcterms:modified>
  <cp:revision>406</cp:revision>
  <dc:subject/>
  <dc:title>Slide 1</dc:title>
</cp:coreProperties>
</file>