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217A-7033-499A-96D6-541DD78F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C8FF-0062-4A6D-B3B3-56EFD499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367-53F4-4029-96F1-27813B627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1416-825C-48D6-B196-739CAA9D0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141-0C9B-4F83-AB49-BB60DC71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29F8-20E0-4C28-B503-5A3C8B6C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3957-4093-4382-BE7A-0A2763BCF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7AA6-011A-46E3-9821-77E5C429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CACB-EE79-4E00-9289-8DC592FA5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EC81-5C22-4ED9-B028-DE3BED5A9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E768-09E0-4D1A-894C-E9AE37408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FA84-0A67-440F-B37D-83617B2F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7437-9D8D-423A-B55A-1FB639D2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0D71-ACAE-41D6-B46D-0F9830512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4A14-6F26-47BB-BA99-AB19B4D7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6D9-9A4B-4464-9B5E-91686C430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95A7-AED0-406F-AF05-BC9FE90C9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DA39-A951-4570-BCFC-78C9BF879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E334-755D-4674-93E9-C38935D9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4608-2B8D-454C-B0C9-28A3E0A1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33A5-6AF4-467F-B0ED-74F0158C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9849-23BD-4B9C-B9AB-9C7699D7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0461-0AC1-42E5-B524-131C65E7F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ALPHABET WORD FOR "P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019240" y="48769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AS THE MOST COMMON WORD IN TITLES OF 1960'S POP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NNESOTA'S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SCI-FI TV SHOW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ON LOGARITHM USES BASE 10.  WHAT LOGARITHM USES BASE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36520" y="49942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19000" y="698400"/>
            <a:ext cx="750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ERM IS THE TITLE OF THESE 3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71520" y="286380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3378240" y="25909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041880" y="286380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114560" y="762120"/>
            <a:ext cx="6914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QUIT HIS JOB TO OPEN A FOOD TRUCK WITH HIS S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EEZY  &amp;  DOP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1028880"/>
            <a:ext cx="4305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OF THE 7 DWARF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4572000" y="101124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7880" y="762120"/>
            <a:ext cx="832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AS THE MOST COMMON WORD IN TITLES OF 1960'S POP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95320" y="838080"/>
            <a:ext cx="73533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TRASH B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ALPHABET WORD FOR "P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MU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NNESOTA'S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SCI-FI TV SHOW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MMON LOGARITHM USES BASE 10.  WHAT LOGARITHM USES BASE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685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ERM IS THE TITLE OF THESE 3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71520" y="2863800"/>
            <a:ext cx="269244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3378240" y="25909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041880" y="286380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4560" y="761760"/>
            <a:ext cx="6914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QUIT HIS JOB TO OPEN A FOOD TRUCK WITH HIS S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30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OF THE 7 DWARF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572000" y="1011240"/>
            <a:ext cx="4191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TRASH B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38:03Z</dcterms:modified>
  <cp:revision>408</cp:revision>
  <dc:subject/>
  <dc:title>Slide 1</dc:title>
</cp:coreProperties>
</file>