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00AB-DD23-4AB7-A1FE-19622C3B0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F04A-4731-441E-B682-C68C6C192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110D-BAC7-4556-BA0A-104F6D42C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E371-22CF-4A01-A6D0-334DA5B6C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2EEA-476F-42AC-9D42-3D6F9BDAE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C816-5C93-4BDA-BDBF-628DB0A81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E04E-F6EA-42E0-839F-C5A4882D8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A5AF-6AA0-4230-B8F9-AC235F08F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412F-2596-45FE-B802-53F111D33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5541-546F-4AFA-A374-F9D5A3549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0127-EAE8-4F3E-8C06-AFBDB2E4F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48D3-0316-4906-BE00-47E98D74A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7284-7B06-4F13-A2F3-44B83934B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10E7-62A1-4EB5-87B8-E650BB22C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043A-2878-4509-AAA0-F7D6C90C0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67CA-522D-457F-AD5E-22491AB57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3F88-0F39-4712-BA9E-272C6372D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51B4-1CFC-4F73-BE7E-BC3B725EE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709C-CA8D-427E-9487-89800465F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F820-6D10-40A2-9346-63F801D61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79C0-01C0-4C9B-A62C-F6203203A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0546-955B-498B-AF60-8B2033A2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35BD-07AD-4543-9581-BE6971C4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33440" y="761760"/>
            <a:ext cx="82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O PHONETIC ALPHABET WORD FOR "P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019240" y="48769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WAS THE MOST COMMON WORD IN TITLES OF 1960'S POP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23920" y="762120"/>
            <a:ext cx="68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NNESOTA'S PRO HOCKEY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24000" y="762120"/>
            <a:ext cx="84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BRITISH SCI-FI TV SHOW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MMON LOGARITHM USES BASE 10.  WHAT LOGARITHM USES BASE 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36520" y="499428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M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19000" y="698400"/>
            <a:ext cx="750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TERM IS THE TITLE OF THESE 3 ALB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71520" y="286380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378240" y="259092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6041880" y="2863800"/>
            <a:ext cx="269244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114560" y="762120"/>
            <a:ext cx="6914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JON FAVREAU QUIT HIS JOB TO OPEN A FOOD TRUCK WITH HIS S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EEZY  &amp;  DOP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1028880"/>
            <a:ext cx="4305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OF THE 7 DWARF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572000" y="101124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07880" y="762120"/>
            <a:ext cx="8328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WAS THE MOST COMMON WORD IN TITLES OF 1960'S POP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895320" y="838080"/>
            <a:ext cx="73533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TRASH BA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O PHONETIC ALPHABET WORD FOR "P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MU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81120" y="761760"/>
            <a:ext cx="5981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NNESOTA'S PRO HOCKEY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24000" y="762120"/>
            <a:ext cx="8496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BRITISH SCI-FI TV SHOW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MMON LOGARITHM USES BASE 10.  WHAT LOGARITHM USES BASE 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TERM IS THE TITLE OF THESE 3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71520" y="286380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378240" y="259092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6041880" y="2863800"/>
            <a:ext cx="269244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14560" y="761760"/>
            <a:ext cx="6914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JON FAVREAU QUIT HIS JOB TO OPEN A FOOD TRUCK WITH HIS S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430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OF THE 7 DWARF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0" y="101124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TRASH BA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3-04T08:38:03Z</dcterms:modified>
  <cp:revision>408</cp:revision>
  <dc:subject/>
  <dc:title>Slide 1</dc:title>
</cp:coreProperties>
</file>