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D78F-4D16-4343-91AE-DB16D1784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1730-3412-445B-93CA-9A341B16B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B345-57FD-43D6-9DD8-B846609FD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E60E-7F2B-4F48-97A5-9B94E4A1B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CBE9-199D-4EC3-AA9D-B4801444C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6FCB-EE9A-46B3-9D0E-C15AC1E7C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7D61-7D5C-46C9-98C1-EE6B77989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8B0C-39B0-47A5-A7E2-98876594E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D561-6DC4-4A73-BFC6-8D91AC374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A8EC-6A8D-49C7-A85B-CD781885B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4C36-CA45-4E04-9019-D94626BE3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118C-3CD5-4823-AFF0-2586F837E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FB72-32D1-434F-931D-D6979956E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16E2-0702-4ED1-B826-6E2487A96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99B2-9E0A-46A9-91F3-193BE6221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D7AF-888D-4604-B1D7-FA2D73724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EE74-D9B9-42FC-AD42-F28E2B061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84C5-10B1-4CF4-AD1C-DD6DB4D97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A7CA-0BDB-449F-AAA3-953B4F38F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F8524-F6EB-47E7-96C0-99B505D92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C52A-A5C8-4E20-AC33-7677949F6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681C-7682-4B5B-B1B6-E41CB8A8C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3CC8-0863-48FD-ACCC-03A8289DA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3716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00120" y="762120"/>
            <a:ext cx="7943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FILM STARRED OWEN WILSON, JENNIFER ANISTON, AND 22 DIFFERENT YELLOW LABS PORTRAYING THE TITLE CHARAC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647640" y="4876920"/>
            <a:ext cx="784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E  VENTURA:  PET  DET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85880" y="762120"/>
            <a:ext cx="757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GOT HORRIBLE REVIEWS BUT LAUNCHED JIM CARREY'S CARE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  FAST  2  FUR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33400" y="762120"/>
            <a:ext cx="7477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EQUEL OF "THE FAST AND THE FURIOUS"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IRDC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19000" y="762120"/>
            <a:ext cx="7506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6 FILM DOES ROBIN WILLIAMS PLAY A GAY NIGHTCLUB OW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ME  LIKE  IT  H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9 FILMS STARS MARILYN MONROE, AND CROSS-DRESSING TONY CURTIS AND JACK LE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IPT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85640" y="762120"/>
            <a:ext cx="8172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FILM WAS DEMI MOORE PAID A THEN- UNPRECEDENTED $12.5 MILLION FOR A NUDE SCE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209520" y="4876920"/>
            <a:ext cx="8724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RE'S  SOMETHING  ABOUT  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66960" y="762120"/>
            <a:ext cx="7210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FILM CONTAINS THE MOST FAMOUS "HAIR GEL" SCENE IN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AR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47840" y="762120"/>
            <a:ext cx="8248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DOES AL PACINO SAY THE ICONIC LINE "SAY HELLO TO MY LITTLE FRIE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GOT HORRIBLE REVIEWS BUT LAUNCHED JIM CARREY'S CARE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676520" y="48769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ON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33480" y="762120"/>
            <a:ext cx="7277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FILM WITH AN ALL-BLACK CAST TO WIN THE OSCAR FOR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LEY  &amp; 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04720" y="762120"/>
            <a:ext cx="8134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FILM STARRED OWEN WILSON, JENNIFER ANISTON, AND 22 DIFFERENT YELLOW LABS PORTRAYING THE TITLE CHARAC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47640" y="4876920"/>
            <a:ext cx="7848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WERE  ALL  SET  IN  MIA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EQUEL OF "THE FAST AND THE FURIOUS"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19000" y="762120"/>
            <a:ext cx="7506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6 FILM DOES ROBIN WILLIAMS PLAY A GAY NIGHTCLUB OW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9 FILMS STARS MARILYN MONROE, AND CROSS-DRESSING TONY CURTIS AND JACK LE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42880" y="762120"/>
            <a:ext cx="8058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FILM WAS DEMI MOORE PAID A THEN- UNPRECEDENTED $12.5 MILLION FOR A NUDE SCE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FILM CONTAINS THE MOST FAMOUS "HAIR GEL" SCENE IN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DOES AL PACINO SAY THE ICONIC LINE "SAY HELLO TO MY LITTLE FRIE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FILM WITH AN ALL-BLACK CAST TO WIN THE OSCAR FOR BEST PIC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11:07:52Z</dcterms:created>
  <dc:creator>Jennifer Budzinski</dc:creator>
  <dc:description/>
  <dc:language>en-US</dc:language>
  <cp:lastModifiedBy>Erich Friedman</cp:lastModifiedBy>
  <dcterms:modified xsi:type="dcterms:W3CDTF">2022-03-06T10:57:18Z</dcterms:modified>
  <cp:revision>473</cp:revision>
  <dc:subject/>
  <dc:title>Slide 1</dc:title>
</cp:coreProperties>
</file>