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6C0-303A-4D03-8C09-2CCEBFB2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2F96-9A2D-4643-AB18-74AB8EC0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F3F-86C7-4439-8659-3FCD859E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8504-9B5F-4E4D-94A8-4BD606B6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ED1-39F1-49CF-9F3F-1AA911BE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993-B1BF-4634-BFEE-CE1D4562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79B-E64B-40B7-A635-FC8CD035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4D8-1D73-49CB-9148-D16BCB1A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50D-4272-4B8E-A498-5CAD7F44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7E57-070D-4120-84BE-FC624FF0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6A8-6E4B-4884-8044-9468D044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454-B822-44DD-8CD8-07B9ED18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C719-D361-4BC1-BDFA-0DE3E463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063-E1E4-40EF-AF2C-68314A74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35B-15FA-4A4C-84DB-1C16B3C4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131B-330C-41F2-ACCA-B0FC1DCC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01D-E2A6-46B4-B6A8-5F676829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492-63A6-4D99-A347-54401AD7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779-43A5-4F3C-AAFA-188A2FB78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189D-48EE-43E3-BF17-C519B0C6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7467-A626-4CB0-8BC0-01F79986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3439-273D-4E67-81D5-5F02D46B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590-7A77-4583-90EC-1AAF1E38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RED OWEN WILSON, JENNIFER ANISTON, AND 22 DIFFERENT YELLOW LABS PORTRAYING THE TITLE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  VENTURA:  PET  DE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GOT HORRIBLE REVIEWS BUT LAUNCHED JIM CARREY'S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 FAST  2  F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QUEL OF "THE FAST AND THE FURIOU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RD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GAY NIGHTCLUB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S STARS MARILYN MONROE, AND CROSS-DRESSING TONY CURTIS AND JACK LE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T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85640" y="7621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WAS DEMI MOORE PAID A THEN- UNPRECEDENTED $12.5 MILLION FOR A NUDE SC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09520" y="4876920"/>
            <a:ext cx="8724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'S  SOMETHING  ABOUT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6960" y="762120"/>
            <a:ext cx="721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CONTAINS THE MOST FAMOUS "HAIR GEL" SCENE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AL PACINO SAY THE ICONIC LINE "SAY HELLO TO MY LITTLE FRI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GOT HORRIBLE REVIEWS BUT LAUNCHED JIM CARREY'S CAR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RED OWEN WILSON, JENNIFER ANISTON, AND 22 DIFFERENT YELLOW LABS PORTRAYING THE TITLE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ALL  SET  IN  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QUEL OF "THE FAST AND THE FURIOU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19000" y="762120"/>
            <a:ext cx="750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GAY NIGHTCLUB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S STARS MARILYN MONROE, AND CROSS-DRESSING TONY CURTIS AND JACK LE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WAS DEMI MOORE PAID A THEN- UNPRECEDENTED $12.5 MILLION FOR A NUDE SCE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CONTAINS THE MOST FAMOUS "HAIR GEL" SCENE I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AL PACINO SAY THE ICONIC LINE "SAY HELLO TO MY LITTLE FRI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0:57:18Z</dcterms:modified>
  <cp:revision>473</cp:revision>
  <dc:subject/>
  <dc:title>Slide 1</dc:title>
</cp:coreProperties>
</file>