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40C7F-1197-4AF9-ABE7-F8E0F6A45F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843C3-2DE9-4B17-9F5F-0473E26D89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E45D3-27CC-415D-9270-B12BFBABC6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A1D01-72A5-4E14-B9DB-B6A7426C83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ECE50-1F4F-478C-B372-CAC3E47971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E5D12-80E6-4ECD-8097-8F83D6AF96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1059F-A99A-4267-A4F1-43DFA46229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14E1E-27AA-4495-ACE4-7CA9C9CF10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3F784-2ABD-4BF6-AD03-3467BD25E9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1B949-0AD9-4366-95B6-62854CDC25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CA3FE-038C-4D17-A478-FC07E4557A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959E5-E377-42A6-9E8D-75E35CE69B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533BB-0B54-4CC7-B789-60C03E4F7B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6E82D-BB56-4E2D-8902-6AA569B71D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26C0F-9657-41C3-B380-748695DD21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72379-ECE3-4C3F-BF19-3017C7A980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C7DDF-BFCC-4CFA-A80C-C0F07A1606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C7CED-9F11-4A0D-BF40-E37E628854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952DF-74C5-4229-A835-6EE8A7E7E6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E207B-8E9F-4178-B250-8A6930D776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36D81-7359-4D95-83FE-7BCF1B5041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6D866-7ABA-4ED6-A197-1CBBFB1A8A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76B01-E1EA-4413-9F36-01650F9E4C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371600" y="1371600"/>
            <a:ext cx="6400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600120" y="762120"/>
            <a:ext cx="79437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ONLY BOSTON RED SOX PITCHER TO BE IN THE 3000 STRIKEOUT CLUB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990720" y="4876920"/>
            <a:ext cx="71625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R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785880" y="762120"/>
            <a:ext cx="75722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EASURE OF WEIGHT IS 1/16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OF AN OUNC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1523880" y="4876920"/>
            <a:ext cx="60962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OU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833400" y="762120"/>
            <a:ext cx="74772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EASURE OF WEIGHT IS EQUAL TO 453.6 GRAM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380880" y="487692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WANZA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495360" y="762120"/>
            <a:ext cx="815328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HOLIDAY IS CELEBRATED FROM DEC 26 TO JAN 1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L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1143000" y="762120"/>
            <a:ext cx="6858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UNCTUATION MARK IS USED TO INTRODUCE A L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743040" y="762120"/>
            <a:ext cx="76579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AME OF A ROMAN SUN GOD AND A NORSE SUN GODDESS IS USED BY SCIENCE FICTION AUTHORS TO REFER TO OUR SU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1257480" y="4876920"/>
            <a:ext cx="6629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AYN)  R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1093680" y="762120"/>
            <a:ext cx="69566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AUTHOR OF "ATLAS SHRUGGE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104840" y="4876920"/>
            <a:ext cx="6934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E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285840" y="762120"/>
            <a:ext cx="85723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MATHEMATICS, THE COLLECTION OF IRRATIONAL  AND RATIONAL NUMBERS MAKE UP WHAT SORT OF NUMBE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723960" y="76212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EASURE OF WEIGHT IS 1/16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OF AN OUNC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1676520" y="4876920"/>
            <a:ext cx="57909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E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190440" y="762120"/>
            <a:ext cx="87631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ORLANDO, WHAT GARDENS ARE JUST 1 MILE SOUTH OF THE MEAD BOTANICAL GARDE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CURT)  SCHIL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504720" y="762120"/>
            <a:ext cx="81345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ONLY BOSTON RED SOX PITCHER TO BE IN THE 3000 STRIKEOUT CLUB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343080" y="4876920"/>
            <a:ext cx="8458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AMES  OF  WORLD  CURRENC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42720" y="76176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EASURE OF WEIGHT IS EQUAL TO 453.6 GRAM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495360" y="762120"/>
            <a:ext cx="81532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HOLIDAY IS CELEBRATED FROM DEC 26 TO JAN 1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1085760" y="762120"/>
            <a:ext cx="69724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UNCTUATION MARK IS USED TO INTRODUCE A LIS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704880" y="762120"/>
            <a:ext cx="77342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AME OF A ROMAN SUN GOD AND A NORSE SUN GODDESS IS USED BY SCIENCE FICTION AUTHORS TO REFER TO OUR SU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1066680" y="761760"/>
            <a:ext cx="70106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AUTHOR OF "ATLAS SHRUGGED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266760" y="762120"/>
            <a:ext cx="8610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MATHEMATICS, THE COLLECTION OF IRRATIONAL  AND RATIONAL NUMBERS MAKE UP WHAT SORT OF NUMBER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228600" y="7621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ORLANDO, WHAT GARDENS ARE JUST 1 MILE SOUTH OF THE MEAD BOTANICAL GARDE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0-15T11:07:52Z</dcterms:created>
  <dc:creator>Jennifer Budzinski</dc:creator>
  <dc:description/>
  <dc:language>en-US</dc:language>
  <cp:lastModifiedBy>Erich Friedman</cp:lastModifiedBy>
  <dcterms:modified xsi:type="dcterms:W3CDTF">2022-03-06T10:59:23Z</dcterms:modified>
  <cp:revision>472</cp:revision>
  <dc:subject/>
  <dc:title>Slide 1</dc:title>
</cp:coreProperties>
</file>