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9BCA-6230-4B05-AADB-653BA33A7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9392-1468-4C79-B421-1A3A044EA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B0F5-86FC-4C54-B665-FF586D060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0DF4-53EE-4B1F-89A7-31708C73E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A61C-CAA5-4A3C-B58F-E39073140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8936-1CD7-44AF-A22A-42761897B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4C0B-BA18-4B25-8AF3-3FA6FD050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3C2C-33C2-451F-B8FB-465AF83FE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D3A3-E197-4E8A-8B89-FD209C502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2146-17EB-4B5F-AA2E-26CB44A9C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FD14-E1F1-4C47-9BEF-18100E2C1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7EE8-6D2F-4C3B-9D44-FA89BA35D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D68B-BA9C-4836-986E-637546D75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3469-8047-4DBC-8914-64B8DBD11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971D-FD1B-4C7C-A690-EDA7199D1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221A-7E49-4189-A190-9EA744B62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CB2A-0799-4AD4-B46E-F8E1A4D93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3102-3177-449C-9FB8-4B6F541C6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6673-CEAD-47EB-A37D-11A98DD3C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4900-0F6B-4E1C-B7A2-E4130EC1E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6969-19E4-421C-9BAB-B3B50ECBD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A6C6-E12D-473D-BCB1-CB23981DA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FFBD-6909-4393-9398-F6A15EA18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71600" y="13716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00120" y="762120"/>
            <a:ext cx="7943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ONLY BOSTON RED SOX PITCHER TO BE IN THE 3000 STRIKEOUT CLU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85880" y="762120"/>
            <a:ext cx="757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ASURE OF WEIGHT IS 1/1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AN OU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33400" y="762120"/>
            <a:ext cx="7477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ASURE OF WEIGHT IS EQUAL TO 453.6 GRA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WANZA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95360" y="762120"/>
            <a:ext cx="81532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LIDAY IS CELEBRATED FROM DEC 26 TO JAN 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143000" y="76212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UNCTUATION MARK IS USED TO INTRODUCE A L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43040" y="762120"/>
            <a:ext cx="7657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OF A ROMAN SUN GOD AND A NORSE SUN GODDESS IS USED BY SCIENCE FICTION AUTHORS TO REFER TO OUR SU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YN)  R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093680" y="762120"/>
            <a:ext cx="6956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OF "ATLAS SHRUGG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85840" y="762120"/>
            <a:ext cx="8572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THEMATICS, THE COLLECTION OF IRRATIONAL  AND RATIONAL NUMBERS MAKE UP WHAT SORT OF NUMB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ASURE OF WEIGHT IS 1/1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AN OU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676520" y="4876920"/>
            <a:ext cx="5790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90440" y="762120"/>
            <a:ext cx="8763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ORLANDO, WHAT GARDENS ARE JUST 1 MILE SOUTH OF THE MEAD BOTANICAL GARD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CURT)  SCH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04720" y="762120"/>
            <a:ext cx="8134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ONLY BOSTON RED SOX PITCHER TO BE IN THE 3000 STRIKEOUT CLU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WORLD  CURREN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ASURE OF WEIGHT IS EQUAL TO 453.6 GRA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LIDAY IS CELEBRATED FROM DEC 26 TO JAN 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85760" y="762120"/>
            <a:ext cx="6972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UNCTUATION MARK IS USED TO INTRODUCE A LI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04880" y="762120"/>
            <a:ext cx="7734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OF A ROMAN SUN GOD AND A NORSE SUN GODDESS IS USED BY SCIENCE FICTION AUTHORS TO REFER TO OUR SU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OF "ATLAS SHRUGG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THEMATICS, THE COLLECTION OF IRRATIONAL  AND RATIONAL NUMBERS MAKE UP WHAT SORT OF NUMB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ORLANDO, WHAT GARDENS ARE JUST 1 MILE SOUTH OF THE MEAD BOTANICAL GARD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11:07:52Z</dcterms:created>
  <dc:creator>Jennifer Budzinski</dc:creator>
  <dc:description/>
  <dc:language>en-US</dc:language>
  <cp:lastModifiedBy>Erich Friedman</cp:lastModifiedBy>
  <dcterms:modified xsi:type="dcterms:W3CDTF">2022-03-06T10:59:23Z</dcterms:modified>
  <cp:revision>472</cp:revision>
  <dc:subject/>
  <dc:title>Slide 1</dc:title>
</cp:coreProperties>
</file>