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FC4B-EACB-4EB8-B19A-FC00048C2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1819-B754-4C3D-9533-658CA5E7B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C1BB-A7E4-4EE3-9D0B-517D73AE5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8715-BDAD-4F6D-BD94-57844F50B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73DB-F6EF-409E-9F8D-62A2D50B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777D-830F-4F5A-B5F6-50B3587BF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50D5-1C5C-4E80-A65C-2D3ECB59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39D9-83F6-4BFB-B222-09022C21D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866B-2CBC-4474-A887-F485D7AE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9E7E-F04C-4680-8F2A-94A1A0819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4E96-C014-47B6-AF73-8E365A9B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C40A-4D9C-411D-8722-4E092227A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278-8193-423E-9AA1-D4AA328B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F1C35-568B-4345-AF3C-FA9E2F4AF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30B5-32C3-4D49-91DC-748772BF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7FEE-ADF4-4A1D-A223-959388CC7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D44-F505-4D11-9D8E-09269090A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620-75DB-467A-A1FB-764D2885D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CA7-57BE-49AB-99A1-DB0A7AAA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79FC-8995-4B1C-9B28-60C47026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7988-3A9C-470C-B35C-D4C8A7ED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CCB-16FC-40CD-99C8-C714C1F80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1EF3-7A98-4D03-82A4-E3642954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#1 LADY GAGA SONG FEATURED BEYONCÉ BOTH ON LYRICS AND IN THE 9-MINUTE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ERGENCY ROOMS, WHAT BODY PART IS INJURED MOST OF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COLOR OF A PLURALITY OF 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57560" y="1981080"/>
            <a:ext cx="46288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9640" y="762120"/>
            <a:ext cx="7524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MERGENCY ROOMS, WHAT BODY PART IS INJURED MOST OF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4000" y="75708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CHESS" COMES FROM THE ARABIC WORD "SHĀH", MEANING "KING".  WHAT OTHER WORD IN CHESS HAS THE SAME ORI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#1 LADY GAGA SONG FEATURED BEYONCÉ BOTH ON LYRICS AND IN THE 9-MINUTE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O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VORITE COLOR OF A PLURALITY OF 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3360" y="762120"/>
            <a:ext cx="847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"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57560" y="2057400"/>
            <a:ext cx="4628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72 WOODY ALLEN FILM WHOSE TITLE MISQUOTES HUMPHREY BOGART IN "CASABLANCA" IS "____ IT AGAIN,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POPULAR DATING SITES, "PLENTY OF FISH" AND "TINDER", ARE OWNED BY WHAT SITE THAT RECENTLY DROPPED ".COM" FROM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CHESS" COMES FROM THE ARABIC WORD "SHĀH", MEANING "KING".  WHAT OTHER WORD IN CHESS HAS THE SAME ORIG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05-18T23:36:43Z</dcterms:modified>
  <cp:revision>456</cp:revision>
  <dc:subject/>
  <dc:title>Slide 1</dc:title>
</cp:coreProperties>
</file>