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C830-0445-4123-A705-22324B3EA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D03F-B826-422A-8488-ABF5FF82D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6FD6-1C7B-436A-913D-73A0239A0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87FD-9D56-4F19-BAAD-8BC1F9AB5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2DB1-1CCA-422B-AD1F-DB479D146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48E8-E370-4126-A7DB-CE0E5C25F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DB0D-717E-4FEE-A5FC-CA0E732C3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CB78-CD24-45AA-AD63-044BBC830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9B9C-A464-488D-8F1E-D9BD4B5C3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AC99-ED52-485D-9F45-EEEE790EE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5862-0EE3-4F7D-8A74-0B5854203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E9C1-1214-45A5-8D71-7EE145A6E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3223-E96B-4064-A4A6-45DAC144A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61E2-A63F-43AE-B3B4-B67F97F47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C831-1955-4672-A2B9-03478216E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9B39-4B10-40A4-8E33-F200F2113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53C5-E5B9-4136-9B8D-B28DA6303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DE94-C6DA-4C22-88AC-147D6191A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874C-B0CB-40EB-8F30-1D8973FEB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453F-0E01-4D0D-BF14-80D5FD930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B39D-D125-4D08-B951-F94928F8F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9662-1F65-43FB-B76A-C96EE9BD1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ED3B-26C2-4256-AF63-482CA7B36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#1 LADY GAGA SONG FEATURED BEYONCÉ BOTH ON LYRICS AND IN THE 9-MINUTE VIDE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38120" y="762120"/>
            <a:ext cx="8267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EMERGENCY ROOMS, WHAT BODY PART IS INJURED MOST OF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VORITE COLOR OF A PLURALITY OF 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61800" y="762120"/>
            <a:ext cx="842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"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UTTON ON A SCIENTIFIC CALCULATOR DOES ALMOST THE SAME THING AS THE "LN" BUT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257560" y="1981080"/>
            <a:ext cx="462888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53352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09640" y="762120"/>
            <a:ext cx="7524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72 WOODY ALLEN FILM WHOSE TITLE MISQUOTES HUMPHREY BOGART IN "CASABLANCA" IS "____ IT AGAIN, S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 MOST POPULAR DATING SITES, "PLENTY OF FISH" AND "TINDER", ARE OWNED BY WHAT SITE THAT RECENTLY DROPPED ".COM" FROM IT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EMERGENCY ROOMS, WHAT BODY PART IS INJURED MOST OFT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24000" y="757080"/>
            <a:ext cx="849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"CHESS" COMES FROM THE ARABIC WORD "SHĀH", MEANING "KING".  WHAT OTHER WORD IN CHESS HAS THE SAME ORIG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LE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#1 LADY GAGA SONG FEATURED BEYONCÉ BOTH ON LYRICS AND IN THE 9-MINUTE VIDE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647640" y="48769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BOO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6094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VORITE COLOR OF A PLURALITY OF 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33360" y="762120"/>
            <a:ext cx="8477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"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UTTON ON A SCIENTIFIC CALCULATOR DOES ALMOST THE SAME THING AS THE "LN" BUT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57560" y="2057400"/>
            <a:ext cx="46288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72 WOODY ALLEN FILM WHOSE TITLE MISQUOTES HUMPHREY BOGART IN "CASABLANCA" IS "____ IT AGAIN, S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 MOST POPULAR DATING SITES, "PLENTY OF FISH" AND "TINDER", ARE OWNED BY WHAT SITE THAT RECENTLY DROPPED ".COM" FROM ITS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"CHESS" COMES FROM THE ARABIC WORD "SHĀH", MEANING "KING".  WHAT OTHER WORD IN CHESS HAS THE SAME ORIG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6T23:26:21Z</dcterms:created>
  <dc:creator>Jennifer Budzinski</dc:creator>
  <dc:description/>
  <dc:language>en-US</dc:language>
  <cp:lastModifiedBy>Erich Friedman</cp:lastModifiedBy>
  <dcterms:modified xsi:type="dcterms:W3CDTF">2022-05-18T23:36:43Z</dcterms:modified>
  <cp:revision>456</cp:revision>
  <dc:subject/>
  <dc:title>Slide 1</dc:title>
</cp:coreProperties>
</file>