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1F99-897D-466D-AA5F-01A9F3806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39D5-5929-4C4C-9ADC-0D6E9EDC2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6CE3-4DBD-45A4-9821-592B140A3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B380-91AF-40A0-81D2-79EA3A35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B0C2-2E21-4A7D-9E56-FF14A9F7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2E2C-966D-433E-8970-A429E668B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5A87-399F-40E4-BA9C-16C92149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5D5F-13D0-4A56-B709-C6B97F09F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DB82-C666-4D63-88E0-CBEBF17DD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D91B-992F-474F-B35B-C4D81CDBF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B111-778B-45C7-88CF-7BDB9EF26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D3A-201E-4512-A1EB-48518753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31C0-B1CA-43A5-9E89-FB2541FA0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3E84-66BE-4B8C-AFDA-F474E229B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F24B-3598-4FB1-885F-559439A9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4A95-2964-4455-A54F-3A8E8681F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9A9-0AFA-4EF8-9CBB-861DB2D2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DD2F-52CB-449D-BE44-ECE5EEE5F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7BBD-7468-42E3-B678-33F2BF76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0468-7166-4FED-816A-FC903D260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B6E7-74D9-4B0E-8037-13025BB1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8D92-E8FB-4C84-974D-AD7BFC921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83B5-C7B7-4306-8280-EF5FE0939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600" y="9144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IR STATE MOTTO, "LIVE FREE OR DIE", ON THEIR LICENSE PL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TA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5880" y="762120"/>
            <a:ext cx="757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ERE A MAJORITY OF ITS RESIDENTS BELONG TO A SINGLE CHU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LARGEST PERCENTAGE OF AFRICAN-AMERICAN 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LARGEST PERCENTAGE OF ITS LAND CONTROLLED BY THE U.S. FOREST SERV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CONTAIN A MCDONALDS RESTAU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4320" y="762120"/>
            <a:ext cx="751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BORDERS ONLY ONE OTH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CE PRESIDENT MIKE PENCE USED TO BE GOVERNOR OF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ERE A MAJORITY OF ITS RESIDENTS BELONG TO A SINGLE CHUR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HAS AN ECONOMY LARGER THAN FRANCE OR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IR STATE MOTTO, "LIVE FREE OR DIE", ON THEIR LICENSE PL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86080" y="441972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TALLER  THAN  THEY  ARE  W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TA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LARGEST PERCENTAGE OF AFRICAN-AMERICAN RESID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LARGEST PERCENTAGE OF ITS LAND CONTROLLED BY THE U.S. FOREST SERV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CONTAIN A MCDONALDS RESTAU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BORDERS ONLY ONE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CE PRESIDENT MIKE PENCE USED TO BE GOVERNOR OF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HAS AN ECONOMY LARGER THAN FRANCE OR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6T11:05:39Z</dcterms:modified>
  <cp:revision>467</cp:revision>
  <dc:subject/>
  <dc:title>Slide 1</dc:title>
</cp:coreProperties>
</file>