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831E-37E1-45E5-ADC3-68D920A8D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C526-3EDA-402C-8776-7BF465236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3D31-3A24-4E60-8286-1D110CE9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B7F9-1B3C-4C97-9423-A9C97F882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DDA1-D906-4CB0-80AD-4DC88BF7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429-19BE-4AE1-9328-973213B7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E33-E0B9-4D03-A355-2DF014FF9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4BB-8E92-4D51-A360-C70D38C2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94D1-664D-4ABA-9399-8AC3F36E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1D5B-279B-4C99-A385-6BDA319A7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4EF1-F13C-43A2-8542-530FB92F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DAB1-32D9-4ABD-B798-5E3EA34E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B21-9496-40BC-9621-15095701F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0F69-48FC-46D7-910A-9CA4AA6E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AEAE-8CB5-466F-AE6F-F0FFB51B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836-94E6-4126-8B55-5C6DF335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C566-8696-4911-BB7D-2A443A74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550-96A4-4981-BF41-C593EE44F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F866-AB1D-422A-9399-6C2D9DA31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7D7A-281A-4E04-B35C-8D5EA6427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F706-4880-48CA-B061-51CC3CF0C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259D-CA68-4087-90A6-23AFF776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97EA-C0A4-4717-99D4-F2E25BDE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9144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IR STATE MOTTO, "LIVE FREE OR DIE", ON THEIR LICENSE PL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ERE A MAJORITY OF ITS RESIDENTS BELONG TO A SINGLE CHU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AFRICAN-AMERICAN 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ITS LAND CONTROLLED BY THE U.S. FOREST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CONTAIN A MCDONALDS RESTAU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BORDERS ONLY ONE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E PRESIDENT MIKE PENCE USED TO BE GOVERNOR OF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ERE A MAJORITY OF ITS RESIDENTS BELONG TO A SINGLE CHUR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AN ECONOMY LARGER THAN FRANCE OR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IR STATE MOTTO, "LIVE FREE OR DIE", ON THEIR LICENSE PL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41972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TALLER  THAN  THEY  ARE  W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AFRICAN-AMERICAN RESID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LARGEST PERCENTAGE OF ITS LAND CONTROLLED BY THE U.S. FOREST SERV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CONTAIN A MCDONALDS RESTAU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BORDERS ONLY ONE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E PRESIDENT MIKE PENCE USED TO BE GOVERNOR OF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AN ECONOMY LARGER THAN FRANCE OR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1:05:39Z</dcterms:modified>
  <cp:revision>467</cp:revision>
  <dc:subject/>
  <dc:title>Slide 1</dc:title>
</cp:coreProperties>
</file>