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975B-9018-4730-BF16-6C286CBF6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A35-EC2A-4896-B73C-D452F1978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311F-5629-4525-8533-AB7F31D49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3C9-C3BB-44B9-A8FF-CDEBF9AD7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D1C-D223-4872-8E2E-9F1B5FDF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F96F-DA05-46F7-A89F-04A879E78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194C-3B8D-45AD-BF92-3BCD7CB3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E439-000B-447F-BCB0-F9161C67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96EC-AE80-423E-8EF3-653634CF4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EFDF-A471-4AB2-BEFF-086D370C7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A624-0C06-4303-8A04-1478E8D4E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6B97-A32A-4F61-A8BE-4DFBF9E26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D02C-DA8D-4ECC-BBBA-A653F863D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A451-CCC2-4A79-9DF6-E3C89AF2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8845-A1E6-403A-AA3C-1C0FF5D4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686C-B6E7-4AFC-BD4F-7D89EED0C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9E8F-C727-4C55-B2DB-A4B089A1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6A3-AF78-41B8-BCCD-1E8A36948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9C7A-7D07-4F83-9920-FA65097A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AE71-9A6D-4151-B1A0-B82BDEF79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E20A-C8F7-4CF8-9396-5670AC72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B199A-CD1D-4230-B772-FBD568FC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743A-7322-4AE2-838E-3F8EE1C7F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BO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900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M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420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TTORNEY GENERAL OF FLORID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KAU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ICTURE OF DORIAN GRAY" AND "THE IMPORTANCE OF BEING EARN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THE  OFFI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GOMER PY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BA PLAYER TO AVERAGE MORE THAN 30 POINTS P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TO BE BOUND BY THE 2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, LIMITING HIM TO 2 TERMS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CHANCELLOR OF GERMANY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AMERICAN IDOL, AND HAS TOPPED THE COUNTRY, POP, AND DANC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GROWN UPS", "ZOOKEEPER", AND "PAUL BLART, MALL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ND PERFORMANCE ARTIST  PLAYED LATKA ON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9:47:12Z</dcterms:created>
  <dc:creator>Jennifer Budzinski</dc:creator>
  <dc:description/>
  <dc:language>en-US</dc:language>
  <cp:lastModifiedBy>Erich Friedman</cp:lastModifiedBy>
  <dcterms:modified xsi:type="dcterms:W3CDTF">2020-08-24T23:43:27Z</dcterms:modified>
  <cp:revision>394</cp:revision>
  <dc:subject/>
  <dc:title>Slide 1</dc:title>
</cp:coreProperties>
</file>