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7E59-1E85-4EE5-86F8-F92CA533C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AB76-C956-4D9E-9F40-0A71DC9DF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40B9-2EE5-4EB3-8C74-FC90583F3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6953-3DBB-4080-9097-0E02B19BF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1A96-65F1-4911-954F-8C76FA68C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6235-D4D6-45B2-AFC7-AAE4C8667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9248-76EE-4D58-9E49-F22B1DB78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3B73-BB14-417F-A6B2-DD23E8752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B209-9AE8-4B80-9CF5-BCC296D38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E188-5353-4D4E-8BA4-84C87718E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ADCA-A876-479C-B16C-87CEBDA7E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43FF-B3EF-49AA-AD06-DE11797E2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2199-E023-45A0-B62A-E74C5D913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8A68-296B-45EA-B0C5-583DBE440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33C0-E308-4492-AB72-E20DC9B8D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8B83-2467-4645-A446-E755AA756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698D-7B1F-4C76-B079-015503879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EF71-7DF7-4CAA-A626-C4D2860C4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B438-72B3-4C1B-A1DC-DB3610843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3AD8-80AA-4877-9ACB-694E4BB7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A0F2-AE22-4C08-B5E9-307D1712D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C396-65D8-4610-B548-0C238EE70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48B0-066A-4AA4-97AF-FE8BFA640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ICTURE OF DORIAN GRAY" AND "THE IMPORTANCE OF BEING EARNE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 BO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TTORNEY GENERAL OF FLORI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NAB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GOMER PY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6900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BA PLAYER TO AVERAGE MORE THAN 30 POINTS PER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IGHT  EISENH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TO BE BOUND BY THE 2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, LIMITING HIM TO 2 TERMS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A  MER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5420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CHANCELLOR OF GERMANY SINCE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AMERICAN IDOL, AND HAS TOPPED THE COUNTRY, POP, AND DANC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GROWN UPS", "ZOOKEEPER", AND "PAUL BLART, MALL C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TTORNEY GENERAL OF FLORID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KAU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ND PERFORMANCE ARTIST  PLAYED LATKA ON "TAX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SCAR  WIL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ICTURE OF DORIAN GRAY" AND "THE IMPORTANCE OF BEING EARN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3434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CHARACTERS  ON  "THE  OFFIC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GOMER PY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BA PLAYER TO AVERAGE MORE THAN 30 POINTS PER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TO BE BOUND BY THE 2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, LIMITING HIM TO 2 TERMS IN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CHANCELLOR OF GERMANY SINCE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AMERICAN IDOL, AND HAS TOPPED THE COUNTRY, POP, AND DANCE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GROWN UPS", "ZOOKEEPER", AND "PAUL BLART, MALL C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ND PERFORMANCE ARTIST  PLAYED LATKA ON "TAX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19:47:12Z</dcterms:created>
  <dc:creator>Jennifer Budzinski</dc:creator>
  <dc:description/>
  <dc:language>en-US</dc:language>
  <cp:lastModifiedBy>Erich Friedman</cp:lastModifiedBy>
  <dcterms:modified xsi:type="dcterms:W3CDTF">2020-08-24T23:43:27Z</dcterms:modified>
  <cp:revision>394</cp:revision>
  <dc:subject/>
  <dc:title>Slide 1</dc:title>
</cp:coreProperties>
</file>