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D4F6-7918-4C32-B640-DD129FE7C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796-35A6-4FAD-82A3-D2DF9905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AC3-C197-4D89-AF15-602F9DF7F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BF61-4452-4941-9BB1-FFDF0F858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6BF4-EBE2-4B52-B2A9-E0510AD5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C7DA-37AE-444A-B318-93DF2836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21AE-A560-4BFF-82D1-6AECE731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8A40-FC48-44DC-9E54-F5ACDA9C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8E34-434A-4161-9258-74129AA0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767-66C7-4029-9351-2A14EB31F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ADA-FC5A-4AA8-BDB7-4D1FAE4F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1DCC-8925-4823-A60F-1A8FF42C7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91A-3127-4222-8272-ABD67490F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D468-D4F0-43AF-864E-7FABE6267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53F-D406-4C2E-94DB-1A160631D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BE1-4312-487B-ABF6-CBA512F60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E557-13BB-48BD-93E1-F5C53A56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53B0-8BC1-4C18-8FA0-E81A7542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A96E-C072-4E78-96DE-C0DA860A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AE5-4509-4DB8-9216-2242EB44C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38E1-6D6F-4476-9458-87C57DC8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5928-E649-4583-9BBE-84DE59B9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F3E4-9570-4877-B33E-8A4E7678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ICTURE OF DORIAN GRAY" AND "THE IMPORTANCE OF BEING EARN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BO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TTORNEY GENERAL OF FLOR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GOMER PY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6900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BA PLAYER TO AVERAGE MORE THAN 30 POINTS P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EISEN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TO BE BOUND BY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, LIMITING HIM TO 2 TERMS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ME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420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CHANCELLOR OF GERMANY SINCE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AMERICAN IDOL, AND HAS TOPPED THE COUNTRY, POP, AND DANC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GROWN UPS", "ZOOKEEPER", AND "PAUL BLART, MALL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TTORNEY GENERAL OF FLORID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KAU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ND PERFORMANCE ARTIST  PLAYED LATKA ON "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 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ICTURE OF DORIAN GRAY" AND "THE IMPORTANCE OF BEING EARN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CHARACTERS  ON  "THE  OFFIC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GOMER PY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BA PLAYER TO AVERAGE MORE THAN 30 POINTS P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TO BE BOUND BY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, LIMITING HIM TO 2 TERMS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CHANCELLOR OF GERMANY SINCE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AMERICAN IDOL, AND HAS TOPPED THE COUNTRY, POP, AND DANC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GROWN UPS", "ZOOKEEPER", AND "PAUL BLART, MALL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ND PERFORMANCE ARTIST  PLAYED LATKA ON "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9:47:12Z</dcterms:created>
  <dc:creator>Jennifer Budzinski</dc:creator>
  <dc:description/>
  <dc:language>en-US</dc:language>
  <cp:lastModifiedBy>Erich Friedman</cp:lastModifiedBy>
  <dcterms:modified xsi:type="dcterms:W3CDTF">2020-08-24T23:43:27Z</dcterms:modified>
  <cp:revision>394</cp:revision>
  <dc:subject/>
  <dc:title>Slide 1</dc:title>
</cp:coreProperties>
</file>