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E553-3A6D-469C-99B0-1A70F7BBB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A6C5-FE88-4897-89AD-88C4936D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5330-D749-40F5-83A2-12065167B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2450-744B-4A9D-9DED-282AFB526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AFAA-893D-4F54-8474-F66ABC896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29DE-C686-4502-BB96-074CD5F28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284A-229E-488C-A8D5-31B36A66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8FF7-3D80-40FB-B55C-46DD7588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0A5C-C5D6-45EC-980D-AC82B26A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4114-ADC5-4A18-872A-91AFB33D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841-6373-4918-A928-BD040BB69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8C75-AFBF-488E-981E-EFBC69C72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9532-DEA2-4266-8787-CC3C06EEB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6404-72EF-40C7-8D9E-917696245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F8A3-9341-4CBA-BFC9-A8E17CEE0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9019-7396-45D5-988F-6B45B9589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B5A6-08B8-495A-AB64-C245DE27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3EF4-0E52-480D-9BE5-963FC7C2C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BD7F-13E8-44F4-B141-AAAF92AE0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D873-55AA-4166-BCDB-849F64F8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1B2A-CBB8-4C60-9CB7-DC8FD98B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5320-5053-485A-B8DE-1C0429A9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9904F-F213-4CED-AFC7-B1317AF12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70E-F8D8-4EAC-AF06-EAF1256DE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BEGINNING WITH "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RITISH SPY THAT IS JOHN LE CARRÉ'S MOST FAMOUS RECURRING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712800" y="762120"/>
            <a:ext cx="77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NEGREANU AND PHIL IVEY ARE FAMOUS FOR PLAYING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3560" y="762120"/>
            <a:ext cx="815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ANTAGONIST IN "THE LION K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52440" y="762120"/>
            <a:ext cx="8439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TICKING RHYTHM IN IT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HAYDN'S SYMPHONY NO. 101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MALAWI, JORDAN, AND KENY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IS THE BEST POSSIBLE HAND IF THE BOARD IS BEL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6948360" y="3341520"/>
            <a:ext cx="1090800" cy="1447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550960" y="334152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402444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548640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1065240" y="334152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738360" y="762120"/>
            <a:ext cx="766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E  (YOURSEL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509760" y="762120"/>
            <a:ext cx="81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THE EMINEM SONG T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P SONG TO WIN THE ACADEMY AWARD FOR BEST ORIGINA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BEGINNING WITH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EORGE)  SMI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28680" y="762120"/>
            <a:ext cx="848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RITISH SPY THAT IS JOHN LE CARRÉ'S MOST FAMOUS RECURRING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AC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2400" y="762120"/>
            <a:ext cx="7639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NIEL NEGREANU AND PHIL IVEY ARE FAMOUS FOR PLAYING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ANTAGONIST IN "THE LION K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90600" y="762120"/>
            <a:ext cx="836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THE TICKING RHYTHM IN IT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VEMENT, HAYDN'S SYMPHONY NO. 101 IS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MALAWI, JORDAN, AND KENY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EXAS HOLD'EM, WHAT IS THE BEST POSSIBLE HAND IF THE BOARD IS BEL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948360" y="3341520"/>
            <a:ext cx="109080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2550960" y="334152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402444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tretch/>
        </p:blipFill>
        <p:spPr>
          <a:xfrm>
            <a:off x="5486400" y="3352680"/>
            <a:ext cx="1089000" cy="144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5"/>
          <a:stretch/>
        </p:blipFill>
        <p:spPr>
          <a:xfrm>
            <a:off x="1065240" y="3341520"/>
            <a:ext cx="10890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RD OF THE TITLE OF THE EMINEM SONG T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AP SONG TO WIN THE ACADEMY AWARD FOR BEST ORIGINA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7T14:26:37Z</dcterms:modified>
  <cp:revision>481</cp:revision>
  <dc:subject/>
  <dc:title>Slide 1</dc:title>
</cp:coreProperties>
</file>