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A98F-AB52-44D4-96B7-D7D6E3E8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781-E69E-4569-AB83-CEB00663D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D05-F817-4C64-AE50-2E391EDE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C3CB-A7A0-4EE9-8104-842520E0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8E7A-EAEA-436D-834A-25976FDA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F3F-3B80-44CE-8827-EFFC9A93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1BB-58AC-4FD5-A0D7-6DBB9C21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9C7F-418A-4A3E-B14A-0127B2241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B6BD-4AF0-4241-A8BC-4408753A3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8488-5E40-4620-B434-F5539246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D10B-FADA-4296-99C7-6A293B3B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2EB2-B912-4267-97AA-F94BDF459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D509-F58D-490F-849B-F8CAF7A7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A1B-43D8-4A20-B415-52A6BC01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2726-1BC0-4340-B8EC-6892D2FB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6DCC-7144-44DE-B618-7DA3830D9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26B1-C517-45F9-BD81-FDFEF8A3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1741-1A97-455F-AD78-BBCFEF72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1D6A-E21E-4735-8EDE-B8AF1D5E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A195-B2EA-47C2-BA45-F8F5EF6A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89A0-D335-49EE-8CB8-AFE07563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4F5-B93D-48D8-9825-A6734AB2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AAD6-A2A6-48DC-9325-EA1E64810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E8B8-B228-4EEF-9933-721495B5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BEGINNING WITH "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RITISH SPY THAT IS JOHN LE CARRÉ'S MOST FAMOUS RECURRING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12800" y="762120"/>
            <a:ext cx="771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NEGREANU AND PHIL IVEY ARE FAMOUS FOR PLAYING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3560" y="762120"/>
            <a:ext cx="815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ANTAGONIST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2440" y="762120"/>
            <a:ext cx="8439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TICKING RHYTHM IN IT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HAYDN'S SYMPHONY NO. 101 IS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MALAWI, JORDAN, AND KENY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IS THE BEST POSSIBLE HAND IF THE BOARD IS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948360" y="3341520"/>
            <a:ext cx="10908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550960" y="334152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402444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548640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1065240" y="334152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738360" y="762120"/>
            <a:ext cx="76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E  (YOURSE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09760" y="762120"/>
            <a:ext cx="81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THE EMINEM SONG T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P SONG TO WIN THE ACADEMY AWARD FOR BEST ORIGINA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BEGINNING WITH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EORGE)  SMI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28680" y="762120"/>
            <a:ext cx="848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RITISH SPY THAT IS JOHN LE CARRÉ'S MOST FAMOUS RECURRING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A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2400" y="762120"/>
            <a:ext cx="763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NEGREANU AND PHIL IVEY ARE FAMOUS FOR PLAYING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ANTAGONIST IN "THE LION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90600" y="762120"/>
            <a:ext cx="83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TICKING RHYTHM IN IT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HAYDN'S SYMPHONY NO. 101 IS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MALAWI, JORDAN, AND KENY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IS THE BEST POSSIBLE HAND IF THE BOARD IS BE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948360" y="3341520"/>
            <a:ext cx="10908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2550960" y="334152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402444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548640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5"/>
          <a:stretch/>
        </p:blipFill>
        <p:spPr>
          <a:xfrm>
            <a:off x="1065240" y="334152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THE EMINEM SONG T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P SONG TO WIN THE ACADEMY AWARD FOR BEST ORIGINA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7T14:26:37Z</dcterms:modified>
  <cp:revision>481</cp:revision>
  <dc:subject/>
  <dc:title>Slide 1</dc:title>
</cp:coreProperties>
</file>