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07C-A779-4FF5-947E-48431279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4A61-753C-4924-A57C-327FB6A8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33E4-75A7-479B-A926-DE2FF4C6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192-19D1-407E-803D-2FA0F398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6CA-33D5-4140-AB26-2553F030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9FA-4E3C-4284-BB12-3D8FAC1A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3CA-42E1-45EB-9C8A-44620F18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09EC-02A3-4C62-A584-31B1C3FE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9118-5E14-49EA-A0E7-B595EAC54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DEF-A63B-47B2-856B-3A271481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FA5-1DAB-4E53-9A5D-04FFFDC6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425-07CA-4536-8800-7680752E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AF8-12E6-4B74-9A02-451927E7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17E-2540-4ECF-BC1D-42AD258F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EFB-E6C0-49C9-AF00-A9921328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5D8A-578A-43EE-9E1D-B67E72E7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811-D2E0-42CD-BB34-FAB83183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4375-AE46-471F-A504-2B806B73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495-BA77-4168-8F7E-B53E99AE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077-5011-49A4-8EC3-F5A0F337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47A3-0C70-45A7-A4C7-8A2A0938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6882-8E22-46FB-B902-C3BE703A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ED7-A449-4D2F-A0FD-A9124BA1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DVENTURE NOVEL WAS SUBTITLED "THE MUTINY OF THE HISPANIOLA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POPULAR TYPE OF WINDOW BLI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SALAD IS MADE WITH ROMAINE LETTUCE, WORCESTERSHIRE SAUCE, LEMON JUICE, EGG, OLIVE OIL, CROUTONS AND PEPP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ANIMATED FILM FEATURES A MACAW VISITING BRAZ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MPANY PRODUCED "BEN-HUR", "THE WIZARD OF OZ" AND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SMOPOL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IS MADE FROM VODKA, TRIPLE SEC AND CRANBERRY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A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YANMAR, AND THE NAME OF A FAMOUS RUDYARD KIPLING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SPECIES NAME COMES FROM THE SPANISH FOR "FLAME COLOR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POPULAR TYPE OF WINDOW BLI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ALIB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1280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KING ARTHUR'S S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SUR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DVENTURE NOVEL WAS SUBTITLED "THE MUTINY OF THE HISPANIOLA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LAS  VEGAS  CASINO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SALAD IS MADE WITH ROMAINE LETTUCE, WORCESTERSHIRE SAUCE, LEMON JUICE, EGG, OLIVE OIL, CROUTONS AND PEPP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ANIMATED FILM FEATURES A MACAW VISITING BRAZ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MPANY PRODUCED "BEN-HUR", "THE WIZARD OF OZ" AND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IS MADE FROM VODKA, TRIPLE SEC AND CRANBERRY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YANMAR, AND THE NAME OF A FAMOUS RUDYARD KIPLING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SPECIES NAME COMES FROM THE SPANISH FOR "FLAME COLOR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KING ARTHUR'S S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5-18T14:30:02Z</dcterms:modified>
  <cp:revision>396</cp:revision>
  <dc:subject/>
  <dc:title>Slide 1</dc:title>
</cp:coreProperties>
</file>