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A821-0FAF-4646-836C-098A51975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B112-788E-4F92-951C-9EBA2D3E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E96-5928-40AF-9ACA-FF91A77A9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25CF-C032-4A59-A79A-D9461E31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193C-2B60-4F88-986D-EFD09871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46D5-A28D-443B-B5CF-50C8DB14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27AE-637A-4265-8E67-936B49E2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0228-00B0-4539-8E62-4A56E8FF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25EB-E708-4ADE-90E7-762FD3074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1668-2250-4F7B-B14F-54D33745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F6D1-7926-4087-811C-1DE9EC9C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BD28-2337-41BB-AE73-68B4459BD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579F-9058-48C6-A988-96F5D8108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501F-86F7-4DB2-B1C7-FC33757D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3B22-B1A6-4B4C-A0B8-223CAEFC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C4AB-0FDA-4226-A03F-92852F7E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0C7D-5501-411B-9357-7A14D478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5B1F-CED3-4DC4-9211-F134F4F5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417B-F32E-4FCE-B6DB-F7ABD24A4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C55-C831-4197-B845-A3FDB115F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DFC9-27F8-40AE-95B4-E8CA357FF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CC35-319D-4D1A-BB3C-EB6F408F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6439-22F3-4BD6-A902-85A449421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DVENTURE NOVEL WAS SUBTITLED "THE MUTINY OF THE HISPANIOLA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POPULAR TYPE OF WINDOW BLI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SALAD IS MADE WITH ROMAINE LETTUCE, WORCESTERSHIRE SAUCE, LEMON JUICE, EGG, OLIVE OIL, CROUTONS AND PEPP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ANIMATED FILM FEATURES A MACAW VISITING BRAZ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MPANY PRODUCED "BEN-HUR", "THE WIZARD OF OZ" AND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SMOPOLI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IS MADE FROM VODKA, TRIPLE SEC AND CRANBERRY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A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YANMAR, AND THE NAME OF A FAMOUS RUDYARD KIPLING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SPECIES NAME COMES FROM THE SPANISH FOR "FLAME COLOR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POPULAR TYPE OF WINDOW BLI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ALIB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1280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KING ARTHUR'S S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SUR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DVENTURE NOVEL WAS SUBTITLED "THE MUTINY OF THE HISPANIOLA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LAS  VEGAS  CASINO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YPE OF SALAD IS MADE WITH ROMAINE LETTUCE, WORCESTERSHIRE SAUCE, LEMON JUICE, EGG, OLIVE OIL, CROUTONS AND PEPP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ANIMATED FILM FEATURES A MACAW VISITING BRAZ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MPANY PRODUCED "BEN-HUR", "THE WIZARD OF OZ" AND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IS MADE FROM VODKA, TRIPLE SEC AND CRANBERRY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MYANMAR, AND THE NAME OF A FAMOUS RUDYARD KIPLING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SPECIES NAME COMES FROM THE SPANISH FOR "FLAME COLOR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KING ARTHUR'S S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5-18T14:30:02Z</dcterms:modified>
  <cp:revision>396</cp:revision>
  <dc:subject/>
  <dc:title>Slide 1</dc:title>
</cp:coreProperties>
</file>