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8F7C-80AB-4F3E-A078-D711B682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5FE5-DF1C-4EFF-8C64-EFD51ECC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AAD1-B5FA-4DA9-A7FB-82ECEFBF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A434-3C35-4C7A-B3BF-3115CC8A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988B-C953-4C96-ADE8-1BD8421B0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B8C-94DF-40FF-929C-A3995791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FD2F-4CCD-416B-A7E4-E4A6655D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E348-CB48-41EE-AD2B-3C84AEDA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FFC6-3160-4CD3-9E90-05AFC055F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C10-602D-40EC-A38D-07386588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94C-EB1D-4674-AA36-06AF1879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8EEA-A0A0-42D6-BDAA-D261C1D3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C718-E0DC-403E-9697-5A988D98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3CF2-FD8F-4D9A-A41D-C6A51E556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8B27-EFD4-4386-BA52-95B441EEA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B84E-3602-4B31-8748-988181B6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0443-A49C-43C5-81A7-24AA713BE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F6AC-68D5-4A9E-9A20-92945886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992-60AC-4494-B17F-88B5D0BA0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D46E-4921-497B-90CB-D07E15E6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53D6-730A-4368-B76C-DC3CF64F8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16DF-74D5-4A47-99DF-F62D32ADF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F404-4792-4FA8-8F93-C59A04F7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5400" y="837720"/>
            <a:ext cx="895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5 FILM STARRED CAMERON DIAZ, COURTNEY B. VANCE, AND 3 OTHER LIBERAL GRAD STUDENTS WHO INVITE ULTRA-CONSERVATIVES TO DINNER TO MURDER THEM?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ASHINGTON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FAMOUS FOR FACE PAINT HAS A RECORD 30 GOLD ALBU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D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37960" y="762120"/>
            <a:ext cx="866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DON JOHNSON &amp; MELANIE GRIFFITH AS A COUPLE WHO BEFRIEND A CHILD PLAYED BY ELIJAH WOOD AFTER THEIR SON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D  BALL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BEST SHORT FILM" AT THE 1956 CANNES FILM FESTIVAL FEATURES A BOY WHO BEFRIENDS A SEEMINGLY SENTIENT FLOATING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WER  OF  B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52560" y="77472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 UNITED HUMANITY TRY TO BUILD TO REACH THE HEAVENS IN THE OLD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QUATION IS KNOWN AS THE WHAT EQU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44480" y="2666880"/>
            <a:ext cx="58550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ATIRICAL SLASHER FILM DIRECTED BY WES CRAVEN FEATURED THE VILLAIN "GHOSTF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ASHINGTON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GOT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BS HORROR SERIES HAD THE SAME NAME AS A 2016 CBS MYSTERY DRAMA SERIES, BOTH CANCELED AFTER 1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ST  SU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33200" y="762120"/>
            <a:ext cx="887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5 FILM STARRED CAMERON DIAZ, COURTNEY B. VANCE, AND 3 OTHER LIBERAL GRAD STUDENTS WHO INVITE ULTRA-CONSERVATIVES TO DINNER TO MURDER THEM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AMOUS  PAIN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FAMOUS FOR FACE PAINT HAS A RECORD 30 GOLD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4760" y="762120"/>
            <a:ext cx="893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DON JOHNSON &amp; MELANIE GRIFFITH AS A COUPLE WHO BEFRIEND A CHILD PLAYED BY ELIJAH WOOD AFTER THEIR SON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BEST SHORT FILM" AT THE 1956 CANNES FILM FESTIVAL FEATURES A BOY WHO BEFRIENDS A SEEMINGLY SENTIENT FLOATING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 UNITED HUMANITY TRY TO BUILD TO REACH THE HEAVENS IN THE OLD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QUATION IS KNOWN AS THE WHAT EQU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644480" y="2666880"/>
            <a:ext cx="58550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ATIRICAL SLASHER FILM DIRECTED BY WES CRAVEN FEATURED THE VILLAIN "GHOSTF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BS HORROR SERIES HAD THE SAME NAME AS A 2016 CBS MYSTERY DRAMA SERIES, BOTH CANCELED AFTER 1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7T14:42:44Z</dcterms:modified>
  <cp:revision>403</cp:revision>
  <dc:subject/>
  <dc:title>Slide 1</dc:title>
</cp:coreProperties>
</file>