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5713-FDCF-476D-ADEE-070D934D8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9434-8900-4C76-9E3A-E5A86E6F4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0026-426F-423E-AC3C-456F6367C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9D20-EDEE-4523-8148-9A6703176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010E-95C4-4897-AE6C-28ED088D7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B2FF-8D53-4513-9707-D1316F711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CAC2-5C60-4C58-8CAD-F7E75372E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053C-C425-4962-9EF8-FF28995DC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DE93-67BD-40B5-A128-6E11A5050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227F-42B8-4FBA-90C4-44FF6826D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DBA4-997D-4E45-AC55-EC144E07A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4B3D-ED11-48D0-B48A-EB48C0940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A60D-FA6D-42DB-A131-DD3050782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F850-CC27-4309-96D4-529ACFBBE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7C05-8D11-4113-A30D-87DEE0CAE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3D9B-3D56-4938-AD3E-694AB47D4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BDF3-6913-432F-925C-EA16470C7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F65E-E0CE-4CFA-937F-DAF9348A9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3959-1776-445A-A63D-DB51ABF41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373BE-EAE6-4F2F-B0BE-3A87402F2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BAA4-8EBE-40EA-BAEF-1D5C96090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9F53-4109-44AC-8820-696EFF0C4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606F5-8FD3-4E19-8BF0-7C7A13EFA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95400" y="837720"/>
            <a:ext cx="8953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1995 FILM STARRED CAMERON DIAZ, COURTNEY B. VANCE, AND 3 OTHER LIBERAL GRAD STUDENTS WHO INVITE ULTRA-CONSERVATIVES TO DINNER TO MURDER THEM?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LYMP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181160" y="762120"/>
            <a:ext cx="6781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WASHINGTON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CK BAND FAMOUS FOR FACE PAINT HAS A RECORD 30 GOLD ALBUM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RAD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237960" y="762120"/>
            <a:ext cx="8668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1 FILM STARRED DON JOHNSON &amp; MELANIE GRIFFITH AS A COUPLE WHO BEFRIEND A CHILD PLAYED BY ELIJAH WOOD AFTER THEIR SON DI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ED  BALL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BEST SHORT FILM" AT THE 1956 CANNES FILM FESTIVAL FEATURES A BOY WHO BEFRIENDS A SEEMINGLY SENTIENT FLOATING OBJE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OWER  OF  BAB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952560" y="774720"/>
            <a:ext cx="72388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A UNITED HUMANITY TRY TO BUILD TO REACH THE HEAVENS IN THE OLD TESTA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009800" y="762120"/>
            <a:ext cx="7124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S EQUATION IS KNOWN AS THE WHAT EQU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644480" y="2666880"/>
            <a:ext cx="585504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R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6 SATIRICAL SLASHER FILM DIRECTED BY WES CRAVEN FEATURED THE VILLAIN "GHOSTFA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00240" y="762120"/>
            <a:ext cx="6743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WASHINGTON 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ERICAN  GOTH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95360" y="762120"/>
            <a:ext cx="8153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5 CBS HORROR SERIES HAD THE SAME NAME AS A 2016 CBS MYSTERY DRAMA SERIES, BOTH CANCELED AFTER 1 SEA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LAST  SUP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33200" y="762120"/>
            <a:ext cx="8877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1995 FILM STARRED CAMERON DIAZ, COURTNEY B. VANCE, AND 3 OTHER LIBERAL GRAD STUDENTS WHO INVITE ULTRA-CONSERVATIVES TO DINNER TO MURDER THEM?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FAMOUS  PAINT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CK BAND FAMOUS FOR FACE PAINT HAS A RECORD 30 GOLD ALBU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4760" y="762120"/>
            <a:ext cx="8934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1 FILM STARRED DON JOHNSON &amp; MELANIE GRIFFITH AS A COUPLE WHO BEFRIEND A CHILD PLAYED BY ELIJAH WOOD AFTER THEIR SON DI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66760" y="7621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BEST SHORT FILM" AT THE 1956 CANNES FILM FESTIVAL FEATURES A BOY WHO BEFRIENDS A SEEMINGLY SENTIENT FLOATING OBJEC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A UNITED HUMANITY TRY TO BUILD TO REACH THE HEAVENS IN THE OLD TESTA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71640" y="761760"/>
            <a:ext cx="7200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S EQUATION IS KNOWN AS THE WHAT EQU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644480" y="2666880"/>
            <a:ext cx="585504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09560" y="761760"/>
            <a:ext cx="7724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6 SATIRICAL SLASHER FILM DIRECTED BY WES CRAVEN FEATURED THE VILLAIN "GHOSTFA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5 CBS HORROR SERIES HAD THE SAME NAME AS A 2016 CBS MYSTERY DRAMA SERIES, BOTH CANCELED AFTER 1 SEA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1T18:24:11Z</dcterms:created>
  <dc:creator>Jennifer Budzinski</dc:creator>
  <dc:description/>
  <dc:language>en-US</dc:language>
  <cp:lastModifiedBy>Erich Friedman</cp:lastModifiedBy>
  <dcterms:modified xsi:type="dcterms:W3CDTF">2022-03-07T14:42:44Z</dcterms:modified>
  <cp:revision>403</cp:revision>
  <dc:subject/>
  <dc:title>Slide 1</dc:title>
</cp:coreProperties>
</file>