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AF6-75BB-4531-AD77-C1826984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281-2353-468C-8E30-FA7BDCEE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EA87-763E-4599-8CD3-677D17D8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D48-DD24-459F-B35B-817AB80A4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DAA-2516-4764-B197-2F94FDBA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01B6-3AA7-478F-8530-5F2C509E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549-99C9-4087-A779-832833F4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95B-EC04-4F5C-BCCF-8640ACB7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709-7514-48C2-B02E-DA8957C5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D8B-1264-430E-A1EF-346EA960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A6B-CF12-4980-958C-69C812BA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741-9572-4FF8-9DFE-40F8286A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7F74-E015-45DC-A05B-42629DC0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751-0293-47D1-892C-BCC4063B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05A-EB6E-4428-AAB9-D1308BCB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876-CE47-4CFC-ACAC-1780E31A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F919-47E9-4A48-A8E6-A21666E0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10E-EAC5-43DB-8DA4-3EA1AC4A9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B5A-DCFB-421E-A17F-DF283189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3436-F0BB-4974-8535-1ABA24AA9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75C-1242-401D-9307-A9D063AD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5005-A6BC-4F52-898D-004E5181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075-BEAD-4BCE-97DF-380F723A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5796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305400" y="446040"/>
            <a:ext cx="236232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3840" y="762120"/>
            <a:ext cx="8356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ISTIC HIT SONG BY U2 DESCRIBES THE KILLING OF UNARMED PROTESTERS IN NORTHERN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07960" y="762120"/>
            <a:ext cx="632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IRTHDAY, OCT 2, IS CELEBRATED AS "INTERNATIONAL DAY   OF NON-VIOL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62080" y="762120"/>
            <a:ext cx="6819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DID WILLIAM BLIGH CAPTAIN BEFORE A MUTINY IN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S  AND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WERE THE FIRST CONFEDERATE FLAG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6240" y="4879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OF  THE  MOH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85760" y="746280"/>
            <a:ext cx="87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LY ACCEPTED AS JAMES FENIMORE COOPER'S MASTERWORK, DESPITE BEING MOCKED BY MARK TW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81200" y="4876920"/>
            <a:ext cx="758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NAME  OF  THE 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HRASE IN THE "TRINITARIAN FORM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BEGINS WITH THE LYRICS "I AM JUST A POOR BOY THOUGH MY STORY'S SELDOM T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ISTIC HIT SONG BY U2 DESCRIBES THE KILLING OF UNARMED PROTESTERS    IN NORTHERN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IRCLES OF HELL ARE THERE IN DANTE'S "DIVINE COME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38560" y="4876920"/>
            <a:ext cx="2666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914400"/>
            <a:ext cx="5743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305400" y="446040"/>
            <a:ext cx="2362320" cy="492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733400" y="4343400"/>
            <a:ext cx="567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ANIEL  DAY–LEWI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95480" y="761760"/>
            <a:ext cx="69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IRTHDAY, OCT 2, IS CELEBRATED AS "INTERNATIONAL DAY   OF NON-VIOL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DID WILLIAM BLIGH CAPTAIN BEFORE A MUTINY IN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7960" y="762120"/>
            <a:ext cx="74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WERE THE FIRST CONFEDERATE FLAG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5120" y="762120"/>
            <a:ext cx="8753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LY ACCEPTED AS JAMES FENIMORE COOPER'S MASTERWORK, DESPITE BEING MOCKED BY MARK TW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HRASE IN THE "TRINITARIAN FORM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BEGINS WITH THE LYRICS "I AM JUST A POOR BOY THOUGH MY STORY'S SELDOM T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IRCLES OF HELL ARE THERE IN DANTE'S "DIVINE COME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7T14:46:55Z</dcterms:modified>
  <cp:revision>480</cp:revision>
  <dc:subject/>
  <dc:title>Slide 1</dc:title>
</cp:coreProperties>
</file>