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095C-6182-4DA9-8532-7DAE2D494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618D-E961-44A5-8397-EB177B317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5F5C-B5DB-4AAB-B57A-C3F2E6191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7F88-0890-46C1-9E92-3F51DDA98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11FE-5005-4368-B544-63EDF1505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E6C3-24AB-482E-ABFD-E30F39CA2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900B-222B-40D5-AE0E-D3A1C1762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285C-A453-4AEA-887D-60FA1AF5C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E11E-BF7F-4606-8901-D5B09B5BE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431B-06BE-4E7F-9C57-72EE430D8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F7AA-1182-40DD-AA65-4FB9E7E41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2172-FE99-4DDB-86BB-6CC441A51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FA13-34C5-4BDE-AC2B-865CC5DAD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3156-38A5-4288-9F84-50A9ABF39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9305-BFEC-484C-8B98-D0ECCAD91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7B6A-0435-4FCC-83B4-AD1AF9769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A943-C4F3-4A10-AA3D-E744099E8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C94C-DD17-4271-A9B8-C66FD1B4D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2B9F-E75D-4D0F-A581-6BA2EC897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0367-A8FF-428A-A07B-611B3E920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3033-C72F-4D1E-8447-D8FF184EB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C6BE-08F4-4FBF-91F5-22CEF38B1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89BE-B919-4022-ABA2-B4B1ECFDA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71600" y="13716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5796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 COMPANY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305400" y="446040"/>
            <a:ext cx="2362320" cy="492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              (BE SPECIFIC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93840" y="762120"/>
            <a:ext cx="8356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LITARISTIC HIT SONG BY U2 DESCRIBES THE KILLING OF UNARMED PROTESTERS IN NORTHERN IRE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ND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407960" y="762120"/>
            <a:ext cx="6328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BIRTHDAY, OCT 2, IS CELEBRATED AS "INTERNATIONAL DAY   OF NON-VIOLEN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OU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162080" y="762120"/>
            <a:ext cx="6819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IP DID WILLIAM BLIGH CAPTAIN BEFORE A MUTINY IN 178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S  AND  ST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123920" y="762120"/>
            <a:ext cx="6896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NAME WERE THE FIRST CONFEDERATE FLAGS KN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876240" y="4879800"/>
            <a:ext cx="7391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AST  OF  THE  MOHIC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85760" y="746280"/>
            <a:ext cx="8772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GENERALLY ACCEPTED AS JAMES FENIMORE COOPER'S MASTERWORK, DESPITE BEING MOCKED BY MARK TW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781200" y="4876920"/>
            <a:ext cx="758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  THE  NAME  OF  THE  FA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476280" y="762120"/>
            <a:ext cx="8191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PHRASE IN THE "TRINITARIAN FORMUL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OX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42960" y="762120"/>
            <a:ext cx="7858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MON &amp; GARFUNKEL SONG BEGINS WITH THE LYRICS "I AM JUST A POOR BOY THOUGH MY STORY'S SELDOM TO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52440" y="762120"/>
            <a:ext cx="8439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LITARISTIC HIT SONG BY U2 DESCRIBES THE KILLING OF UNARMED PROTESTERS    IN NORTHERN IRE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676520" y="48769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704880" y="762120"/>
            <a:ext cx="7734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IRCLES OF HELL ARE THERE IN DANTE'S "DIVINE COMED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238560" y="4876920"/>
            <a:ext cx="26668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COL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228600" y="914400"/>
            <a:ext cx="57434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 COMPANY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6305400" y="446040"/>
            <a:ext cx="2362320" cy="492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733400" y="4343400"/>
            <a:ext cx="567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DANIEL  DAY–LEWIS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495360" y="76212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              (BE SPECIFIC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95480" y="761760"/>
            <a:ext cx="6953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BIRTHDAY, OCT 2, IS CELEBRATED AS "INTERNATIONAL DAY   OF NON-VIOLEN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123920" y="762120"/>
            <a:ext cx="6896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IP DID WILLIAM BLIGH CAPTAIN BEFORE A MUTINY IN 178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67960" y="762120"/>
            <a:ext cx="7405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NAME WERE THE FIRST CONFEDERATE FLAGS KN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95120" y="762120"/>
            <a:ext cx="8753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GENERALLY ACCEPTED AS JAMES FENIMORE COOPER'S MASTERWORK, DESPITE BEING MOCKED BY MARK TW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38120" y="761760"/>
            <a:ext cx="8267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PHRASE IN THE "TRINITARIAN FORMUL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04960" y="762120"/>
            <a:ext cx="753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MON &amp; GARFUNKEL SONG BEGINS WITH THE LYRICS "I AM JUST A POOR BOY THOUGH MY STORY'S SELDOM TO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IRCLES OF HELL ARE THERE IN DANTE'S "DIVINE COMED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11:07:52Z</dcterms:created>
  <dc:creator>Jennifer Budzinski</dc:creator>
  <dc:description/>
  <dc:language>en-US</dc:language>
  <cp:lastModifiedBy>Erich Friedman</cp:lastModifiedBy>
  <dcterms:modified xsi:type="dcterms:W3CDTF">2022-03-07T14:46:55Z</dcterms:modified>
  <cp:revision>480</cp:revision>
  <dc:subject/>
  <dc:title>Slide 1</dc:title>
</cp:coreProperties>
</file>